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27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43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85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3D3-5D69-4F59-A847-0A1273FC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72FF-68C4-49C9-9FC0-4ADBF1D1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CFEB-B86D-435C-BE9C-9F080B1A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977-9534-4449-8778-5213369B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7968-BA4B-49F8-81B8-DE3628E4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466-E3FE-40AC-B298-816E81F0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97E9-283D-460B-889D-C434F9CB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D38-C3B1-49C5-9404-5F212154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5A6-74C5-4EA5-A202-8D5D86BF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FB8-9673-43FB-9F98-63751595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4F2-B099-496C-A995-959066DC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94F-64C3-4C23-8407-F7B4C93A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d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DA8A-9C73-40E4-B32A-6461F5581E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http://ru.wikipedia.org/wiki/&#1060;&#1072;&#1081;&#1083;:Hordeum-barley.jpg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ru.wikipedia.org/wiki/&#1060;&#1072;&#1081;&#1083;:Rispenhirse_gr&#252;n.jpg" TargetMode="External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_sunflower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5/5e/L&#233;gumes_01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ru.wikipedia.org/wiki/&#1060;&#1072;&#1081;&#1083;:Watermelons1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lesnyk.ru/photo/plodovij-sad/big/8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3/37/Floriculture.jpg" TargetMode="External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Какое растение корнями не прикрепляется ко дну водо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рог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я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кувш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У какого растения листья плавают на поверхности водо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у стрело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у водорос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у кубы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971640" y="333360"/>
            <a:ext cx="720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Зернов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2700360" y="160668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1863720" cy="2447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1116000" y="429264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вё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716360" y="170028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пшениц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1585990"/>
          <p:cNvPicPr/>
          <p:nvPr/>
        </p:nvPicPr>
        <p:blipFill>
          <a:blip r:embed="rId3"/>
          <a:stretch/>
        </p:blipFill>
        <p:spPr>
          <a:xfrm>
            <a:off x="2784600" y="4221000"/>
            <a:ext cx="3516120" cy="244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5"/>
          <p:cNvSpPr/>
          <p:nvPr/>
        </p:nvSpPr>
        <p:spPr>
          <a:xfrm>
            <a:off x="5076720" y="422100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ж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7" descr="Hordeum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1197000"/>
            <a:ext cx="2016000" cy="2736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8"/>
          <p:cNvSpPr/>
          <p:nvPr/>
        </p:nvSpPr>
        <p:spPr>
          <a:xfrm>
            <a:off x="900000" y="126828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ячмен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0" descr="Просо обыкновенное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1268280"/>
            <a:ext cx="2089080" cy="273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1"/>
          <p:cNvSpPr/>
          <p:nvPr/>
        </p:nvSpPr>
        <p:spPr>
          <a:xfrm>
            <a:off x="7597800" y="134928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ос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3" descr="236_2350"/>
          <p:cNvPicPr/>
          <p:nvPr/>
        </p:nvPicPr>
        <p:blipFill>
          <a:blip r:embed="rId8"/>
          <a:stretch/>
        </p:blipFill>
        <p:spPr>
          <a:xfrm>
            <a:off x="6775560" y="4221000"/>
            <a:ext cx="1900080" cy="244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4"/>
          <p:cNvSpPr/>
          <p:nvPr/>
        </p:nvSpPr>
        <p:spPr>
          <a:xfrm>
            <a:off x="7380360" y="423072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речих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6"/>
          <p:cNvSpPr txBox="1"/>
          <p:nvPr/>
        </p:nvSpPr>
        <p:spPr>
          <a:xfrm>
            <a:off x="971640" y="189000"/>
            <a:ext cx="72007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Масличн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75" name="Picture 8" descr="Helianthus annu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052640"/>
            <a:ext cx="2325600" cy="309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image_2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3424320" y="1268280"/>
            <a:ext cx="2371680" cy="2881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susan"/>
          <p:cNvPicPr/>
          <p:nvPr/>
        </p:nvPicPr>
        <p:blipFill>
          <a:blip r:embed="rId4"/>
          <a:stretch/>
        </p:blipFill>
        <p:spPr>
          <a:xfrm>
            <a:off x="6519960" y="1052640"/>
            <a:ext cx="2373120" cy="309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001c4z4z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50920" y="4292640"/>
            <a:ext cx="2881080" cy="23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tmin09"/>
          <p:cNvPicPr/>
          <p:nvPr/>
        </p:nvPicPr>
        <p:blipFill>
          <a:blip r:embed="rId6"/>
          <a:stretch/>
        </p:blipFill>
        <p:spPr>
          <a:xfrm>
            <a:off x="3203640" y="4292640"/>
            <a:ext cx="2736720" cy="2371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mjata_03"/>
          <p:cNvPicPr/>
          <p:nvPr/>
        </p:nvPicPr>
        <p:blipFill>
          <a:blip r:embed="rId7">
            <a:lum bright="-12000"/>
          </a:blip>
          <a:stretch/>
        </p:blipFill>
        <p:spPr>
          <a:xfrm>
            <a:off x="6012000" y="4292640"/>
            <a:ext cx="2881080" cy="2376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9"/>
          <p:cNvSpPr/>
          <p:nvPr/>
        </p:nvSpPr>
        <p:spPr>
          <a:xfrm>
            <a:off x="2700360" y="952560"/>
            <a:ext cx="38088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дсолнечн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6062760" y="1855800"/>
            <a:ext cx="38088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унжу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3995640" y="91764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орчиц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1763640" y="624672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арахи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2987640" y="631836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м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7791480" y="430200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мя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2195640" y="260280"/>
            <a:ext cx="475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воще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50920" y="11966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ощеводство — это отрасль сельского хозяйства, которая занимается производством овощей для потребления в свежем и переработанном виде, а также для перерабатывающей промышлен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Файл:Légumes 01.jpg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250920" y="2617920"/>
            <a:ext cx="4176720" cy="3403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400px-Watermelons1">
            <a:hlinkClick r:id="rId3"/>
          </p:cNvPr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4788000" y="2637000"/>
            <a:ext cx="409896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томат"/>
          <p:cNvPicPr/>
          <p:nvPr/>
        </p:nvPicPr>
        <p:blipFill>
          <a:blip r:embed="rId1"/>
          <a:stretch/>
        </p:blipFill>
        <p:spPr>
          <a:xfrm>
            <a:off x="250920" y="1125360"/>
            <a:ext cx="2017440" cy="230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МОРКОВЬ"/>
          <p:cNvPicPr/>
          <p:nvPr/>
        </p:nvPicPr>
        <p:blipFill>
          <a:blip r:embed="rId2"/>
          <a:stretch/>
        </p:blipFill>
        <p:spPr>
          <a:xfrm>
            <a:off x="4716360" y="1125360"/>
            <a:ext cx="2016360" cy="230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ОГУРЕЦ"/>
          <p:cNvPicPr/>
          <p:nvPr/>
        </p:nvPicPr>
        <p:blipFill>
          <a:blip r:embed="rId3"/>
          <a:stretch/>
        </p:blipFill>
        <p:spPr>
          <a:xfrm>
            <a:off x="6877080" y="1125360"/>
            <a:ext cx="2016000" cy="2330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КАПУСТА"/>
          <p:cNvPicPr/>
          <p:nvPr/>
        </p:nvPicPr>
        <p:blipFill>
          <a:blip r:embed="rId4"/>
          <a:stretch/>
        </p:blipFill>
        <p:spPr>
          <a:xfrm>
            <a:off x="250920" y="4005360"/>
            <a:ext cx="2017440" cy="230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ЛУК (растение)"/>
          <p:cNvPicPr/>
          <p:nvPr/>
        </p:nvPicPr>
        <p:blipFill>
          <a:blip r:embed="rId5"/>
          <a:stretch/>
        </p:blipFill>
        <p:spPr>
          <a:xfrm>
            <a:off x="2411280" y="4005360"/>
            <a:ext cx="2089440" cy="2305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свекла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6805440" y="4005360"/>
            <a:ext cx="2087640" cy="230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РЕДИС"/>
          <p:cNvPicPr/>
          <p:nvPr/>
        </p:nvPicPr>
        <p:blipFill>
          <a:blip r:embed="rId7"/>
          <a:stretch/>
        </p:blipFill>
        <p:spPr>
          <a:xfrm>
            <a:off x="2411280" y="1125360"/>
            <a:ext cx="2017800" cy="2303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ЧЕСНОК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4643280" y="4003560"/>
            <a:ext cx="2087640" cy="2305080"/>
          </a:xfrm>
          <a:prstGeom prst="rect">
            <a:avLst/>
          </a:prstGeom>
          <a:ln w="0">
            <a:noFill/>
          </a:ln>
        </p:spPr>
      </p:pic>
      <p:sp>
        <p:nvSpPr>
          <p:cNvPr id="99" name="WordArt 11"/>
          <p:cNvSpPr txBox="1"/>
          <p:nvPr/>
        </p:nvSpPr>
        <p:spPr>
          <a:xfrm>
            <a:off x="3059280" y="26028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вощ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971640" y="260280"/>
            <a:ext cx="72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Бахчев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01" name="Picture 7" descr="linoliu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5640" y="1268280"/>
            <a:ext cx="3241800" cy="266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5435640" y="1251000"/>
            <a:ext cx="3024000" cy="268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photo_075e5a89e9ffa5094662a2e131a0d7ee4e1c4fa9bc8b2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413080" y="4149720"/>
            <a:ext cx="431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971640" y="404640"/>
            <a:ext cx="720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адоводство (плодоводство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50920" y="1267560"/>
            <a:ext cx="8642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адово́дств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— отрасль растениеводства, занимающаяся: возделыванием многолетних плодовых или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ягодных культур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лодоводств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101413-apple-orchard-2-0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0920" y="2708280"/>
            <a:ext cx="4105080" cy="3624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Картинка 34 из 78096">
            <a:hlinkClick r:id="rId2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572000" y="2708280"/>
            <a:ext cx="432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971640" y="260280"/>
            <a:ext cx="72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Плодов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09" name="Picture 6" descr="0_2054f_96ff16a0_XL"/>
          <p:cNvPicPr/>
          <p:nvPr/>
        </p:nvPicPr>
        <p:blipFill>
          <a:blip r:embed="rId1"/>
          <a:stretch/>
        </p:blipFill>
        <p:spPr>
          <a:xfrm>
            <a:off x="250920" y="1268280"/>
            <a:ext cx="2665440" cy="244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3"/>
          <p:cNvPicPr/>
          <p:nvPr/>
        </p:nvPicPr>
        <p:blipFill>
          <a:blip r:embed="rId2"/>
          <a:stretch/>
        </p:blipFill>
        <p:spPr>
          <a:xfrm>
            <a:off x="6227640" y="1268280"/>
            <a:ext cx="2616480" cy="2521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4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50920" y="4076640"/>
            <a:ext cx="2665440" cy="245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0_5bdd_cb26e4d6_XL"/>
          <p:cNvPicPr/>
          <p:nvPr/>
        </p:nvPicPr>
        <p:blipFill>
          <a:blip r:embed="rId4"/>
          <a:stretch/>
        </p:blipFill>
        <p:spPr>
          <a:xfrm>
            <a:off x="3203640" y="4076640"/>
            <a:ext cx="2662200" cy="245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120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6227640" y="4064040"/>
            <a:ext cx="2665440" cy="24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0_2872a_911a0fde_XL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3203640" y="1268280"/>
            <a:ext cx="2795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258920" y="260280"/>
            <a:ext cx="655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Ягодн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16" name="Picture 6" descr="68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0920" y="1268280"/>
            <a:ext cx="2665440" cy="237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12739839494970"/>
          <p:cNvPicPr/>
          <p:nvPr/>
        </p:nvPicPr>
        <p:blipFill>
          <a:blip r:embed="rId2"/>
          <a:stretch/>
        </p:blipFill>
        <p:spPr>
          <a:xfrm>
            <a:off x="3203640" y="1268280"/>
            <a:ext cx="2647800" cy="23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e21b45fbcff9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181560" y="1268280"/>
            <a:ext cx="2711520" cy="2351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Skromnica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50920" y="3789360"/>
            <a:ext cx="2665440" cy="25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172_0"/>
          <p:cNvPicPr/>
          <p:nvPr/>
        </p:nvPicPr>
        <p:blipFill>
          <a:blip r:embed="rId5"/>
          <a:stretch/>
        </p:blipFill>
        <p:spPr>
          <a:xfrm>
            <a:off x="6156360" y="3716280"/>
            <a:ext cx="2705040" cy="25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60217409_1276339591_Zemlyanika20C141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3203640" y="3789360"/>
            <a:ext cx="2663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692360" y="260280"/>
            <a:ext cx="5759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Цвето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1196640"/>
            <a:ext cx="8136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Цветово́дств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— отрасль растениеводства, занимающаяся селекцией и выращиванием красивоцветущих и других растений в декоративных целях: для срезки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букетов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, создания оранжерей и зелёных насаждений открытого грунта, а также для украшения жилых и производственных помещени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Файл:Floricultu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789360"/>
            <a:ext cx="4105080" cy="280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788000" y="3789360"/>
            <a:ext cx="4068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900000" y="33336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Декоративное цвето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132000" y="1484280"/>
            <a:ext cx="2632320" cy="2514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250920" y="414828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50920" y="148428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6227640" y="1484280"/>
            <a:ext cx="2665440" cy="252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951906437"/>
          <p:cNvPicPr/>
          <p:nvPr/>
        </p:nvPicPr>
        <p:blipFill>
          <a:blip r:embed="rId5"/>
          <a:stretch/>
        </p:blipFill>
        <p:spPr>
          <a:xfrm>
            <a:off x="3132000" y="4149720"/>
            <a:ext cx="2664000" cy="2536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4495f968a5520f1cd85eb60979f0547d4fb41060669793"/>
          <p:cNvPicPr/>
          <p:nvPr/>
        </p:nvPicPr>
        <p:blipFill>
          <a:blip r:embed="rId6"/>
          <a:stretch/>
        </p:blipFill>
        <p:spPr>
          <a:xfrm>
            <a:off x="6227640" y="4149720"/>
            <a:ext cx="266400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.Укакого растения семена собраны в коричневый почат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у камы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у рог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у трост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4.Ягоды какого растения собирают на болот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клюк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мал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чер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116000" y="189000"/>
            <a:ext cx="684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Декоративные кустарники и деревь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34" name="Picture 6" descr="Картинка 4 из 161039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0920" y="1125360"/>
            <a:ext cx="2665440" cy="230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ph04800"/>
          <p:cNvPicPr/>
          <p:nvPr/>
        </p:nvPicPr>
        <p:blipFill>
          <a:blip r:embed="rId2"/>
          <a:stretch/>
        </p:blipFill>
        <p:spPr>
          <a:xfrm>
            <a:off x="3132000" y="1125360"/>
            <a:ext cx="2880000" cy="230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Картинка 9 из 4584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227640" y="1125360"/>
            <a:ext cx="2665440" cy="2303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322200" y="1125360"/>
            <a:ext cx="1873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ирен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4714920" y="1125360"/>
            <a:ext cx="1081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гибику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300720" y="1125360"/>
            <a:ext cx="129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форзиц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5" descr="ena_7037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50920" y="371628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6"/>
          <p:cNvSpPr/>
          <p:nvPr/>
        </p:nvSpPr>
        <p:spPr>
          <a:xfrm>
            <a:off x="250920" y="3726000"/>
            <a:ext cx="2305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Чебушник (жасмин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8" descr="6a00d8341bfde553ef0120a62114b6970b-320wi"/>
          <p:cNvPicPr/>
          <p:nvPr/>
        </p:nvPicPr>
        <p:blipFill>
          <a:blip r:embed="rId5"/>
          <a:stretch/>
        </p:blipFill>
        <p:spPr>
          <a:xfrm>
            <a:off x="3132000" y="3716280"/>
            <a:ext cx="2880000" cy="2665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9"/>
          <p:cNvSpPr/>
          <p:nvPr/>
        </p:nvSpPr>
        <p:spPr>
          <a:xfrm>
            <a:off x="3203640" y="3716280"/>
            <a:ext cx="1873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гортенз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1" descr="135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6227640" y="371628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2"/>
          <p:cNvSpPr/>
          <p:nvPr/>
        </p:nvSpPr>
        <p:spPr>
          <a:xfrm>
            <a:off x="6299280" y="3726000"/>
            <a:ext cx="1873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шиповн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971640" y="0"/>
            <a:ext cx="720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Комнатное декоративное цвето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47" name="Picture 6" descr="photo-07-rebuciia-kaktusovye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50920" y="1268280"/>
            <a:ext cx="2736720" cy="2665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dsc01052"/>
          <p:cNvPicPr/>
          <p:nvPr/>
        </p:nvPicPr>
        <p:blipFill>
          <a:blip r:embed="rId2"/>
          <a:stretch/>
        </p:blipFill>
        <p:spPr>
          <a:xfrm>
            <a:off x="3132000" y="1268280"/>
            <a:ext cx="2880000" cy="2665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Gloxiniaavanti_enl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156360" y="1268280"/>
            <a:ext cx="2736720" cy="2665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47780101407d8228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50920" y="4149720"/>
            <a:ext cx="2717640" cy="2519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Картинка 6 из 998"/>
          <p:cNvPicPr/>
          <p:nvPr/>
        </p:nvPicPr>
        <p:blipFill>
          <a:blip r:embed="rId5"/>
          <a:stretch/>
        </p:blipFill>
        <p:spPr>
          <a:xfrm>
            <a:off x="3132000" y="4149720"/>
            <a:ext cx="2880000" cy="251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Картинка 14 из 1095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6156360" y="4149720"/>
            <a:ext cx="2736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971640" y="264960"/>
            <a:ext cx="72007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Лекарственные раст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54" name="Picture 6" descr="0_12364_3e1c43c2_XL"/>
          <p:cNvPicPr/>
          <p:nvPr/>
        </p:nvPicPr>
        <p:blipFill>
          <a:blip r:embed="rId1"/>
          <a:stretch/>
        </p:blipFill>
        <p:spPr>
          <a:xfrm>
            <a:off x="250920" y="1125360"/>
            <a:ext cx="2665440" cy="2297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0_8a1d_8e5e6479_XL"/>
          <p:cNvPicPr/>
          <p:nvPr/>
        </p:nvPicPr>
        <p:blipFill>
          <a:blip r:embed="rId2"/>
          <a:stretch/>
        </p:blipFill>
        <p:spPr>
          <a:xfrm>
            <a:off x="6227640" y="1125360"/>
            <a:ext cx="2665440" cy="230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0a065ee7ea3463928bbc894ad3037ef5"/>
          <p:cNvPicPr/>
          <p:nvPr/>
        </p:nvPicPr>
        <p:blipFill>
          <a:blip r:embed="rId3"/>
          <a:stretch/>
        </p:blipFill>
        <p:spPr>
          <a:xfrm>
            <a:off x="3132000" y="1125360"/>
            <a:ext cx="2880000" cy="230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0a35d738c20632065f94c91eadd6c420"/>
          <p:cNvPicPr/>
          <p:nvPr/>
        </p:nvPicPr>
        <p:blipFill>
          <a:blip r:embed="rId4"/>
          <a:stretch/>
        </p:blipFill>
        <p:spPr>
          <a:xfrm>
            <a:off x="250920" y="3573360"/>
            <a:ext cx="2665440" cy="3141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0a199e20a8d4df4d19af9ca2d621ef56"/>
          <p:cNvPicPr/>
          <p:nvPr/>
        </p:nvPicPr>
        <p:blipFill>
          <a:blip r:embed="rId5"/>
          <a:stretch/>
        </p:blipFill>
        <p:spPr>
          <a:xfrm>
            <a:off x="6227640" y="3583080"/>
            <a:ext cx="2665440" cy="3159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" descr="Valerianaofficinalis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3059280" y="3835440"/>
            <a:ext cx="3025440" cy="2689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7"/>
          <p:cNvSpPr/>
          <p:nvPr/>
        </p:nvSpPr>
        <p:spPr>
          <a:xfrm>
            <a:off x="177840" y="3078000"/>
            <a:ext cx="2881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Ромашка лекарственна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6804000" y="1125360"/>
            <a:ext cx="2736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кукуру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3922560" y="1197000"/>
            <a:ext cx="273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календул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2411280" y="3798720"/>
            <a:ext cx="273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валерья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898560" y="3583080"/>
            <a:ext cx="2736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лаван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580000" y="6308640"/>
            <a:ext cx="273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шалф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bfc5"/>
                </a:solidFill>
                <a:latin typeface="Arial"/>
              </a:rPr>
              <a:t>Отрасли растениеводства в нашем кра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В 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Башкортостане</a:t>
            </a: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 развиты отрасли: полеводство, овощевод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Выращивают полевые культу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ов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Users\Элина\Desktop\картинки к урокам\расения татарстана\рапсовое поле в Т масляничное растен.jpg"/>
          <p:cNvPicPr/>
          <p:nvPr/>
        </p:nvPicPr>
        <p:blipFill>
          <a:blip r:embed="rId1"/>
          <a:stretch/>
        </p:blipFill>
        <p:spPr>
          <a:xfrm>
            <a:off x="3132000" y="3213000"/>
            <a:ext cx="2873520" cy="1828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C:\Users\Элина\Desktop\картинки (2)\Новая папка\злаковые\пшеница.jpg"/>
          <p:cNvPicPr/>
          <p:nvPr/>
        </p:nvPicPr>
        <p:blipFill>
          <a:blip r:embed="rId2"/>
          <a:stretch/>
        </p:blipFill>
        <p:spPr>
          <a:xfrm>
            <a:off x="179280" y="3141720"/>
            <a:ext cx="2835360" cy="1895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Users\Элина\Desktop\картинки (2)\Новая папка\злаковые\0_555f1_57975efb_XL.jpg"/>
          <p:cNvPicPr/>
          <p:nvPr/>
        </p:nvPicPr>
        <p:blipFill>
          <a:blip r:embed="rId3"/>
          <a:stretch/>
        </p:blipFill>
        <p:spPr>
          <a:xfrm>
            <a:off x="6084720" y="3141720"/>
            <a:ext cx="2832120" cy="1895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Элина\Desktop\картинки к урокам\kartofiel[1].jpg"/>
          <p:cNvPicPr/>
          <p:nvPr/>
        </p:nvPicPr>
        <p:blipFill>
          <a:blip r:embed="rId4"/>
          <a:stretch/>
        </p:blipFill>
        <p:spPr>
          <a:xfrm>
            <a:off x="1835280" y="5124600"/>
            <a:ext cx="2160360" cy="1593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Элина\Desktop\картинки к урокам\kapusta[1].jpg"/>
          <p:cNvPicPr/>
          <p:nvPr/>
        </p:nvPicPr>
        <p:blipFill>
          <a:blip r:embed="rId5"/>
          <a:stretch/>
        </p:blipFill>
        <p:spPr>
          <a:xfrm>
            <a:off x="4284720" y="5157720"/>
            <a:ext cx="2009880" cy="1505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Users\Элина\Desktop\картинки к урокам\0_48d96_5c660125_XL.jpg"/>
          <p:cNvPicPr/>
          <p:nvPr/>
        </p:nvPicPr>
        <p:blipFill>
          <a:blip r:embed="rId6"/>
          <a:stretch/>
        </p:blipFill>
        <p:spPr>
          <a:xfrm>
            <a:off x="6588000" y="5132520"/>
            <a:ext cx="2298960" cy="153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bfc5"/>
                </a:solidFill>
                <a:latin typeface="Arial"/>
              </a:rPr>
              <a:t>Нельзя обойт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Пшеница, рожь- получают муку, пекут хле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759A-A686-46A0-AF33-3619F171A0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C:\Users\Элина\Desktop\картинки (2)\0_15893_d77fc4c0_XL.jpg"/>
          <p:cNvPicPr/>
          <p:nvPr/>
        </p:nvPicPr>
        <p:blipFill>
          <a:blip r:embed="rId1"/>
          <a:stretch/>
        </p:blipFill>
        <p:spPr>
          <a:xfrm>
            <a:off x="1547640" y="1844640"/>
            <a:ext cx="594360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Овощ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C999-F2B2-44FE-A7A3-0202C5ED2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C:\Users\Элина\Desktop\картинки к урокам\70ad9b812dd1[1].jpg"/>
          <p:cNvPicPr/>
          <p:nvPr/>
        </p:nvPicPr>
        <p:blipFill>
          <a:blip r:embed="rId1"/>
          <a:stretch/>
        </p:blipFill>
        <p:spPr>
          <a:xfrm>
            <a:off x="2411280" y="1413000"/>
            <a:ext cx="6408720" cy="424800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5"/>
          <p:cNvSpPr/>
          <p:nvPr/>
        </p:nvSpPr>
        <p:spPr>
          <a:xfrm>
            <a:off x="250920" y="5084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Витами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полезные для здоровья веще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фитонцид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18C8-6E62-41EF-A1D5-276428C973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C:\Users\Элина\Desktop\картинки (2)\Новая папка\злаковые\плоды гречихи Татарской.jpg"/>
          <p:cNvPicPr/>
          <p:nvPr/>
        </p:nvPicPr>
        <p:blipFill>
          <a:blip r:embed="rId1"/>
          <a:stretch/>
        </p:blipFill>
        <p:spPr>
          <a:xfrm>
            <a:off x="250920" y="1341360"/>
            <a:ext cx="2952720" cy="2224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Элина\Desktop\картинки к урокам\1951.jpg"/>
          <p:cNvPicPr/>
          <p:nvPr/>
        </p:nvPicPr>
        <p:blipFill>
          <a:blip r:embed="rId2"/>
          <a:stretch/>
        </p:blipFill>
        <p:spPr>
          <a:xfrm>
            <a:off x="3348000" y="3141720"/>
            <a:ext cx="2367000" cy="3382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Элина\Desktop\картинки к урокам\PR20100721151641.JPG"/>
          <p:cNvPicPr/>
          <p:nvPr/>
        </p:nvPicPr>
        <p:blipFill>
          <a:blip r:embed="rId3"/>
          <a:stretch/>
        </p:blipFill>
        <p:spPr>
          <a:xfrm>
            <a:off x="5892840" y="1341360"/>
            <a:ext cx="3071880" cy="230364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6"/>
          <p:cNvSpPr/>
          <p:nvPr/>
        </p:nvSpPr>
        <p:spPr>
          <a:xfrm>
            <a:off x="611280" y="3716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гречи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Заголовок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КРУП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8"/>
          <p:cNvSpPr/>
          <p:nvPr/>
        </p:nvSpPr>
        <p:spPr>
          <a:xfrm>
            <a:off x="405432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Заголовок 1"/>
          <p:cNvSpPr/>
          <p:nvPr/>
        </p:nvSpPr>
        <p:spPr>
          <a:xfrm>
            <a:off x="3348000" y="1484280"/>
            <a:ext cx="25192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ячмень (перловая крупа)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2"/>
          <p:cNvSpPr/>
          <p:nvPr/>
        </p:nvSpPr>
        <p:spPr>
          <a:xfrm>
            <a:off x="6084720" y="393372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просо (пше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Подсолнечник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подсолнечное масло                      семе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A868-857A-4AFA-9CDD-367A8933E8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C:\Users\Элина\Desktop\картинки (2)\Новая папка\злаковые\0_4408c_7ba1b1bf_XL.jpg"/>
          <p:cNvPicPr/>
          <p:nvPr/>
        </p:nvPicPr>
        <p:blipFill>
          <a:blip r:embed="rId1"/>
          <a:stretch/>
        </p:blipFill>
        <p:spPr>
          <a:xfrm>
            <a:off x="4140360" y="2276640"/>
            <a:ext cx="4895640" cy="3673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Элина\Desktop\картинки к урокам\6700694-1-original.jpg"/>
          <p:cNvPicPr/>
          <p:nvPr/>
        </p:nvPicPr>
        <p:blipFill>
          <a:blip r:embed="rId2"/>
          <a:stretch/>
        </p:blipFill>
        <p:spPr>
          <a:xfrm>
            <a:off x="250920" y="2349360"/>
            <a:ext cx="3585960" cy="39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Лён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льняное масло                                   воло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985E-A810-4773-B7C0-472664C139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Users\Элина\Desktop\картинки (2)\Новая папка\злаковые\0_4605a_23df8f9a_XL.jpg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2881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Элина\Desktop\картинки к урокам\льняное масло.jpg"/>
          <p:cNvPicPr/>
          <p:nvPr/>
        </p:nvPicPr>
        <p:blipFill>
          <a:blip r:embed="rId2"/>
          <a:stretch/>
        </p:blipFill>
        <p:spPr>
          <a:xfrm>
            <a:off x="4572000" y="2781360"/>
            <a:ext cx="1854360" cy="3238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Users\Элина\Desktop\картинки (2)\Новая папка\злаковые\ткацкий станок лен.jpg"/>
          <p:cNvPicPr/>
          <p:nvPr/>
        </p:nvPicPr>
        <p:blipFill>
          <a:blip r:embed="rId3"/>
          <a:stretch/>
        </p:blipFill>
        <p:spPr>
          <a:xfrm>
            <a:off x="6516720" y="1628640"/>
            <a:ext cx="219240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Фрукты, яг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витамин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3782-BF12-42ED-BDC9-8ADD4008F2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C:\Users\Элина\Desktop\картинки к урокам\220c201020yogurt[1].jpg"/>
          <p:cNvPicPr/>
          <p:nvPr/>
        </p:nvPicPr>
        <p:blipFill>
          <a:blip r:embed="rId1"/>
          <a:stretch/>
        </p:blipFill>
        <p:spPr>
          <a:xfrm>
            <a:off x="755640" y="1268280"/>
            <a:ext cx="79930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5.Какое растение является хищ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ря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ог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рося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6.Почему клопы-водомерки не тону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они очень лег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они умеют пла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их ножки покрыты жи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324000" y="476280"/>
            <a:ext cx="302400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ДУКТЫ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5003640" y="5157720"/>
            <a:ext cx="3505320" cy="129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Ш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796000" y="476280"/>
            <a:ext cx="302400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М ДЛЯ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5940360" y="3500280"/>
            <a:ext cx="3024360" cy="1225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К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708360" y="2060640"/>
            <a:ext cx="1944720" cy="1511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800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 flipH="1" flipV="1">
            <a:off x="2556000" y="1700280"/>
            <a:ext cx="1008000" cy="79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5222880" y="3645000"/>
            <a:ext cx="644400" cy="36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4952880" y="4038480"/>
            <a:ext cx="457200" cy="914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V="1">
            <a:off x="5796000" y="1699920"/>
            <a:ext cx="1224000" cy="863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50920" y="3500280"/>
            <a:ext cx="302400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ГОТОВЛ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3352320" y="3657600"/>
            <a:ext cx="576360" cy="431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755640" y="5157720"/>
            <a:ext cx="3657600" cy="129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С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3809520" y="4038480"/>
            <a:ext cx="381240" cy="914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7.Чем питаются ра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остатками мертвых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аст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личинками насеко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8.Какой моллюск не является двустворчат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кат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перло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беззу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9.Кого ученые называют живыми «фильтрами»водое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р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лягу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моллю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0.Кого ученые называют санитаром водо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прудов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цап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Arial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1-б          6-в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2-в          7-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3-б          8-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4-а          9-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5-в          10-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11280" y="711360"/>
            <a:ext cx="79214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астениево́дство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— возделывание культурных растений с целью их использования как источника </a:t>
            </a:r>
            <a:r>
              <a:rPr b="0" i="1" lang="ru-RU" sz="3800" spc="-1" strike="noStrike">
                <a:solidFill>
                  <a:srgbClr val="000000"/>
                </a:solidFill>
                <a:latin typeface="Arial"/>
              </a:rPr>
              <a:t>продуктов питания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, получения продукции для кормовых целей, а также сырья для промышленности и иных, в том числе декоративных целей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258920" y="189000"/>
            <a:ext cx="6543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трасли растениеводст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ле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мовые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рно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диль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ич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воще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ощ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хче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оводств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адо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до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год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Лесо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Цвето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1" descr="1304685089_1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859280" y="1268280"/>
            <a:ext cx="3960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"/>
          <p:cNvSpPr/>
          <p:nvPr/>
        </p:nvSpPr>
        <p:spPr>
          <a:xfrm>
            <a:off x="1979640" y="1125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водство – выращивание полевых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1"/>
          <p:cNvSpPr txBox="1"/>
          <p:nvPr/>
        </p:nvSpPr>
        <p:spPr>
          <a:xfrm>
            <a:off x="2195640" y="260280"/>
            <a:ext cx="475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Поле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9" name="Picture 12" descr="251095"/>
          <p:cNvPicPr/>
          <p:nvPr/>
        </p:nvPicPr>
        <p:blipFill>
          <a:blip r:embed="rId1"/>
          <a:stretch/>
        </p:blipFill>
        <p:spPr>
          <a:xfrm>
            <a:off x="250920" y="1700280"/>
            <a:ext cx="3924360" cy="298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4465800" y="3500280"/>
            <a:ext cx="44272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1:48:33Z</dcterms:created>
  <dc:creator>Samsung</dc:creator>
  <dc:description/>
  <dc:language>en-US</dc:language>
  <cp:lastModifiedBy>Asus</cp:lastModifiedBy>
  <dcterms:modified xsi:type="dcterms:W3CDTF">2012-12-19T20:29:55Z</dcterms:modified>
  <cp:revision>57</cp:revision>
  <dc:subject/>
  <dc:title>Слайд 1</dc:title>
</cp:coreProperties>
</file>