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27.jpeg" ContentType="image/jpeg"/>
  <Override PartName="/ppt/media/image39.jpeg" ContentType="image/jpeg"/>
  <Override PartName="/ppt/media/image5.png" ContentType="image/png"/>
  <Override PartName="/ppt/media/image8.jpeg" ContentType="image/jpeg"/>
  <Override PartName="/ppt/media/image43.jpeg" ContentType="image/jpeg"/>
  <Override PartName="/ppt/media/image52.jpeg" ContentType="image/jpeg"/>
  <Override PartName="/ppt/media/image20.jpeg" ContentType="image/jpeg"/>
  <Override PartName="/ppt/media/image1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84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5EE-7630-4792-BABA-5B0F5EE01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CD1D-6C6F-4D8E-AB96-36A5DB02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61EA-7C98-4F29-8A76-270FE1BA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560-7D90-478C-AC9D-18CC3074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67F5-E85F-430C-917A-0C65255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0E0-9499-4B74-8DBE-1B6D83E6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A1FE-80FC-45B2-B3F3-538E2BB0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B19A-9713-4BDF-A4F5-CA7869AC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078A-55F1-4DA0-86FB-AB318941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6E5-18AA-4169-93E2-684EF3AD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287-7C41-407A-808E-0C6424D1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7C1A-894A-4E98-9731-433592A9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2d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D395-451C-4C63-9034-3D0DC34BD2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hyperlink" Target="http://ru.wikipedia.org/wiki/&#1060;&#1072;&#1081;&#1083;:Hordeum-barley.jpg" TargetMode="External"/><Relationship Id="rId5" Type="http://schemas.openxmlformats.org/officeDocument/2006/relationships/image" Target="../media/image7.jpeg"/><Relationship Id="rId6" Type="http://schemas.openxmlformats.org/officeDocument/2006/relationships/hyperlink" Target="http://ru.wikipedia.org/wiki/&#1060;&#1072;&#1081;&#1083;:Rispenhirse_gr&#252;n.jpg" TargetMode="External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A_sunflower.jpg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5/5e/L&#233;gumes_01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ru.wikipedia.org/wiki/&#1060;&#1072;&#1081;&#1083;:Watermelons1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lesnyk.ru/photo/plodovij-sad/big/8.jpg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3/37/Floriculture.jpg" TargetMode="External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image" Target="../media/image74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Какое растение корнями не прикрепляется ко дну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кувши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У какого растения листья плавают на поверхности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стрело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водорос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кубы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4"/>
          <p:cNvSpPr txBox="1"/>
          <p:nvPr/>
        </p:nvSpPr>
        <p:spPr>
          <a:xfrm>
            <a:off x="971640" y="333360"/>
            <a:ext cx="7200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Зерн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2700360" y="1606680"/>
            <a:ext cx="3600360" cy="2398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80880" y="4191120"/>
            <a:ext cx="1863720" cy="2447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1116000" y="429264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вё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4716360" y="1700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пшен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2" descr="1585990"/>
          <p:cNvPicPr/>
          <p:nvPr/>
        </p:nvPicPr>
        <p:blipFill>
          <a:blip r:embed="rId3"/>
          <a:stretch/>
        </p:blipFill>
        <p:spPr>
          <a:xfrm>
            <a:off x="2784600" y="4221000"/>
            <a:ext cx="3516120" cy="244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5"/>
          <p:cNvSpPr/>
          <p:nvPr/>
        </p:nvSpPr>
        <p:spPr>
          <a:xfrm>
            <a:off x="5076720" y="422100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ж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Hordeu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0920" y="1197000"/>
            <a:ext cx="2016000" cy="2736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8"/>
          <p:cNvSpPr/>
          <p:nvPr/>
        </p:nvSpPr>
        <p:spPr>
          <a:xfrm>
            <a:off x="900000" y="1268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ячм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0" descr="Просо обыкновенное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04000" y="1268280"/>
            <a:ext cx="2089080" cy="273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21"/>
          <p:cNvSpPr/>
          <p:nvPr/>
        </p:nvSpPr>
        <p:spPr>
          <a:xfrm>
            <a:off x="7597800" y="134928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с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3" descr="236_2350"/>
          <p:cNvPicPr/>
          <p:nvPr/>
        </p:nvPicPr>
        <p:blipFill>
          <a:blip r:embed="rId8"/>
          <a:stretch/>
        </p:blipFill>
        <p:spPr>
          <a:xfrm>
            <a:off x="6775560" y="4221000"/>
            <a:ext cx="1900080" cy="244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4"/>
          <p:cNvSpPr/>
          <p:nvPr/>
        </p:nvSpPr>
        <p:spPr>
          <a:xfrm>
            <a:off x="7380360" y="4230720"/>
            <a:ext cx="15112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речих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6"/>
          <p:cNvSpPr txBox="1"/>
          <p:nvPr/>
        </p:nvSpPr>
        <p:spPr>
          <a:xfrm>
            <a:off x="971640" y="18900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Маслич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75" name="Picture 8" descr="Helianthus annu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2325600" cy="309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mage_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424320" y="1268280"/>
            <a:ext cx="2371680" cy="2881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susan"/>
          <p:cNvPicPr/>
          <p:nvPr/>
        </p:nvPicPr>
        <p:blipFill>
          <a:blip r:embed="rId4"/>
          <a:stretch/>
        </p:blipFill>
        <p:spPr>
          <a:xfrm>
            <a:off x="6519960" y="1052640"/>
            <a:ext cx="2373120" cy="309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001c4z4z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50920" y="4292640"/>
            <a:ext cx="2881080" cy="2376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6" descr="tmin09"/>
          <p:cNvPicPr/>
          <p:nvPr/>
        </p:nvPicPr>
        <p:blipFill>
          <a:blip r:embed="rId6"/>
          <a:stretch/>
        </p:blipFill>
        <p:spPr>
          <a:xfrm>
            <a:off x="3203640" y="4292640"/>
            <a:ext cx="2736720" cy="23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mjata_03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6012000" y="429264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9"/>
          <p:cNvSpPr/>
          <p:nvPr/>
        </p:nvSpPr>
        <p:spPr>
          <a:xfrm>
            <a:off x="2700360" y="952560"/>
            <a:ext cx="38088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солнеч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6062760" y="1855800"/>
            <a:ext cx="38088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унжу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995640" y="91764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рчиц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1763640" y="624672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арахи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2987640" y="631836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м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7791480" y="4302000"/>
            <a:ext cx="13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мя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250920" y="1196640"/>
            <a:ext cx="87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вощеводство — это отрасль сельского хозяйства, которая занимается производством овощей для потребления в свежем и переработанном виде, а также для перерабатывающей промышлен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Файл:Légumes 01.jpg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50920" y="2617920"/>
            <a:ext cx="4176720" cy="34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400px-Watermelons1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4788000" y="2637000"/>
            <a:ext cx="409896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томат"/>
          <p:cNvPicPr/>
          <p:nvPr/>
        </p:nvPicPr>
        <p:blipFill>
          <a:blip r:embed="rId1"/>
          <a:stretch/>
        </p:blipFill>
        <p:spPr>
          <a:xfrm>
            <a:off x="250920" y="1125360"/>
            <a:ext cx="2017440" cy="2303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МОРКОВЬ"/>
          <p:cNvPicPr/>
          <p:nvPr/>
        </p:nvPicPr>
        <p:blipFill>
          <a:blip r:embed="rId2"/>
          <a:stretch/>
        </p:blipFill>
        <p:spPr>
          <a:xfrm>
            <a:off x="4716360" y="1125360"/>
            <a:ext cx="2016360" cy="2303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ОГУРЕЦ"/>
          <p:cNvPicPr/>
          <p:nvPr/>
        </p:nvPicPr>
        <p:blipFill>
          <a:blip r:embed="rId3"/>
          <a:stretch/>
        </p:blipFill>
        <p:spPr>
          <a:xfrm>
            <a:off x="6877080" y="1125360"/>
            <a:ext cx="2016000" cy="233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КАПУСТА"/>
          <p:cNvPicPr/>
          <p:nvPr/>
        </p:nvPicPr>
        <p:blipFill>
          <a:blip r:embed="rId4"/>
          <a:stretch/>
        </p:blipFill>
        <p:spPr>
          <a:xfrm>
            <a:off x="250920" y="4005360"/>
            <a:ext cx="2017440" cy="2303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ЛУК (растение)"/>
          <p:cNvPicPr/>
          <p:nvPr/>
        </p:nvPicPr>
        <p:blipFill>
          <a:blip r:embed="rId5"/>
          <a:stretch/>
        </p:blipFill>
        <p:spPr>
          <a:xfrm>
            <a:off x="2411280" y="4005360"/>
            <a:ext cx="208944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свекла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805440" y="400536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РЕДИС"/>
          <p:cNvPicPr/>
          <p:nvPr/>
        </p:nvPicPr>
        <p:blipFill>
          <a:blip r:embed="rId7"/>
          <a:stretch/>
        </p:blipFill>
        <p:spPr>
          <a:xfrm>
            <a:off x="2411280" y="1125360"/>
            <a:ext cx="2017800" cy="2303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ЧЕСНОК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643280" y="4003560"/>
            <a:ext cx="2087640" cy="23050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1"/>
          <p:cNvSpPr txBox="1"/>
          <p:nvPr/>
        </p:nvSpPr>
        <p:spPr>
          <a:xfrm>
            <a:off x="3059280" y="26028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вощ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5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Бахче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1" name="Picture 7" descr="linoliu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1268280"/>
            <a:ext cx="3241800" cy="26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435640" y="1251000"/>
            <a:ext cx="3024000" cy="2682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photo_075e5a89e9ffa5094662a2e131a0d7ee4e1c4fa9bc8b2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413080" y="4149720"/>
            <a:ext cx="4319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971640" y="404640"/>
            <a:ext cx="720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Садоводство (плодоводство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50920" y="1267560"/>
            <a:ext cx="864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д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: возделыванием многолетних плодовых ил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ягодных культур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лодово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01413-apple-orchard-2-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2708280"/>
            <a:ext cx="4105080" cy="3624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Картинка 34 из 78096">
            <a:hlinkClick r:id="rId2"/>
          </p:cNvPr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572000" y="2708280"/>
            <a:ext cx="432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971640" y="260280"/>
            <a:ext cx="720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лодов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09" name="Picture 6" descr="0_2054f_96ff16a0_XL"/>
          <p:cNvPicPr/>
          <p:nvPr/>
        </p:nvPicPr>
        <p:blipFill>
          <a:blip r:embed="rId1"/>
          <a:stretch/>
        </p:blipFill>
        <p:spPr>
          <a:xfrm>
            <a:off x="250920" y="1268280"/>
            <a:ext cx="266544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3"/>
          <p:cNvPicPr/>
          <p:nvPr/>
        </p:nvPicPr>
        <p:blipFill>
          <a:blip r:embed="rId2"/>
          <a:stretch/>
        </p:blipFill>
        <p:spPr>
          <a:xfrm>
            <a:off x="6227640" y="1268280"/>
            <a:ext cx="2616480" cy="2521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4076640"/>
            <a:ext cx="2665440" cy="2454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0_5bdd_cb26e4d6_XL"/>
          <p:cNvPicPr/>
          <p:nvPr/>
        </p:nvPicPr>
        <p:blipFill>
          <a:blip r:embed="rId4"/>
          <a:stretch/>
        </p:blipFill>
        <p:spPr>
          <a:xfrm>
            <a:off x="3203640" y="4076640"/>
            <a:ext cx="2662200" cy="2459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120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6227640" y="4064040"/>
            <a:ext cx="2665440" cy="24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0_2872a_911a0fde_XL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203640" y="1268280"/>
            <a:ext cx="2795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258920" y="260280"/>
            <a:ext cx="655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Ягодные культу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16" name="Picture 6" descr="68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268280"/>
            <a:ext cx="2665440" cy="2376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739839494970"/>
          <p:cNvPicPr/>
          <p:nvPr/>
        </p:nvPicPr>
        <p:blipFill>
          <a:blip r:embed="rId2"/>
          <a:stretch/>
        </p:blipFill>
        <p:spPr>
          <a:xfrm>
            <a:off x="3203640" y="1268280"/>
            <a:ext cx="2647800" cy="2376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e21b45fbcff9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81560" y="1268280"/>
            <a:ext cx="2711520" cy="2351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Skromnica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89360"/>
            <a:ext cx="2665440" cy="25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172_0"/>
          <p:cNvPicPr/>
          <p:nvPr/>
        </p:nvPicPr>
        <p:blipFill>
          <a:blip r:embed="rId5"/>
          <a:stretch/>
        </p:blipFill>
        <p:spPr>
          <a:xfrm>
            <a:off x="6156360" y="3716280"/>
            <a:ext cx="2705040" cy="2592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60217409_1276339591_Zemlyanika20C141"/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3203640" y="3789360"/>
            <a:ext cx="26636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692360" y="260280"/>
            <a:ext cx="5759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1196640"/>
            <a:ext cx="8136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Цветово́дство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— отрасль растениеводства, занимающаяся селекцией и выращиванием красивоцветущих и других растений в декоративных целях: для срезки </a:t>
            </a:r>
            <a:r>
              <a:rPr b="0" i="1" lang="ru-RU" sz="2500" spc="-1" strike="noStrike">
                <a:solidFill>
                  <a:srgbClr val="000000"/>
                </a:solidFill>
                <a:latin typeface="Arial"/>
              </a:rPr>
              <a:t>букетов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, создания оранжерей и зелёных насаждений открытого грунта, а также для украшения жилых и производственных помещений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Файл:Floricultur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789360"/>
            <a:ext cx="4105080" cy="2808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4788000" y="3789360"/>
            <a:ext cx="40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900000" y="33336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132000" y="1484280"/>
            <a:ext cx="2632320" cy="25146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250920" y="4148280"/>
            <a:ext cx="2520720" cy="25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250920" y="1484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4"/>
          <a:stretch/>
        </p:blipFill>
        <p:spPr>
          <a:xfrm>
            <a:off x="6227640" y="1484280"/>
            <a:ext cx="2665440" cy="2521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951906437"/>
          <p:cNvPicPr/>
          <p:nvPr/>
        </p:nvPicPr>
        <p:blipFill>
          <a:blip r:embed="rId5"/>
          <a:stretch/>
        </p:blipFill>
        <p:spPr>
          <a:xfrm>
            <a:off x="3132000" y="4149720"/>
            <a:ext cx="2664000" cy="2536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4495f968a5520f1cd85eb60979f0547d4fb41060669793"/>
          <p:cNvPicPr/>
          <p:nvPr/>
        </p:nvPicPr>
        <p:blipFill>
          <a:blip r:embed="rId6"/>
          <a:stretch/>
        </p:blipFill>
        <p:spPr>
          <a:xfrm>
            <a:off x="6227640" y="414972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Укакого растения семена собраны в коричневый почато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у камы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у рог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у трост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4.Ягоды какого растения собирают на болот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люк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мал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чер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1116000" y="189000"/>
            <a:ext cx="684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Декоративные кустарники и деревь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34" name="Picture 6" descr="Картинка 4 из 161039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25092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ph04800"/>
          <p:cNvPicPr/>
          <p:nvPr/>
        </p:nvPicPr>
        <p:blipFill>
          <a:blip r:embed="rId2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Картинка 9 из 4584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1"/>
          <p:cNvSpPr/>
          <p:nvPr/>
        </p:nvSpPr>
        <p:spPr>
          <a:xfrm>
            <a:off x="322200" y="1125360"/>
            <a:ext cx="1873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ирен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4714920" y="1125360"/>
            <a:ext cx="1081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ибик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00720" y="1125360"/>
            <a:ext cx="129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зиц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ena_7037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6"/>
          <p:cNvSpPr/>
          <p:nvPr/>
        </p:nvSpPr>
        <p:spPr>
          <a:xfrm>
            <a:off x="250920" y="3726000"/>
            <a:ext cx="2305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Чебушник (жасми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8" descr="6a00d8341bfde553ef0120a62114b6970b-320wi"/>
          <p:cNvPicPr/>
          <p:nvPr/>
        </p:nvPicPr>
        <p:blipFill>
          <a:blip r:embed="rId5"/>
          <a:stretch/>
        </p:blipFill>
        <p:spPr>
          <a:xfrm>
            <a:off x="3132000" y="3716280"/>
            <a:ext cx="288000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19"/>
          <p:cNvSpPr/>
          <p:nvPr/>
        </p:nvSpPr>
        <p:spPr>
          <a:xfrm>
            <a:off x="3203640" y="371628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гортенз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1" descr="13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227640" y="3716280"/>
            <a:ext cx="2665440" cy="26654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2"/>
          <p:cNvSpPr/>
          <p:nvPr/>
        </p:nvSpPr>
        <p:spPr>
          <a:xfrm>
            <a:off x="6299280" y="3726000"/>
            <a:ext cx="1873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шипов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971640" y="0"/>
            <a:ext cx="720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Комнатное декоративное цвето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47" name="Picture 6" descr="photo-07-rebuciia-kaktusovye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25092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dsc01052"/>
          <p:cNvPicPr/>
          <p:nvPr/>
        </p:nvPicPr>
        <p:blipFill>
          <a:blip r:embed="rId2"/>
          <a:stretch/>
        </p:blipFill>
        <p:spPr>
          <a:xfrm>
            <a:off x="3132000" y="1268280"/>
            <a:ext cx="2880000" cy="2665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Gloxiniaavanti_enl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6156360" y="1268280"/>
            <a:ext cx="2736720" cy="2665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47780101407d8228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50920" y="4149720"/>
            <a:ext cx="2717640" cy="251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4" descr="Картинка 6 из 998"/>
          <p:cNvPicPr/>
          <p:nvPr/>
        </p:nvPicPr>
        <p:blipFill>
          <a:blip r:embed="rId5"/>
          <a:stretch/>
        </p:blipFill>
        <p:spPr>
          <a:xfrm>
            <a:off x="3132000" y="4149720"/>
            <a:ext cx="2880000" cy="25192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Картинка 14 из 1095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6156360" y="4149720"/>
            <a:ext cx="273672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971640" y="264960"/>
            <a:ext cx="720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Лекарственные раст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154" name="Picture 6" descr="0_12364_3e1c43c2_XL"/>
          <p:cNvPicPr/>
          <p:nvPr/>
        </p:nvPicPr>
        <p:blipFill>
          <a:blip r:embed="rId1"/>
          <a:stretch/>
        </p:blipFill>
        <p:spPr>
          <a:xfrm>
            <a:off x="250920" y="1125360"/>
            <a:ext cx="2665440" cy="229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0_8a1d_8e5e6479_XL"/>
          <p:cNvPicPr/>
          <p:nvPr/>
        </p:nvPicPr>
        <p:blipFill>
          <a:blip r:embed="rId2"/>
          <a:stretch/>
        </p:blipFill>
        <p:spPr>
          <a:xfrm>
            <a:off x="6227640" y="112536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0a065ee7ea3463928bbc894ad3037ef5"/>
          <p:cNvPicPr/>
          <p:nvPr/>
        </p:nvPicPr>
        <p:blipFill>
          <a:blip r:embed="rId3"/>
          <a:stretch/>
        </p:blipFill>
        <p:spPr>
          <a:xfrm>
            <a:off x="3132000" y="1125360"/>
            <a:ext cx="2880000" cy="2303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0a35d738c20632065f94c91eadd6c420"/>
          <p:cNvPicPr/>
          <p:nvPr/>
        </p:nvPicPr>
        <p:blipFill>
          <a:blip r:embed="rId4"/>
          <a:stretch/>
        </p:blipFill>
        <p:spPr>
          <a:xfrm>
            <a:off x="250920" y="3573360"/>
            <a:ext cx="266544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4" descr="0a199e20a8d4df4d19af9ca2d621ef56"/>
          <p:cNvPicPr/>
          <p:nvPr/>
        </p:nvPicPr>
        <p:blipFill>
          <a:blip r:embed="rId5"/>
          <a:stretch/>
        </p:blipFill>
        <p:spPr>
          <a:xfrm>
            <a:off x="6227640" y="3583080"/>
            <a:ext cx="2665440" cy="31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Valerianaofficinalis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59280" y="3835440"/>
            <a:ext cx="3025440" cy="2689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7"/>
          <p:cNvSpPr/>
          <p:nvPr/>
        </p:nvSpPr>
        <p:spPr>
          <a:xfrm>
            <a:off x="177840" y="3078000"/>
            <a:ext cx="2881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Ромашка лекарственн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6804000" y="112536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укуру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"/>
          <p:cNvSpPr/>
          <p:nvPr/>
        </p:nvSpPr>
        <p:spPr>
          <a:xfrm>
            <a:off x="3922560" y="119700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календул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411280" y="379872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алерья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898560" y="3583080"/>
            <a:ext cx="2736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ава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580000" y="6308640"/>
            <a:ext cx="273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шалф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Отрасли растениеводства в нашем кра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 </a:t>
            </a:r>
            <a:r>
              <a:rPr b="0" lang="ru-RU" sz="3200" spc="-1" strike="noStrike">
                <a:solidFill>
                  <a:srgbClr val="262673"/>
                </a:solidFill>
                <a:latin typeface="Arial"/>
              </a:rPr>
              <a:t>Башкортостане</a:t>
            </a: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 развиты отрасли: полеводство, овощев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Выращивают полевые культур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2bfc5"/>
                </a:solidFill>
                <a:latin typeface="Arial"/>
              </a:rPr>
              <a:t>овощ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Элина\Desktop\картинки к урокам\расения татарстана\рапсовое поле в Т масляничное растен.jpg"/>
          <p:cNvPicPr/>
          <p:nvPr/>
        </p:nvPicPr>
        <p:blipFill>
          <a:blip r:embed="rId1"/>
          <a:stretch/>
        </p:blipFill>
        <p:spPr>
          <a:xfrm>
            <a:off x="3132000" y="3213000"/>
            <a:ext cx="2873520" cy="1828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C:\Users\Элина\Desktop\картинки (2)\Новая папка\злаковые\пшеница.jpg"/>
          <p:cNvPicPr/>
          <p:nvPr/>
        </p:nvPicPr>
        <p:blipFill>
          <a:blip r:embed="rId2"/>
          <a:stretch/>
        </p:blipFill>
        <p:spPr>
          <a:xfrm>
            <a:off x="179280" y="3141720"/>
            <a:ext cx="2835360" cy="18954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:\Users\Элина\Desktop\картинки (2)\Новая папка\злаковые\0_555f1_57975efb_XL.jpg"/>
          <p:cNvPicPr/>
          <p:nvPr/>
        </p:nvPicPr>
        <p:blipFill>
          <a:blip r:embed="rId3"/>
          <a:stretch/>
        </p:blipFill>
        <p:spPr>
          <a:xfrm>
            <a:off x="6084720" y="3141720"/>
            <a:ext cx="2832120" cy="1895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:\Users\Элина\Desktop\картинки к урокам\kartofiel[1].jpg"/>
          <p:cNvPicPr/>
          <p:nvPr/>
        </p:nvPicPr>
        <p:blipFill>
          <a:blip r:embed="rId4"/>
          <a:stretch/>
        </p:blipFill>
        <p:spPr>
          <a:xfrm>
            <a:off x="1835280" y="5124600"/>
            <a:ext cx="2160360" cy="159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C:\Users\Элина\Desktop\картинки к урокам\kapusta[1].jpg"/>
          <p:cNvPicPr/>
          <p:nvPr/>
        </p:nvPicPr>
        <p:blipFill>
          <a:blip r:embed="rId5"/>
          <a:stretch/>
        </p:blipFill>
        <p:spPr>
          <a:xfrm>
            <a:off x="4284720" y="5157720"/>
            <a:ext cx="2009880" cy="1505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C:\Users\Элина\Desktop\картинки к урокам\0_48d96_5c660125_XL.jpg"/>
          <p:cNvPicPr/>
          <p:nvPr/>
        </p:nvPicPr>
        <p:blipFill>
          <a:blip r:embed="rId6"/>
          <a:stretch/>
        </p:blipFill>
        <p:spPr>
          <a:xfrm>
            <a:off x="6588000" y="5132520"/>
            <a:ext cx="2298960" cy="153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2bfc5"/>
                </a:solidFill>
                <a:latin typeface="Arial"/>
              </a:rPr>
              <a:t>Нельзя обойт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шеница, рожь- получают муку, пекут хле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2DAF-85EB-44E7-950D-7D149A322A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C:\Users\Элина\Desktop\картинки (2)\0_15893_d77fc4c0_XL.jpg"/>
          <p:cNvPicPr/>
          <p:nvPr/>
        </p:nvPicPr>
        <p:blipFill>
          <a:blip r:embed="rId1"/>
          <a:stretch/>
        </p:blipFill>
        <p:spPr>
          <a:xfrm>
            <a:off x="1547640" y="1844640"/>
            <a:ext cx="594360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Овощ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DED1-9654-4756-93F2-A37E4D8F43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Users\Элина\Desktop\картинки к урокам\70ad9b812dd1[1].jpg"/>
          <p:cNvPicPr/>
          <p:nvPr/>
        </p:nvPicPr>
        <p:blipFill>
          <a:blip r:embed="rId1"/>
          <a:stretch/>
        </p:blipFill>
        <p:spPr>
          <a:xfrm>
            <a:off x="2411280" y="1413000"/>
            <a:ext cx="6408720" cy="424800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5"/>
          <p:cNvSpPr/>
          <p:nvPr/>
        </p:nvSpPr>
        <p:spPr>
          <a:xfrm>
            <a:off x="250920" y="5084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Витамин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полезные для здоровья веще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                                                     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фитонциды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1E64-9783-459F-A1D4-672966480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C:\Users\Элина\Desktop\картинки (2)\Новая папка\злаковые\плоды гречихи Татарской.jpg"/>
          <p:cNvPicPr/>
          <p:nvPr/>
        </p:nvPicPr>
        <p:blipFill>
          <a:blip r:embed="rId1"/>
          <a:stretch/>
        </p:blipFill>
        <p:spPr>
          <a:xfrm>
            <a:off x="250920" y="1341360"/>
            <a:ext cx="2952720" cy="2224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Элина\Desktop\картинки к урокам\1951.jpg"/>
          <p:cNvPicPr/>
          <p:nvPr/>
        </p:nvPicPr>
        <p:blipFill>
          <a:blip r:embed="rId2"/>
          <a:stretch/>
        </p:blipFill>
        <p:spPr>
          <a:xfrm>
            <a:off x="3348000" y="3141720"/>
            <a:ext cx="2367000" cy="3382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Элина\Desktop\картинки к урокам\PR20100721151641.JPG"/>
          <p:cNvPicPr/>
          <p:nvPr/>
        </p:nvPicPr>
        <p:blipFill>
          <a:blip r:embed="rId3"/>
          <a:stretch/>
        </p:blipFill>
        <p:spPr>
          <a:xfrm>
            <a:off x="5892840" y="1341360"/>
            <a:ext cx="3071880" cy="2303640"/>
          </a:xfrm>
          <a:prstGeom prst="rect">
            <a:avLst/>
          </a:prstGeom>
          <a:ln w="0">
            <a:noFill/>
          </a:ln>
        </p:spPr>
      </p:pic>
      <p:sp>
        <p:nvSpPr>
          <p:cNvPr id="187" name="Прямоугольник 6"/>
          <p:cNvSpPr/>
          <p:nvPr/>
        </p:nvSpPr>
        <p:spPr>
          <a:xfrm>
            <a:off x="611280" y="3716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греч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Заголовок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КРУП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8"/>
          <p:cNvSpPr/>
          <p:nvPr/>
        </p:nvSpPr>
        <p:spPr>
          <a:xfrm>
            <a:off x="4054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Заголовок 1"/>
          <p:cNvSpPr/>
          <p:nvPr/>
        </p:nvSpPr>
        <p:spPr>
          <a:xfrm>
            <a:off x="3348000" y="1484280"/>
            <a:ext cx="25192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ячмень (перловая крупа)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2"/>
          <p:cNvSpPr/>
          <p:nvPr/>
        </p:nvSpPr>
        <p:spPr>
          <a:xfrm>
            <a:off x="6084720" y="3933720"/>
            <a:ext cx="24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росо (пшено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Подсолнечник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подсолнечное масло                      семе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6326-A793-4729-A469-34076ED4B7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Элина\Desktop\картинки (2)\Новая папка\злаковые\0_4408c_7ba1b1bf_XL.jpg"/>
          <p:cNvPicPr/>
          <p:nvPr/>
        </p:nvPicPr>
        <p:blipFill>
          <a:blip r:embed="rId1"/>
          <a:stretch/>
        </p:blipFill>
        <p:spPr>
          <a:xfrm>
            <a:off x="4140360" y="2276640"/>
            <a:ext cx="4895640" cy="36734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C:\Users\Элина\Desktop\картинки к урокам\6700694-1-original.jpg"/>
          <p:cNvPicPr/>
          <p:nvPr/>
        </p:nvPicPr>
        <p:blipFill>
          <a:blip r:embed="rId2"/>
          <a:stretch/>
        </p:blipFill>
        <p:spPr>
          <a:xfrm>
            <a:off x="250920" y="2349360"/>
            <a:ext cx="358596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Лё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льняное масло                                   волок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1BBC-3539-4CCC-93CA-A8EEE3AE04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C:\Users\Элина\Desktop\картинки (2)\Новая папка\злаковые\0_4605a_23df8f9a_XL.jpg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2881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Элина\Desktop\картинки к урокам\льняное масло.jpg"/>
          <p:cNvPicPr/>
          <p:nvPr/>
        </p:nvPicPr>
        <p:blipFill>
          <a:blip r:embed="rId2"/>
          <a:stretch/>
        </p:blipFill>
        <p:spPr>
          <a:xfrm>
            <a:off x="4572000" y="2781360"/>
            <a:ext cx="1854360" cy="3238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Users\Элина\Desktop\картинки (2)\Новая папка\злаковые\ткацкий станок лен.jpg"/>
          <p:cNvPicPr/>
          <p:nvPr/>
        </p:nvPicPr>
        <p:blipFill>
          <a:blip r:embed="rId3"/>
          <a:stretch/>
        </p:blipFill>
        <p:spPr>
          <a:xfrm>
            <a:off x="6516720" y="1628640"/>
            <a:ext cx="219240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be0e3"/>
                </a:solidFill>
                <a:latin typeface="Arial"/>
              </a:rPr>
              <a:t>Фрукты, яг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витамин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1864-C3D9-4C42-AD9E-113776CDC7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Элина\Desktop\картинки к урокам\220c201020yogurt[1]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5.Какое растение является хищн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я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ого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рося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6.Почему клопы-водомерки не тону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ни очень лег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они умеют пла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их ножки покрыты жи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324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ДУКТЫ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ИТ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5003640" y="5157720"/>
            <a:ext cx="350532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МЫШЛЕ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5796000" y="476280"/>
            <a:ext cx="3024000" cy="1152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РМ ДЛЯ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5940360" y="3500280"/>
            <a:ext cx="3024360" cy="1225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К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3708360" y="2060640"/>
            <a:ext cx="1944720" cy="1511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5800"/>
                </a:solidFill>
                <a:latin typeface="Arial"/>
              </a:rPr>
              <a:t>РАС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 flipH="1" flipV="1">
            <a:off x="2556000" y="1700280"/>
            <a:ext cx="1008000" cy="792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5222880" y="3645000"/>
            <a:ext cx="64440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4952880" y="4038480"/>
            <a:ext cx="45720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V="1">
            <a:off x="5796000" y="1699920"/>
            <a:ext cx="1224000" cy="863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250920" y="3500280"/>
            <a:ext cx="3024000" cy="1152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3352320" y="3657600"/>
            <a:ext cx="576360" cy="43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3"/>
          <p:cNvSpPr/>
          <p:nvPr/>
        </p:nvSpPr>
        <p:spPr>
          <a:xfrm>
            <a:off x="755640" y="5157720"/>
            <a:ext cx="3657600" cy="1295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С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3809520" y="4038480"/>
            <a:ext cx="381240" cy="914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7.Чем питаются ра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остатками мертвых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ст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личинками насеком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8.Какой моллюск не является двустворчаты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катуш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перлов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беззуб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9.Кого ученые называют живыми «фильтрами»водоем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р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лягу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моллю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0.Кого ученые называют санитаром водое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а)прудов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)р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)цап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"Жизнь пресного водоема "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checke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</a:rPr>
              <a:t>Проверь себ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1-б          6-в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2-в          7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3-б          8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4-а          9-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5-в          10-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711360"/>
            <a:ext cx="79214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Растениево́дство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— возделывание культурных растений с целью их использования как источника </a:t>
            </a:r>
            <a:r>
              <a:rPr b="0" i="1" lang="ru-RU" sz="3800" spc="-1" strike="noStrike">
                <a:solidFill>
                  <a:srgbClr val="000000"/>
                </a:solidFill>
                <a:latin typeface="Arial"/>
              </a:rPr>
              <a:t>продуктов питания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, получения продукции для кормовых целей, а также сырья для промышленности и иных, в том числе декоративных целей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258920" y="189000"/>
            <a:ext cx="6543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Отрасли растениеводств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ffff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л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мовые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ерн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диль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ли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ическ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воще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вощ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хче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меноводств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ад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дов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год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Лес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Цветовод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1" descr="1304685089_1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4859280" y="1268280"/>
            <a:ext cx="3960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0"/>
          <p:cNvSpPr/>
          <p:nvPr/>
        </p:nvSpPr>
        <p:spPr>
          <a:xfrm>
            <a:off x="1979640" y="1125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еводство – выращивание полевых куль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11"/>
          <p:cNvSpPr txBox="1"/>
          <p:nvPr/>
        </p:nvSpPr>
        <p:spPr>
          <a:xfrm>
            <a:off x="2195640" y="260280"/>
            <a:ext cx="475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58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"/>
              </a:rPr>
              <a:t>Полеводств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50000">
                    <a:srgbClr val="005800"/>
                  </a:gs>
                  <a:gs pos="100000">
                    <a:srgbClr val="ffff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59" name="Picture 12" descr="251095"/>
          <p:cNvPicPr/>
          <p:nvPr/>
        </p:nvPicPr>
        <p:blipFill>
          <a:blip r:embed="rId1"/>
          <a:stretch/>
        </p:blipFill>
        <p:spPr>
          <a:xfrm>
            <a:off x="250920" y="1700280"/>
            <a:ext cx="3924360" cy="2981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"/>
          <p:cNvPicPr/>
          <p:nvPr/>
        </p:nvPicPr>
        <p:blipFill>
          <a:blip r:embed="rId2"/>
          <a:stretch/>
        </p:blipFill>
        <p:spPr>
          <a:xfrm>
            <a:off x="4465800" y="3500280"/>
            <a:ext cx="44272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1:48:33Z</dcterms:created>
  <dc:creator>Samsung</dc:creator>
  <dc:description/>
  <dc:language>en-US</dc:language>
  <cp:lastModifiedBy>Asus</cp:lastModifiedBy>
  <dcterms:modified xsi:type="dcterms:W3CDTF">2012-12-19T20:29:55Z</dcterms:modified>
  <cp:revision>57</cp:revision>
  <dc:subject/>
  <dc:title>Слайд 1</dc:title>
</cp:coreProperties>
</file>