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43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709-1EC9-44EE-A731-055644C4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5C2-D512-415B-9DEC-41811B27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D01-F0A6-4846-8A19-06F72C8B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E27-F98F-4898-987C-70059BA1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54C-DF01-4FDD-BE7C-1C0843D0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343-0162-4AEF-A353-B69F36E4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67F-65EC-445B-BC94-E8F8673B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E6D-5CD2-44C5-936A-16C0B328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DC9-E5D1-4AAB-ACB1-8E0029C6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EF0-1A71-4AB7-A3C2-1882931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85B-4773-4784-A95D-D108430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689-28DF-4812-BD46-7641748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478C-7E29-4D71-9D82-A17A5D755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ru.wikipedia.org/wiki/&#1060;&#1072;&#1081;&#1083;:Hordeum-barley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ru.wikipedia.org/wiki/&#1060;&#1072;&#1081;&#1083;:Rispenhirse_gr&#252;n.jpg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_sunflow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e/L&#233;gumes_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ru.wikipedia.org/wiki/&#1060;&#1072;&#1081;&#1083;:Watermelons1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lesnyk.ru/photo/plodovij-sad/big/8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7/Floriculture.jpg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Какое растение корнями не прикрепляется ко дну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кувш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У какого растения листья плавают на поверхности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стрело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водоро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куб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971640" y="333360"/>
            <a:ext cx="720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Зерн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700360" y="160668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1863720" cy="2447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116000" y="429264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716360" y="1700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шен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1585990"/>
          <p:cNvPicPr/>
          <p:nvPr/>
        </p:nvPicPr>
        <p:blipFill>
          <a:blip r:embed="rId3"/>
          <a:stretch/>
        </p:blipFill>
        <p:spPr>
          <a:xfrm>
            <a:off x="2784600" y="4221000"/>
            <a:ext cx="351612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5076720" y="422100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Horde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197000"/>
            <a:ext cx="2016000" cy="273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8"/>
          <p:cNvSpPr/>
          <p:nvPr/>
        </p:nvSpPr>
        <p:spPr>
          <a:xfrm>
            <a:off x="900000" y="1268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ячм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Просо обыкновенное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1268280"/>
            <a:ext cx="208908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1"/>
          <p:cNvSpPr/>
          <p:nvPr/>
        </p:nvSpPr>
        <p:spPr>
          <a:xfrm>
            <a:off x="7597800" y="1349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236_2350"/>
          <p:cNvPicPr/>
          <p:nvPr/>
        </p:nvPicPr>
        <p:blipFill>
          <a:blip r:embed="rId8"/>
          <a:stretch/>
        </p:blipFill>
        <p:spPr>
          <a:xfrm>
            <a:off x="6775560" y="4221000"/>
            <a:ext cx="1900080" cy="244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4"/>
          <p:cNvSpPr/>
          <p:nvPr/>
        </p:nvSpPr>
        <p:spPr>
          <a:xfrm>
            <a:off x="7380360" y="423072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ечих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971640" y="18900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Маслич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75" name="Picture 8" descr="Helianthus annu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2325600" cy="309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mage_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24320" y="1268280"/>
            <a:ext cx="237168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usan"/>
          <p:cNvPicPr/>
          <p:nvPr/>
        </p:nvPicPr>
        <p:blipFill>
          <a:blip r:embed="rId4"/>
          <a:stretch/>
        </p:blipFill>
        <p:spPr>
          <a:xfrm>
            <a:off x="6519960" y="1052640"/>
            <a:ext cx="2373120" cy="30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001c4z4z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50920" y="4292640"/>
            <a:ext cx="288108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tmin09"/>
          <p:cNvPicPr/>
          <p:nvPr/>
        </p:nvPicPr>
        <p:blipFill>
          <a:blip r:embed="rId6"/>
          <a:stretch/>
        </p:blipFill>
        <p:spPr>
          <a:xfrm>
            <a:off x="3203640" y="4292640"/>
            <a:ext cx="273672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mjata_03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6012000" y="429264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9"/>
          <p:cNvSpPr/>
          <p:nvPr/>
        </p:nvSpPr>
        <p:spPr>
          <a:xfrm>
            <a:off x="2700360" y="952560"/>
            <a:ext cx="3808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062760" y="1855800"/>
            <a:ext cx="3808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унжу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995640" y="91764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рч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763640" y="624672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арах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987640" y="631836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7791480" y="430200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я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119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ощеводство — это отрасль сельского хозяйства, которая занимается производством овощей для потребления в свежем и переработанном виде, а также для перерабатывающе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Файл:Légumes 01.jpg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50920" y="2617920"/>
            <a:ext cx="4176720" cy="34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400px-Watermelons1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788000" y="2637000"/>
            <a:ext cx="4098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томат"/>
          <p:cNvPicPr/>
          <p:nvPr/>
        </p:nvPicPr>
        <p:blipFill>
          <a:blip r:embed="rId1"/>
          <a:stretch/>
        </p:blipFill>
        <p:spPr>
          <a:xfrm>
            <a:off x="250920" y="1125360"/>
            <a:ext cx="20174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МОРКОВЬ"/>
          <p:cNvPicPr/>
          <p:nvPr/>
        </p:nvPicPr>
        <p:blipFill>
          <a:blip r:embed="rId2"/>
          <a:stretch/>
        </p:blipFill>
        <p:spPr>
          <a:xfrm>
            <a:off x="4716360" y="1125360"/>
            <a:ext cx="2016360" cy="230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ОГУРЕЦ"/>
          <p:cNvPicPr/>
          <p:nvPr/>
        </p:nvPicPr>
        <p:blipFill>
          <a:blip r:embed="rId3"/>
          <a:stretch/>
        </p:blipFill>
        <p:spPr>
          <a:xfrm>
            <a:off x="6877080" y="1125360"/>
            <a:ext cx="2016000" cy="233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АПУСТА"/>
          <p:cNvPicPr/>
          <p:nvPr/>
        </p:nvPicPr>
        <p:blipFill>
          <a:blip r:embed="rId4"/>
          <a:stretch/>
        </p:blipFill>
        <p:spPr>
          <a:xfrm>
            <a:off x="250920" y="4005360"/>
            <a:ext cx="2017440" cy="23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ЛУК (растение)"/>
          <p:cNvPicPr/>
          <p:nvPr/>
        </p:nvPicPr>
        <p:blipFill>
          <a:blip r:embed="rId5"/>
          <a:stretch/>
        </p:blipFill>
        <p:spPr>
          <a:xfrm>
            <a:off x="2411280" y="4005360"/>
            <a:ext cx="208944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свекла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80544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РЕДИС"/>
          <p:cNvPicPr/>
          <p:nvPr/>
        </p:nvPicPr>
        <p:blipFill>
          <a:blip r:embed="rId7"/>
          <a:stretch/>
        </p:blipFill>
        <p:spPr>
          <a:xfrm>
            <a:off x="2411280" y="1125360"/>
            <a:ext cx="2017800" cy="230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ЧЕСНОК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643280" y="4003560"/>
            <a:ext cx="20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3059280" y="260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Бахче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1" name="Picture 7" descr="linoliu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1268280"/>
            <a:ext cx="324180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5435640" y="1251000"/>
            <a:ext cx="3024000" cy="268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photo_075e5a89e9ffa5094662a2e131a0d7ee4e1c4fa9bc8b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413080" y="414972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971640" y="40464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адоводство (плодоводство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1267560"/>
            <a:ext cx="864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ад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: возделыванием многолетних плодовых ил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ягодных культу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лодово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01413-apple-orchard-2-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2708280"/>
            <a:ext cx="4105080" cy="362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Картинка 34 из 78096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572000" y="270828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лод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9" name="Picture 6" descr="0_2054f_96ff16a0_XL"/>
          <p:cNvPicPr/>
          <p:nvPr/>
        </p:nvPicPr>
        <p:blipFill>
          <a:blip r:embed="rId1"/>
          <a:stretch/>
        </p:blipFill>
        <p:spPr>
          <a:xfrm>
            <a:off x="250920" y="126828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3"/>
          <p:cNvPicPr/>
          <p:nvPr/>
        </p:nvPicPr>
        <p:blipFill>
          <a:blip r:embed="rId2"/>
          <a:stretch/>
        </p:blipFill>
        <p:spPr>
          <a:xfrm>
            <a:off x="6227640" y="1268280"/>
            <a:ext cx="261648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4076640"/>
            <a:ext cx="2665440" cy="245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0_5bdd_cb26e4d6_XL"/>
          <p:cNvPicPr/>
          <p:nvPr/>
        </p:nvPicPr>
        <p:blipFill>
          <a:blip r:embed="rId4"/>
          <a:stretch/>
        </p:blipFill>
        <p:spPr>
          <a:xfrm>
            <a:off x="3203640" y="4076640"/>
            <a:ext cx="2662200" cy="24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120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227640" y="4064040"/>
            <a:ext cx="266544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0_2872a_911a0fde_XL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203640" y="1268280"/>
            <a:ext cx="279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260280"/>
            <a:ext cx="65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Ягод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6" name="Picture 6" descr="6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26828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739839494970"/>
          <p:cNvPicPr/>
          <p:nvPr/>
        </p:nvPicPr>
        <p:blipFill>
          <a:blip r:embed="rId2"/>
          <a:stretch/>
        </p:blipFill>
        <p:spPr>
          <a:xfrm>
            <a:off x="3203640" y="1268280"/>
            <a:ext cx="264780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e21b45fbcff9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81560" y="1268280"/>
            <a:ext cx="2711520" cy="235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Skromnica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89360"/>
            <a:ext cx="266544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172_0"/>
          <p:cNvPicPr/>
          <p:nvPr/>
        </p:nvPicPr>
        <p:blipFill>
          <a:blip r:embed="rId5"/>
          <a:stretch/>
        </p:blipFill>
        <p:spPr>
          <a:xfrm>
            <a:off x="6156360" y="3716280"/>
            <a:ext cx="270504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60217409_1276339591_Zemlyanika20C141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203640" y="3789360"/>
            <a:ext cx="2663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260280"/>
            <a:ext cx="575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1196640"/>
            <a:ext cx="8136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Цвет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 селекцией и выращиванием красивоцветущих и других растений в декоративных целях: для срезк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буке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создания оранжерей и зелёных насаждений открытого грунта, а также для украшения жилых и производственных помещен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Файл:Floricult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8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88000" y="3789360"/>
            <a:ext cx="40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00000" y="33336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132000" y="1484280"/>
            <a:ext cx="263232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250920" y="4148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1484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665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951906437"/>
          <p:cNvPicPr/>
          <p:nvPr/>
        </p:nvPicPr>
        <p:blipFill>
          <a:blip r:embed="rId5"/>
          <a:stretch/>
        </p:blipFill>
        <p:spPr>
          <a:xfrm>
            <a:off x="3132000" y="4149720"/>
            <a:ext cx="2664000" cy="253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95f968a5520f1cd85eb60979f0547d4fb41060669793"/>
          <p:cNvPicPr/>
          <p:nvPr/>
        </p:nvPicPr>
        <p:blipFill>
          <a:blip r:embed="rId6"/>
          <a:stretch/>
        </p:blipFill>
        <p:spPr>
          <a:xfrm>
            <a:off x="6227640" y="4149720"/>
            <a:ext cx="2664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Укакого растения семена собраны в коричневый поча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рог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трос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Ягоды какого растения собирают на боло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лю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ма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чер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684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ые кустарники и деревь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4" name="Picture 6" descr="Картинка 4 из 16103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h04800"/>
          <p:cNvPicPr/>
          <p:nvPr/>
        </p:nvPicPr>
        <p:blipFill>
          <a:blip r:embed="rId2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а 9 из 458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322200" y="1125360"/>
            <a:ext cx="187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714920" y="1125360"/>
            <a:ext cx="108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ибик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00720" y="1125360"/>
            <a:ext cx="12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рзи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ena_703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250920" y="3726000"/>
            <a:ext cx="2305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Чебушник (жасми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6a00d8341bfde553ef0120a62114b6970b-320wi"/>
          <p:cNvPicPr/>
          <p:nvPr/>
        </p:nvPicPr>
        <p:blipFill>
          <a:blip r:embed="rId5"/>
          <a:stretch/>
        </p:blipFill>
        <p:spPr>
          <a:xfrm>
            <a:off x="3132000" y="3716280"/>
            <a:ext cx="288000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9"/>
          <p:cNvSpPr/>
          <p:nvPr/>
        </p:nvSpPr>
        <p:spPr>
          <a:xfrm>
            <a:off x="3203640" y="371628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ортенз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13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22764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6299280" y="372600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шипов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971640" y="0"/>
            <a:ext cx="72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Комнатное 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7" name="Picture 6" descr="photo-07-rebuciia-kaktusovy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dsc01052"/>
          <p:cNvPicPr/>
          <p:nvPr/>
        </p:nvPicPr>
        <p:blipFill>
          <a:blip r:embed="rId2"/>
          <a:stretch/>
        </p:blipFill>
        <p:spPr>
          <a:xfrm>
            <a:off x="3132000" y="1268280"/>
            <a:ext cx="288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Gloxiniaavanti_enl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5636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47780101407d8228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4149720"/>
            <a:ext cx="271764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Картинка 6 из 998"/>
          <p:cNvPicPr/>
          <p:nvPr/>
        </p:nvPicPr>
        <p:blipFill>
          <a:blip r:embed="rId5"/>
          <a:stretch/>
        </p:blipFill>
        <p:spPr>
          <a:xfrm>
            <a:off x="3132000" y="4149720"/>
            <a:ext cx="288000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Картинка 14 из 109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156360" y="4149720"/>
            <a:ext cx="273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971640" y="26496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Лекарственные раст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4" name="Picture 6" descr="0_12364_3e1c43c2_XL"/>
          <p:cNvPicPr/>
          <p:nvPr/>
        </p:nvPicPr>
        <p:blipFill>
          <a:blip r:embed="rId1"/>
          <a:stretch/>
        </p:blipFill>
        <p:spPr>
          <a:xfrm>
            <a:off x="250920" y="1125360"/>
            <a:ext cx="2665440" cy="229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_8a1d_8e5e6479_XL"/>
          <p:cNvPicPr/>
          <p:nvPr/>
        </p:nvPicPr>
        <p:blipFill>
          <a:blip r:embed="rId2"/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0a065ee7ea3463928bbc894ad3037ef5"/>
          <p:cNvPicPr/>
          <p:nvPr/>
        </p:nvPicPr>
        <p:blipFill>
          <a:blip r:embed="rId3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0a35d738c20632065f94c91eadd6c420"/>
          <p:cNvPicPr/>
          <p:nvPr/>
        </p:nvPicPr>
        <p:blipFill>
          <a:blip r:embed="rId4"/>
          <a:stretch/>
        </p:blipFill>
        <p:spPr>
          <a:xfrm>
            <a:off x="250920" y="3573360"/>
            <a:ext cx="2665440" cy="314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0a199e20a8d4df4d19af9ca2d621ef56"/>
          <p:cNvPicPr/>
          <p:nvPr/>
        </p:nvPicPr>
        <p:blipFill>
          <a:blip r:embed="rId5"/>
          <a:stretch/>
        </p:blipFill>
        <p:spPr>
          <a:xfrm>
            <a:off x="6227640" y="3583080"/>
            <a:ext cx="2665440" cy="315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Valerianaofficinalis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059280" y="3835440"/>
            <a:ext cx="3025440" cy="2689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7"/>
          <p:cNvSpPr/>
          <p:nvPr/>
        </p:nvSpPr>
        <p:spPr>
          <a:xfrm>
            <a:off x="177840" y="3078000"/>
            <a:ext cx="288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омашка лекарственн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6804000" y="112536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укуру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922560" y="119700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аленду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411280" y="379872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алерья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898560" y="358308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ава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580000" y="630864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алф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Отрасли растениеводства в нашем кр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Башкортостане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развиты отрасли: полеводство, овощ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ыращивают полевые культу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ов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Элина\Desktop\картинки к урокам\расения татарстана\рапсовое поле в Т масляничное растен.jpg"/>
          <p:cNvPicPr/>
          <p:nvPr/>
        </p:nvPicPr>
        <p:blipFill>
          <a:blip r:embed="rId1"/>
          <a:stretch/>
        </p:blipFill>
        <p:spPr>
          <a:xfrm>
            <a:off x="3132000" y="3213000"/>
            <a:ext cx="287352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Элина\Desktop\картинки (2)\Новая папка\злаковые\пшеница.jpg"/>
          <p:cNvPicPr/>
          <p:nvPr/>
        </p:nvPicPr>
        <p:blipFill>
          <a:blip r:embed="rId2"/>
          <a:stretch/>
        </p:blipFill>
        <p:spPr>
          <a:xfrm>
            <a:off x="179280" y="3141720"/>
            <a:ext cx="2835360" cy="1895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Элина\Desktop\картинки (2)\Новая папка\злаковые\0_555f1_57975efb_XL.jpg"/>
          <p:cNvPicPr/>
          <p:nvPr/>
        </p:nvPicPr>
        <p:blipFill>
          <a:blip r:embed="rId3"/>
          <a:stretch/>
        </p:blipFill>
        <p:spPr>
          <a:xfrm>
            <a:off x="6084720" y="3141720"/>
            <a:ext cx="2832120" cy="189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Элина\Desktop\картинки к урокам\kartofiel[1].jpg"/>
          <p:cNvPicPr/>
          <p:nvPr/>
        </p:nvPicPr>
        <p:blipFill>
          <a:blip r:embed="rId4"/>
          <a:stretch/>
        </p:blipFill>
        <p:spPr>
          <a:xfrm>
            <a:off x="1835280" y="5124600"/>
            <a:ext cx="2160360" cy="159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Элина\Desktop\картинки к урокам\kapusta[1].jpg"/>
          <p:cNvPicPr/>
          <p:nvPr/>
        </p:nvPicPr>
        <p:blipFill>
          <a:blip r:embed="rId5"/>
          <a:stretch/>
        </p:blipFill>
        <p:spPr>
          <a:xfrm>
            <a:off x="4284720" y="5157720"/>
            <a:ext cx="2009880" cy="1505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Элина\Desktop\картинки к урокам\0_48d96_5c660125_XL.jpg"/>
          <p:cNvPicPr/>
          <p:nvPr/>
        </p:nvPicPr>
        <p:blipFill>
          <a:blip r:embed="rId6"/>
          <a:stretch/>
        </p:blipFill>
        <p:spPr>
          <a:xfrm>
            <a:off x="6588000" y="5132520"/>
            <a:ext cx="2298960" cy="15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Нельзя обойт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шеница, рожь- получают муку, пекут хле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2DC3-9760-4239-AD2C-C115E4A75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Элина\Desktop\картинки (2)\0_15893_d77fc4c0_XL.jpg"/>
          <p:cNvPicPr/>
          <p:nvPr/>
        </p:nvPicPr>
        <p:blipFill>
          <a:blip r:embed="rId1"/>
          <a:stretch/>
        </p:blipFill>
        <p:spPr>
          <a:xfrm>
            <a:off x="1547640" y="184464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Овощ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6E7D-5235-4C45-A3E3-7B957488A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Users\Элина\Desktop\картинки к урокам\70ad9b812dd1[1].jpg"/>
          <p:cNvPicPr/>
          <p:nvPr/>
        </p:nvPicPr>
        <p:blipFill>
          <a:blip r:embed="rId1"/>
          <a:stretch/>
        </p:blipFill>
        <p:spPr>
          <a:xfrm>
            <a:off x="2411280" y="1413000"/>
            <a:ext cx="6408720" cy="424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250920" y="5084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итам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полезные для здоровья ве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фитонци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E58B-0BC0-4BFE-BF03-485EEFBFD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Элина\Desktop\картинки (2)\Новая папка\злаковые\плоды гречихи Татарской.jpg"/>
          <p:cNvPicPr/>
          <p:nvPr/>
        </p:nvPicPr>
        <p:blipFill>
          <a:blip r:embed="rId1"/>
          <a:stretch/>
        </p:blipFill>
        <p:spPr>
          <a:xfrm>
            <a:off x="250920" y="134136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Элина\Desktop\картинки к урокам\1951.jpg"/>
          <p:cNvPicPr/>
          <p:nvPr/>
        </p:nvPicPr>
        <p:blipFill>
          <a:blip r:embed="rId2"/>
          <a:stretch/>
        </p:blipFill>
        <p:spPr>
          <a:xfrm>
            <a:off x="3348000" y="3141720"/>
            <a:ext cx="2367000" cy="3382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Элина\Desktop\картинки к урокам\PR20100721151641.JPG"/>
          <p:cNvPicPr/>
          <p:nvPr/>
        </p:nvPicPr>
        <p:blipFill>
          <a:blip r:embed="rId3"/>
          <a:stretch/>
        </p:blipFill>
        <p:spPr>
          <a:xfrm>
            <a:off x="5892840" y="1341360"/>
            <a:ext cx="3071880" cy="2303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61128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греч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КРУ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4054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1"/>
          <p:cNvSpPr/>
          <p:nvPr/>
        </p:nvSpPr>
        <p:spPr>
          <a:xfrm>
            <a:off x="3348000" y="1484280"/>
            <a:ext cx="251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ячмень (перловая крупа)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2"/>
          <p:cNvSpPr/>
          <p:nvPr/>
        </p:nvSpPr>
        <p:spPr>
          <a:xfrm>
            <a:off x="6084720" y="39337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росо (пше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Подсолнечник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одсолнечное масло                      сем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4F0D-5C14-45D1-9505-868A5B993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Users\Элина\Desktop\картинки (2)\Новая папка\злаковые\0_4408c_7ba1b1bf_XL.jpg"/>
          <p:cNvPicPr/>
          <p:nvPr/>
        </p:nvPicPr>
        <p:blipFill>
          <a:blip r:embed="rId1"/>
          <a:stretch/>
        </p:blipFill>
        <p:spPr>
          <a:xfrm>
            <a:off x="4140360" y="227664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Элина\Desktop\картинки к урокам\6700694-1-original.jpg"/>
          <p:cNvPicPr/>
          <p:nvPr/>
        </p:nvPicPr>
        <p:blipFill>
          <a:blip r:embed="rId2"/>
          <a:stretch/>
        </p:blipFill>
        <p:spPr>
          <a:xfrm>
            <a:off x="250920" y="2349360"/>
            <a:ext cx="35859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Лё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льняное масло                                   вол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1FEE-F5BD-4C1F-9CC6-541877164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Элина\Desktop\картинки (2)\Новая папка\злаковые\0_4605a_23df8f9a_XL.jpg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288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Элина\Desktop\картинки к урокам\льняное масло.jpg"/>
          <p:cNvPicPr/>
          <p:nvPr/>
        </p:nvPicPr>
        <p:blipFill>
          <a:blip r:embed="rId2"/>
          <a:stretch/>
        </p:blipFill>
        <p:spPr>
          <a:xfrm>
            <a:off x="4572000" y="2781360"/>
            <a:ext cx="1854360" cy="323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Элина\Desktop\картинки (2)\Новая папка\злаковые\ткацкий станок лен.jpg"/>
          <p:cNvPicPr/>
          <p:nvPr/>
        </p:nvPicPr>
        <p:blipFill>
          <a:blip r:embed="rId3"/>
          <a:stretch/>
        </p:blipFill>
        <p:spPr>
          <a:xfrm>
            <a:off x="6516720" y="1628640"/>
            <a:ext cx="21924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Фрукты, 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витам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9CBD-E257-4F65-90FB-4872FE77AC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Users\Элина\Desktop\картинки к урокам\220c201020yogurt[1]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Какое растение является хищ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рос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Почему клопы-водомерки не тон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ни очень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они умеют пл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их ножки покрыты жи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24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ДУКТЫ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3640" y="5157720"/>
            <a:ext cx="350532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796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М ДЛЯ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940360" y="3500280"/>
            <a:ext cx="3024360" cy="122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708360" y="2060640"/>
            <a:ext cx="1944720" cy="151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 flipV="1">
            <a:off x="2556000" y="1700280"/>
            <a:ext cx="100800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5222880" y="3645000"/>
            <a:ext cx="64440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952880" y="4038480"/>
            <a:ext cx="45720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5796000" y="1699920"/>
            <a:ext cx="1224000" cy="863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3500280"/>
            <a:ext cx="302400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352320" y="3657600"/>
            <a:ext cx="576360" cy="431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755640" y="5157720"/>
            <a:ext cx="36576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3809520" y="4038480"/>
            <a:ext cx="38124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7.Чем питаются р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статками мертвы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личинками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.Какой моллюск не является двустворчат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ат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пер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безз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.Кого ученые называют живыми «фильтрами»водое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ляг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0.Кого ученые называют санитаром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прудо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цап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-б          6-в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-в          7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3-б          8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4-а          9-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5-в          10-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1280" y="711360"/>
            <a:ext cx="79214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стениево́дство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— возделывание культурных растений с целью их использования как источника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родуктов пит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получения продукции для кормовых целей, а также сырья для промышленности и иных, в том числе декоративных целей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58920" y="189000"/>
            <a:ext cx="6543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расли растениевод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овые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рн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ди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и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вощ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хче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од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д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од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ес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вет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1" descr="1304685089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859280" y="1268280"/>
            <a:ext cx="396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79640" y="1125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водство – выращивание полев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л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" name="Picture 12" descr="251095"/>
          <p:cNvPicPr/>
          <p:nvPr/>
        </p:nvPicPr>
        <p:blipFill>
          <a:blip r:embed="rId1"/>
          <a:stretch/>
        </p:blipFill>
        <p:spPr>
          <a:xfrm>
            <a:off x="250920" y="1700280"/>
            <a:ext cx="392436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4465800" y="3500280"/>
            <a:ext cx="4427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1:48:33Z</dcterms:created>
  <dc:creator>Samsung</dc:creator>
  <dc:description/>
  <dc:language>en-US</dc:language>
  <cp:lastModifiedBy>Asus</cp:lastModifiedBy>
  <dcterms:modified xsi:type="dcterms:W3CDTF">2012-12-19T20:29:55Z</dcterms:modified>
  <cp:revision>57</cp:revision>
  <dc:subject/>
  <dc:title>Слайд 1</dc:title>
</cp:coreProperties>
</file>