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AAB9-242E-4CD8-965E-3192EA9E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1BE-4C9F-4968-A72A-0EC2FA28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DEC7-41D7-44D8-9C78-CAB89E8C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ADE-A494-4043-97B4-DF04830D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19C6-5CA2-42F9-864B-5280ADD2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DFA9-90B5-46DC-945E-C59419D4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0BBF-AD04-4A10-8707-430668E7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DD9D-038A-4CC3-A919-CA8737A9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4966-0C9A-4B0E-9CDA-F663AA13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F2B5-2327-4EF9-BA64-76386DFD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D175-6DB5-440D-BDDD-704AE96D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2648-965D-4823-B8DE-9BA065AF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1496-D234-478A-87A4-B7C9440B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EC8D-6E50-4394-8643-1327DDB5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C7A0-3FA7-4B70-8F9A-8FE9B65D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9343-3322-4396-BFAC-0D1368F4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12BE-CE6C-467E-A92E-EA5A7B05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A460-328E-4C7C-A15E-B1530492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FFCD-8B73-4FCD-BB1C-4C1E1B48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920-AD7C-4026-80F1-2E210207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863-3001-49E6-8C10-EABD1D91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231-9092-4204-9152-5422FF1B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D8CB-8162-4AC4-8E4D-4C9782E5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991B-00BB-47F9-9D9B-DA5BD2F1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6825-8342-4451-BB54-BB2C6983080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C910-0FEB-46F4-8801-120A71CA9DE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8 класс: Теорема Пифагора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9 класс: Теорема синусов. Теорема                       косинус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835280" y="3933720"/>
            <a:ext cx="6840360" cy="24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Умение решать задачи – такое же практическое искусство. Ему можно научиться только путем подражания или упражн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. Пой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ь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16000" y="2637000"/>
          <a:ext cx="6000840" cy="2844720"/>
        </p:xfrm>
        <a:graphic>
          <a:graphicData uri="http://schemas.openxmlformats.org/drawingml/2006/table">
            <a:tbl>
              <a:tblPr/>
              <a:tblGrid>
                <a:gridCol w="1000080"/>
                <a:gridCol w="1000440"/>
                <a:gridCol w="1000080"/>
                <a:gridCol w="1000080"/>
                <a:gridCol w="1000080"/>
                <a:gridCol w="1000080"/>
              </a:tblGrid>
              <a:tr h="14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ебудет вечной истина, как скор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е познает слабый человек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 ныне теорема Пифаго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ерна, как и в его далекий ве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тобы спорилось нужное дело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тобы в жизни не знать неудач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ы на поиск отправимся смело –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мир загадок и сложных задач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 беда, что идти далеко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 не бойтесь, что путь будет труден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остижения крупные людям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икогда не давались легко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3644640"/>
            <a:ext cx="858996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Геометрия владеет двумя сокровищами: одно из них – теорема Пифагора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…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                                            И. Кепле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res06F9589B-85BB-44D7-BF57-4F19C71ABAD9" descr=""/>
          <p:cNvPicPr/>
          <p:nvPr/>
        </p:nvPicPr>
        <p:blipFill>
          <a:blip r:embed="rId2"/>
          <a:stretch/>
        </p:blipFill>
        <p:spPr>
          <a:xfrm>
            <a:off x="6948360" y="476280"/>
            <a:ext cx="1816200" cy="2359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1332000" y="333360"/>
            <a:ext cx="49435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катеты,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гипотеза. Верно ли, чт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 б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с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в)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катеты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гипотеза. Верно ли, чт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 б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в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3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теты прямоугольного треугольника равны 3 см и 4 см. Верно ли, что гипотенуза этого треугольника равн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а) 7 см;         б) 5 см             в) 25 см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4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дин из катетов прямоугольного треугольника равен 8 см, а гипотенуза – 10 см. Верно ли, что второй катет этого треугольника равен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2 см;         б) 6 см         в) 10 см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5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ве стороны треугольника равны 10 см и 5 см. Какой должна быть третья сторона треугольника, чтобы  он был прямоугольным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15 см;     б) 125 см;     в) 5√5 см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6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акой из треугольников является прямоугольным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Со сторонами: 2 см; 4 см; 2√3 с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) Со сторонами: 6 см; 8 см; 14 с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) Со сторонами: 5 см; 4 см; 20 см 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28:52Z</dcterms:created>
  <dc:creator>Мелкомуковы</dc:creator>
  <dc:description/>
  <dc:language>en-US</dc:language>
  <cp:lastModifiedBy>*****</cp:lastModifiedBy>
  <dcterms:modified xsi:type="dcterms:W3CDTF">2012-12-27T04:28:12Z</dcterms:modified>
  <cp:revision>5</cp:revision>
  <dc:subject/>
  <dc:title>8 класс: Теорема Пифагора 9 класс: Решение треугольников</dc:title>
</cp:coreProperties>
</file>