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4ABA-7419-417D-868F-532B078A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0CA-A71D-4DD6-AA05-CBA3E392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A1F-8898-4125-862D-4ACA424D0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B9C-9C64-4114-A88B-D9B285DA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FB0F-70C5-4B59-BBD7-3BDBCD05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E4F9-027B-4A7C-B4EB-C494601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5D6E-E717-492B-B12C-C16A0026E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59A6-7A81-445D-BFBD-85F75E3A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DEB5-9C30-4116-BA3E-68E6CF7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567D-AF1C-4A82-B582-56E0E34E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BBC7-AEA1-41F6-80C8-39F56EBF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70E9-54B4-4650-95C9-E819ED0B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FF7DB-C971-429E-9CA9-DC6EA15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FC07-54D7-442F-963A-897DABB8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1ACC-75DC-4272-96C8-B54E689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D1D-3C9F-45E0-8FE6-70D56ABF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31FD-230E-419E-BEC7-85FCEB19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566-63CF-4139-8E01-9BADE48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D5C-9FC5-43D6-9B72-BFA42E1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9934-34F0-4198-85E9-B5874FD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941-6E51-42D8-B821-32C996C5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59F-E4B4-40AF-8A43-056D4D00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5DE9-439C-49A9-8830-E587575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313-D903-409D-9396-5D2A48F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D13-A221-4D8A-ABBC-62900CFC8B6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9D58-1483-47EE-B958-0119102C2E8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20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8 класс: Теорема Пифагор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9 класс: Теорема синусов. Теорема                       косинусо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933720"/>
            <a:ext cx="6840360" cy="24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Умение решать задачи – такое же практическое искусство. Ему можно научиться только путем подражания или упражн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. Пой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оверь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16000" y="2637000"/>
          <a:ext cx="6000840" cy="2844720"/>
        </p:xfrm>
        <a:graphic>
          <a:graphicData uri="http://schemas.openxmlformats.org/drawingml/2006/table">
            <a:tbl>
              <a:tblPr/>
              <a:tblGrid>
                <a:gridCol w="1000080"/>
                <a:gridCol w="1000440"/>
                <a:gridCol w="1000080"/>
                <a:gridCol w="1000080"/>
                <a:gridCol w="1000080"/>
                <a:gridCol w="1000080"/>
              </a:tblGrid>
              <a:tr h="14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ебудет вечной истина, как скор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е познает слабый человек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ыне теорема Пифаго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ерна, как и в его далекий в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спорилось нужное дело,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Чтобы в жизни не знать неудач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Мы на поиск отправимся смело –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мир загадок и сложных задач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е беда, что идти далеко,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И не бойтесь, что путь будет труден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остижения крупные людям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Никогда не давались легко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5899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Геометрия владеет двумя сокровищами: одно из них – теорема Пифагора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…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                                            И. Кеплер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es06F9589B-85BB-44D7-BF57-4F19C71ABAD9" descr=""/>
          <p:cNvPicPr/>
          <p:nvPr/>
        </p:nvPicPr>
        <p:blipFill>
          <a:blip r:embed="rId2"/>
          <a:stretch/>
        </p:blipFill>
        <p:spPr>
          <a:xfrm>
            <a:off x="6948360" y="476280"/>
            <a:ext cx="1816200" cy="23590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332000" y="333360"/>
            <a:ext cx="49435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с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– катеты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– гипотеза. Верно ли, чт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 б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; в)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3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Катеты прямоугольного треугольника равны 3 см и 4 см. Верно ли, что гипотенуза этого треугольника равна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а) 7 см;         б) 5 см             в) 25 см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4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дин из катетов прямоугольного треугольника равен 8 см, а гипотенуза – 10 см. Верно ли, что второй катет этого треугольника равен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2 см;         б) 6 см         в) 10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5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Две стороны треугольника равны 10 см и 5 см. Какой должна быть третья сторона треугольника, чтобы  он был прямоугольным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15 см;     б) 125 см;     в) 5√5 см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6. Выбери правильный ответ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Какой из треугольников является прямоугольным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) Со сторонами: 2 см; 4 см; 2√3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б) Со сторонами: 6 см; 8 см; 14 см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) Со сторонами: 5 см; 4 см; 20 см 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09:28:52Z</dcterms:created>
  <dc:creator>Мелкомуковы</dc:creator>
  <dc:description/>
  <dc:language>en-US</dc:language>
  <cp:lastModifiedBy>*****</cp:lastModifiedBy>
  <dcterms:modified xsi:type="dcterms:W3CDTF">2012-12-27T04:28:12Z</dcterms:modified>
  <cp:revision>5</cp:revision>
  <dc:subject/>
  <dc:title>8 класс: Теорема Пифагора 9 класс: Решение треугольников</dc:title>
</cp:coreProperties>
</file>