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CD14-2487-4CC5-A632-CF56D06B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A2E5-6182-49D8-8782-E2DE3EC4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E088-A46B-496E-AA8D-407C0D54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6B94-4493-4D7F-96D2-EEB88E79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0B240-E189-4942-9867-9C2ACCB9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EAD7B-0CD0-4239-B114-33B3ACBC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2BAAA-25AE-40F0-8D8D-38A6F693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BD8B9-BD14-4272-8758-C70F686C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E87E2-EE8B-4495-82DD-5F4E76F1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20835-F69D-49EE-AB2E-A0A26E3B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79E3C-222C-490E-B4F5-F224D46B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A123-0F5C-4E5A-B9EC-6B2A66F8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B2249-B73F-4E94-9BCE-2B400503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C92EC-4AD9-477D-81A6-87E77A16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C13AF-4FE3-4BFE-A019-5BAAAE2F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0343D-EA2F-4ACC-95B9-8BC5794D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E0F29-5254-4599-AF35-8734DAA9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2740-CB80-4313-94C4-BAD19D9C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26C1-294E-4545-AD73-DC42A0B4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E408-9BC6-4EA0-9D1F-95B2F3E3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FB9B-AC31-4BDC-9234-9DC4395D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A3D8-EC7C-4694-B76C-55FC5EEC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78F7-547B-4895-B056-8DDF2CCC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4F18-469B-419D-BAE7-7CB8BDA8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18A4-1E88-4105-B527-1EBD0C0478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30E8-922D-40AB-91D8-4CC0A45876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Природа Центральной России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дание на «3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ечислите в своих тетрадях факторы формирования Центрального райо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ние на «4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Используя материалы учебника (&amp;30) и карты атласа, охарактеризуйте особенности природы Центральной России. Заполните таблицу в своих тетрадя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371600" y="1295280"/>
          <a:ext cx="6324480" cy="3152880"/>
        </p:xfrm>
        <a:graphic>
          <a:graphicData uri="http://schemas.openxmlformats.org/drawingml/2006/table">
            <a:tbl>
              <a:tblPr/>
              <a:tblGrid>
                <a:gridCol w="2971800"/>
                <a:gridCol w="3352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прир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логическое стро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езные ископаем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рельеф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им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чв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ти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вотный ми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228600" y="464796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Задание 8 в рабочей тетради на стр. 6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пользуя материалы учебника (&amp;30) и карты атласа, охарактеризуйте главные отрасли природы района, их влияние на жизнь и хозяйственную деятельность людей и запишите их в тетрад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ние на «5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контурной карте «Центральная Россия» отметьт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крупные города, ре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) страны и районы-сосед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Проверяем!!!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адание на оценку «3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акторы формирования район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нтральность поло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личность полож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иентация на привозное сырь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Задание на оценку «4»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685800"/>
          <a:ext cx="8229600" cy="6100920"/>
        </p:xfrm>
        <a:graphic>
          <a:graphicData uri="http://schemas.openxmlformats.org/drawingml/2006/table">
            <a:tbl>
              <a:tblPr/>
              <a:tblGrid>
                <a:gridCol w="3276720"/>
                <a:gridCol w="495288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прир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логическое стро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ревняя докембрийская Русская платфор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езные ископаем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урый уголь,торф,строительные материалы, железные руды, фосфори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рельеф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точно-Европейская равн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им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ренно континент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чв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рново-подзолистые, бурые лесные, серые лесные, чернозе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титель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темнохвойной тайги на севере до широколиственных лесов в более южных районах. Ещё южнее лесостепи и степ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вотный ми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лагородный олень, лось, кабан, зубр, бобр, выхухо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адание на оценку «4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сные ресурсы  являются важнейшим природным ресурсом, хотя запасы древесины в целом не очень велики. В ходе длительной эксплуатации лесные ресурсы, особенно хвойные породы, сильно исчерпаны и заготовка древесины сокращаетс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чень хорошо освоены рекреационные ресурсы Центральной России. Её живописные ландшафты – чудесные места отдыха. Культурное значение имеют исторические и природные памятн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адание на оценку «5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а) Крупные города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Владимир, Иваново, Кострома, Тверь, Ярославль, Калуга, Москва, Брянск, Орёл, Рязань, Смоленск, Тула, Белгород, Воронеж, Курск, Липецк, Тамбов, Йошкар-Ола, Саранск, Чебоксары, Киров, Нижний Новгоро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Крупные реки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Волга, Ока, Д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б) Страны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Белоруссия, Украи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Районы-соседи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Северо-Западный район, Европейский Север, Уральский район, Поволжье, Европейский Ю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N_OS</cp:lastModifiedBy>
  <dcterms:modified xsi:type="dcterms:W3CDTF">2012-12-20T20:50:1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