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5A51-0A13-442F-AB68-28829455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4DC4-CA30-439C-8444-79EE6964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1214-0098-45B0-A369-971B515DD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D76E-EEB0-4A67-B75A-933757A69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CFA3D-F775-4F27-8024-9C484DF9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4BFB1-5175-415F-8878-1DAB91AD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32253-8E52-49A6-BA6F-25AA5363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AD5E7-DD8A-4D3B-B7A7-0F6B63C7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01E1F-029F-4614-9908-C9AD9C1B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3889A-792A-4867-AA38-7940A72A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3F8AE-59A1-4FF3-8D91-F7BD3B79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AA58-5D85-44A6-88C9-494B8437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70B15-CD72-4560-B8E4-3022FAF7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4CE9D-4EBB-4A83-9865-6A135588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69BB7-6B72-47B4-9B76-3C3315C9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383FB-FE84-4F57-84B4-306BE5433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85709-42CD-4238-9619-FE191B67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DFFC-97D2-4F0D-BBE0-7524A637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E38A-A11D-45C6-B7BB-B735F838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5EDF-A332-49A3-A083-5920BC52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07C9-F96F-4540-BB35-A01085B0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4F55-3168-467E-B2AA-02101F30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3E34-6729-4058-833B-4E9ED6C8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90C8-E2BE-40B9-8C1E-C4078270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D52E-F1DE-437B-BCCB-B2F8EA3AB2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17B5-5E2B-46BF-A04F-59E87542C1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Природа Центральной России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дание на «3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речислите в своих тетрадях факторы формирования Центрального райо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ние на «4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Используя материалы учебника (&amp;30) и карты атласа, охарактеризуйте особенности природы Центральной России. Заполните таблицу в своих тетрадя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371600" y="1295280"/>
          <a:ext cx="6324480" cy="3152880"/>
        </p:xfrm>
        <a:graphic>
          <a:graphicData uri="http://schemas.openxmlformats.org/drawingml/2006/table">
            <a:tbl>
              <a:tblPr/>
              <a:tblGrid>
                <a:gridCol w="2971800"/>
                <a:gridCol w="3352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прир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ологическое стро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езные ископаем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рельеф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лима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чв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тите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вотный ми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228600" y="464796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Задание 8 в рабочей тетради на стр. 6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спользуя материалы учебника (&amp;30) и карты атласа, охарактеризуйте главные отрасли природы района, их влияние на жизнь и хозяйственную деятельность людей и запишите их в тетрад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дание на «5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контурной карте «Центральная Россия» отметьт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) крупные города, ре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) страны и районы-сосед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Проверяем!!!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Задание на оценку «3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акторы формирования район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нтральность полож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оличность полож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иентация на привозное сырь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Задание на оценку «4»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685800"/>
          <a:ext cx="8229600" cy="6100920"/>
        </p:xfrm>
        <a:graphic>
          <a:graphicData uri="http://schemas.openxmlformats.org/drawingml/2006/table">
            <a:tbl>
              <a:tblPr/>
              <a:tblGrid>
                <a:gridCol w="3276720"/>
                <a:gridCol w="495288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прир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ологическое стро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ревняя докембрийская Русская платфор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езные ископаем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урый уголь,торф,строительные материалы, железные руды, фосфори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рельеф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точно-Европейская равн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лима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меренно континента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чв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рново-подзолистые, бурые лесные, серые лесные, чернозе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титель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темнохвойной тайги на севере до широколиственных лесов в более южных районах. Ещё южнее лесостепи и степ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вотный ми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лагородный олень, лось, кабан, зубр, бобр, выхухо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Задание на оценку «4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сные ресурсы  являются важнейшим природным ресурсом, хотя запасы древесины в целом не очень велики. В ходе длительной эксплуатации лесные ресурсы, особенно хвойные породы, сильно исчерпаны и заготовка древесины сокращаетс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чень хорошо освоены рекреационные ресурсы Центральной России. Её живописные ландшафты – чудесные места отдыха. Культурное значение имеют исторические и природные памятни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Задание на оценку «5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а) Крупные города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Владимир, Иваново, Кострома, Тверь, Ярославль, Калуга, Москва, Брянск, Орёл, Рязань, Смоленск, Тула, Белгород, Воронеж, Курск, Липецк, Тамбов, Йошкар-Ола, Саранск, Чебоксары, Киров, Нижний Новгоро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Крупные реки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Волга, Ока, До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б) Страны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Белоруссия, Украи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Районы-соседи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Северо-Западный район, Европейский Север, Уральский район, Поволжье, Европейский Ю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N_OS</cp:lastModifiedBy>
  <dcterms:modified xsi:type="dcterms:W3CDTF">2012-12-20T20:50:13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