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5.gif" ContentType="image/gif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gif" ContentType="image/gi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AC3-D5D9-46E6-A67A-D72504F8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7AF-9378-460B-A018-FCBBC827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877-9C04-4FC3-A802-B9EA27FA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B52-25E9-46B5-B17F-B8F6EB2F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1C9-82F9-450B-BD66-86ACA7BE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F48-9F5C-4EAA-A9AF-DCEDD5D5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62EA-9160-434C-A80A-927ACCF6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1B7-1864-4192-9B7F-5147C54F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236-49D9-41F2-B0AD-F839F9ED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3C20-FA9A-49B2-B6FB-6CF8DA96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840-A7FF-42B5-BD39-3C4BF81B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9F3-B28A-4670-8C92-C3F1CDF1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9501-E1FF-4B03-AC6C-54D77749820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F961-E66C-4E2F-B91F-6E2E8A1A8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png"/><Relationship Id="rId12" Type="http://schemas.openxmlformats.org/officeDocument/2006/relationships/image" Target="../media/image9.gif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 rot="20890200">
            <a:off x="1289160" y="1317600"/>
            <a:ext cx="7358040" cy="457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Тема: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реда программирования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Pascal АВС.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труктура программы.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189000"/>
            <a:ext cx="38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7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D819-617B-4551-88E6-DE32D0EE359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EDB3-090A-4FB0-B3A5-4ABEEA828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Объект 5" descr=""/>
          <p:cNvPicPr/>
          <p:nvPr/>
        </p:nvPicPr>
        <p:blipFill>
          <a:blip r:embed="rId1"/>
          <a:srcRect l="0" t="0" r="42475" b="27765"/>
          <a:stretch/>
        </p:blipFill>
        <p:spPr>
          <a:xfrm>
            <a:off x="0" y="333360"/>
            <a:ext cx="9155160" cy="5543640"/>
          </a:xfrm>
          <a:prstGeom prst="rect">
            <a:avLst/>
          </a:prstGeom>
          <a:ln w="0">
            <a:noFill/>
          </a:ln>
        </p:spPr>
      </p:pic>
      <p:sp>
        <p:nvSpPr>
          <p:cNvPr id="8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1F72-8A30-45CA-AA82-490983F0E15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0F91-C2EE-43F4-ADB0-6F5D3435ED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47"/>
          <p:cNvPicPr/>
          <p:nvPr/>
        </p:nvPicPr>
        <p:blipFill>
          <a:blip r:embed="rId1"/>
          <a:stretch/>
        </p:blipFill>
        <p:spPr>
          <a:xfrm>
            <a:off x="0" y="2421000"/>
            <a:ext cx="1979640" cy="266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47"/>
          <p:cNvPicPr/>
          <p:nvPr/>
        </p:nvPicPr>
        <p:blipFill>
          <a:blip r:embed="rId2"/>
          <a:stretch/>
        </p:blipFill>
        <p:spPr>
          <a:xfrm rot="914400">
            <a:off x="394920" y="2997000"/>
            <a:ext cx="1979640" cy="208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bcd7b362ac1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9144000" y="3573360"/>
            <a:ext cx="2952720" cy="23623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2"/>
          <p:cNvSpPr/>
          <p:nvPr/>
        </p:nvSpPr>
        <p:spPr>
          <a:xfrm>
            <a:off x="755640" y="333360"/>
            <a:ext cx="1728720" cy="1150920"/>
          </a:xfrm>
          <a:prstGeom prst="cloudCallout">
            <a:avLst>
              <a:gd name="adj1" fmla="val -53398"/>
              <a:gd name="adj2" fmla="val 31518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bcd7b362ac12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635280" y="2637000"/>
            <a:ext cx="3024360" cy="25444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5"/>
          <p:cNvSpPr/>
          <p:nvPr/>
        </p:nvSpPr>
        <p:spPr>
          <a:xfrm>
            <a:off x="7380360" y="333360"/>
            <a:ext cx="1368360" cy="863640"/>
          </a:xfrm>
          <a:prstGeom prst="cloudCallout">
            <a:avLst>
              <a:gd name="adj1" fmla="val -50115"/>
              <a:gd name="adj2" fmla="val 10296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3059280" y="907920"/>
            <a:ext cx="1369800" cy="865440"/>
          </a:xfrm>
          <a:prstGeom prst="cloudCallout">
            <a:avLst>
              <a:gd name="adj1" fmla="val -49884"/>
              <a:gd name="adj2" fmla="val 4339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8" descr="47"/>
          <p:cNvPicPr/>
          <p:nvPr/>
        </p:nvPicPr>
        <p:blipFill>
          <a:blip r:embed="rId5"/>
          <a:stretch/>
        </p:blipFill>
        <p:spPr>
          <a:xfrm>
            <a:off x="7020000" y="2421000"/>
            <a:ext cx="212400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47"/>
          <p:cNvPicPr/>
          <p:nvPr/>
        </p:nvPicPr>
        <p:blipFill>
          <a:blip r:embed="rId6"/>
          <a:stretch/>
        </p:blipFill>
        <p:spPr>
          <a:xfrm flipH="1" rot="20142000">
            <a:off x="6876360" y="3141720"/>
            <a:ext cx="1512720" cy="208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149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3132000" y="4941720"/>
            <a:ext cx="663840" cy="86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7" descr="149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06728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8" descr="149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665964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0" descr="n_blu050"/>
          <p:cNvPicPr/>
          <p:nvPr/>
        </p:nvPicPr>
        <p:blipFill>
          <a:blip r:embed="rId10"/>
          <a:stretch/>
        </p:blipFill>
        <p:spPr>
          <a:xfrm>
            <a:off x="1979640" y="458136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1" descr="b13"/>
          <p:cNvPicPr/>
          <p:nvPr/>
        </p:nvPicPr>
        <p:blipFill>
          <a:blip r:embed="rId11"/>
          <a:stretch/>
        </p:blipFill>
        <p:spPr>
          <a:xfrm>
            <a:off x="3338640" y="544500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2" descr="n_blu050"/>
          <p:cNvPicPr/>
          <p:nvPr/>
        </p:nvPicPr>
        <p:blipFill>
          <a:blip r:embed="rId12"/>
          <a:stretch/>
        </p:blipFill>
        <p:spPr>
          <a:xfrm>
            <a:off x="5148360" y="551664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b13"/>
          <p:cNvPicPr/>
          <p:nvPr/>
        </p:nvPicPr>
        <p:blipFill>
          <a:blip r:embed="rId13"/>
          <a:stretch/>
        </p:blipFill>
        <p:spPr>
          <a:xfrm>
            <a:off x="6578640" y="458136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103" name="Улыб3414.wav" descr=""/>
          <p:cNvPicPr/>
          <p:nvPr/>
        </p:nvPicPr>
        <p:blipFill>
          <a:blip r:embed="rId14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b2c9562e2641"/>
          <p:cNvPicPr/>
          <p:nvPr/>
        </p:nvPicPr>
        <p:blipFill>
          <a:blip r:embed="rId15">
            <a:lum bright="-6000"/>
          </a:blip>
          <a:stretch/>
        </p:blipFill>
        <p:spPr>
          <a:xfrm>
            <a:off x="2241720" y="2781360"/>
            <a:ext cx="1591920" cy="19666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20"/>
          <p:cNvSpPr/>
          <p:nvPr/>
        </p:nvSpPr>
        <p:spPr>
          <a:xfrm>
            <a:off x="3635280" y="1773360"/>
            <a:ext cx="1297080" cy="1368360"/>
          </a:xfrm>
          <a:prstGeom prst="sun">
            <a:avLst>
              <a:gd name="adj" fmla="val 25000"/>
            </a:avLst>
          </a:prstGeom>
          <a:blipFill rotWithShape="0">
            <a:blip r:embed="rId1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7"/>
          <p:cNvSpPr/>
          <p:nvPr/>
        </p:nvSpPr>
        <p:spPr>
          <a:xfrm>
            <a:off x="8172360" y="6308640"/>
            <a:ext cx="719280" cy="406440"/>
          </a:xfrm>
          <a:prstGeom prst="leftArrow">
            <a:avLst>
              <a:gd name="adj1" fmla="val 50000"/>
              <a:gd name="adj2" fmla="val 442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05486 0.05324 C 0.06632 0.06528 0.08351 0.07199 0.10157 0.07199 C 0.12205 0.07199 0.13837 0.06528 0.14983 0.05324 L 0.20486 -7.40741E-007 E">
                                      <p:cBhvr>
                                        <p:cTn id="5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-0.06997 0.03125 C -0.08455 0.03819 -0.1066 0.04213 -0.129 0.04213 C -0.15504 0.04213 -0.17587 0.03819 -0.19045 0.03125 L -0.2599 2.59259E-006 E">
                                      <p:cBhvr>
                                        <p:cTn id="5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11685 0.05324 C 0.14132 0.06527 0.17813 0.07199 0.21667 0.07199 C 0.26007 0.07199 0.29497 0.06527 0.31945 0.05324 L 0.43716 4.81481E-006 E">
                                      <p:cBhvr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5255 L 0.02812 -0.00995 C 0.03403 -0.02407 0.04288 -0.03148 0.05208 -0.03148 C 0.0625 -0.03148 0.07101 -0.02407 0.07691 -0.00995 L 0.10538 0.05255 E">
                                      <p:cBhvr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0.07535 -0.08611 C 0.09132 -0.10555 0.11511 -0.11551 0.13993 -0.11551 C 0.16806 -0.11551 0.1908 -0.10555 0.20677 -0.08611 L 0.28351 -2.59259E-006 E">
                                      <p:cBhvr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08542 -0.0507 C 0.10348 -0.06273 0.12743 -0.06366 0.15052 -0.05556 C 0.17639 -0.04653 0.19618 -0.03009 0.20764 -0.00764 L 0.26407 0.09282 E">
                                      <p:cBhvr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7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0.00052 0.16042 0.09566 0.28797 0.21337 0.28797 C 0.33021 0.28797 0.425 0.16042 0.42517 -3.33333E-006 C 0.42517 -0.1581 0.33021 -0.28935 0.21215 -0.28935 C 0.09601 -0.28796 2.77778E-007 -0.15926 2.77778E-007 -3.33333E-006 Z">
                                      <p:cBhvr>
                                        <p:cTn id="13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81481E-006 L -0.32274 -0.20486 E">
                                      <p:cBhvr>
                                        <p:cTn id="14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75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-0.20486 L -0.13923 -0.10417 C -0.10069 -0.08149 -0.04323 -0.06829 0.01667 -0.06829 C 0.08525 -0.06829 0.13993 -0.08149 0.17848 -0.10417 L 0.36233 -0.20486 E">
                                      <p:cBhvr>
                                        <p:cTn id="17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78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18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813 -0.17337 L 0.20018 -0.25902 C 0.16337 -0.27824 0.10712 -0.28888 0.04983 -0.28888 C -0.01666 -0.28888 -0.06979 -0.27824 -0.10659 -0.25902 L -0.28333 -0.17337 E">
                                      <p:cBhvr>
                                        <p:cTn id="18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 rot="20890200">
            <a:off x="1739880" y="1601640"/>
            <a:ext cx="6888240" cy="329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Работа 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за компьютером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1C2B-AE2E-4C9E-95D9-FE6C2DEE398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C8D3-3B40-4D82-9C1D-0606C1F3DE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RCTR027"/>
          <p:cNvPicPr/>
          <p:nvPr/>
        </p:nvPicPr>
        <p:blipFill>
          <a:blip r:embed="rId1"/>
          <a:stretch/>
        </p:blipFill>
        <p:spPr>
          <a:xfrm>
            <a:off x="179280" y="1268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4"/>
          <p:cNvSpPr txBox="1"/>
          <p:nvPr/>
        </p:nvSpPr>
        <p:spPr>
          <a:xfrm>
            <a:off x="395280" y="33480"/>
            <a:ext cx="7961400" cy="12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Домашнее  задание: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5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C2FD-EBBD-4214-B333-07905DD5007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7629-B939-441E-946F-B887B692EF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706400" y="1547640"/>
            <a:ext cx="730728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конспе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ть рисунок и составить к нему программу на язы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4ED8-37C0-47A3-B235-2A825712CB5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FE06-CB8D-42DF-93A4-F39D391E09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-36360" y="974880"/>
            <a:ext cx="92660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 rot="20890200">
            <a:off x="1452240" y="1723680"/>
            <a:ext cx="6888240" cy="32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за урок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4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E63E-5E56-4A59-BC80-C4C4B826BE0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B135-97B2-47C6-9787-ACC92DB6F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805040" y="1628640"/>
            <a:ext cx="730728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Georgia"/>
              </a:rPr>
              <a:t>МБОУ Лицей № 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Georgia"/>
              </a:rPr>
              <a:t>г.У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Саликбаева Зульфия Зинну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0606-47E6-4153-A67D-CAB6558F098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FCBD-5B87-4434-A5A8-C8D9EDA71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М.Ушаков, Т.А.Юркова «Паскаль для школьников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estival.1september.ru/articles/620963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etod-kopilk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omp-as.by/index.php?option=com_content&amp;view=article&amp;catid=6%3A7--&amp;id=30%3A7-1-&amp;Itemid=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395280" y="33480"/>
            <a:ext cx="7961400" cy="12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Используемые информационные ресурсы: 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D502-3BDD-4661-845E-3536AAC194B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0B9C-3876-4C5B-93F3-1F62F69D50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понятием «программирование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редой программирования Pascal AB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труктурой програм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бор простейшего оператора выв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ть первичные знания по применению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3E5B-9384-4E4E-8A1B-50C722457B8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44FA-1A76-4F35-9797-D5E79CE1FD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Составление последовательности программ для решения задачи на языке понятном компьютеру называется разработкой программ или программированием. Язык программирования представляет собой набор слов, специальных знаков и команд понятных компьют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03AC-E35F-42A6-BA12-3293B214321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3684-29AA-4B07-8561-6B2BEE1A9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Что такое язык программир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96472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аскаль был разработан швейцарским ученым Никлаусом Виртом (1970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508720" y="1785960"/>
            <a:ext cx="3000240" cy="4057560"/>
          </a:xfrm>
          <a:prstGeom prst="rect">
            <a:avLst/>
          </a:prstGeom>
          <a:ln w="0">
            <a:noFill/>
          </a:ln>
        </p:spPr>
      </p:pic>
      <p:sp>
        <p:nvSpPr>
          <p:cNvPr id="57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4129-ABAC-4CF2-B0A4-FF5C2D72E2B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60D8-4F3C-4135-BE45-616D632694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458640" y="13683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м. Niklaus Wirth, род. 15 февраля 1934) — швейцарский учёный, специалист в области информатики, один из известнейших теоретиков в области разработки языков программирования, профессор компьютерных наук (ETH), Лауреат премии Тьюринга 1984 года. Ведущий разработчик языков Паскаль, Модула-2, Обе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Алфавит языка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24000" y="1143000"/>
            <a:ext cx="822960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6 латинских строчных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к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B C D E F G H I J K L M N O P Q R S T U V W X Y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6 латинских прописных букв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b c d e f g h i j k l m n o p q r s t u v w x y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0 циф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 1 2 3 4 5 6 7 8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наки опер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+   -   *   /   =   &lt;&gt;   &lt;   &gt;   &lt;=   &gt;=   :=  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граничители (разделител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.   ,   '   (   )   [   ]   (.  .)   {  }  (*  *)   ..   :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черкивание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фикаторы: 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^  # 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FFFD-ADDF-4A62-B612-14C3C821013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3BF9-1E6F-4BF2-AAE8-2700397FDC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труктура программы Pascal А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547640" y="1268280"/>
            <a:ext cx="60487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головок программы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program</a:t>
            </a: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я_Программы;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дел описаний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var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я_Переме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дел операторов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1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2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N&gt;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nd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AD35-064B-443F-9B49-BED6169C748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EBA8-9A61-4776-B4B1-892A921FA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28440" y="1785600"/>
            <a:ext cx="378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wanow_Petr_7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о нельз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а-Иванов Петр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допущены три ошибки: имя начинается цифрой, использовано тире и слова разделены пробелом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932360" y="106200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Операторные скобки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begin</a:t>
            </a: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….. </a:t>
            </a: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end</a:t>
            </a:r>
            <a:r>
              <a:rPr b="0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5111640" y="3068640"/>
            <a:ext cx="356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Разделителем операт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скале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очка с запя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1000080" y="128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Им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007B-78E7-41B5-8732-1721D4F4FB0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4956-B93A-41A9-85C3-8FF7FD82C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2411280" y="189000"/>
            <a:ext cx="432144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Важно!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Операторы 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280" y="2060640"/>
            <a:ext cx="82472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 в строк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Write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‘значения переменных’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…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 в столбе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Writel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1, b2, b3,…, b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B966-C15C-4635-9A39-82B2023D46C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F0E1-91C5-4BAF-8C4B-B9DE8B826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&lt;Моя первая программа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888840" y="1484280"/>
            <a:ext cx="745668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Program pr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ln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‘Hello,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меня зовут Вероника!’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‘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Это моя первая программа!’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0998-C80D-4892-AD01-4EDD9F5CB02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82B3-78A0-4541-B655-6B79BEE819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8:25:57Z</dcterms:created>
  <dc:creator>MAMA</dc:creator>
  <dc:description/>
  <dc:language>en-US</dc:language>
  <cp:lastModifiedBy>1</cp:lastModifiedBy>
  <dcterms:modified xsi:type="dcterms:W3CDTF">2012-12-20T04:22:36Z</dcterms:modified>
  <cp:revision>37</cp:revision>
  <dc:subject/>
  <dc:title>Слайд 1</dc:title>
</cp:coreProperties>
</file>