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4.png" ContentType="image/png"/>
  <Override PartName="/ppt/media/image5.gif" ContentType="image/gif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gif" ContentType="image/gif"/>
  <Override PartName="/ppt/media/image9.gif" ContentType="image/gi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E39B-DD8E-4D7E-A3A0-EEC5AC460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A387-0067-499F-8F90-A21B27BE8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7C79-D900-4CE2-9AEF-50EB00E70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62CB-2C8F-4B3D-B60C-22DEAD685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6463-401C-48D2-8342-777B0FD57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80A2-96A8-4E83-B0AD-0A15CAA73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A377-B17B-47F8-8B83-87B646880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8FBA-729C-4E5E-9960-C18872783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45F6-9F03-4505-A531-BB4DDECB0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54F7-EEA6-43A8-ADB1-EEBCE73EB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FA26-012D-4EBD-9769-C4573E7B3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EBD4-9DBA-4838-BA44-965D19B2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C46CB-8F26-4085-A0ED-9DFDC34BEC41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5962C-00C7-49F0-9F01-692507EC8B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image" Target="../media/image8.gif"/><Relationship Id="rId10" Type="http://schemas.openxmlformats.org/officeDocument/2006/relationships/image" Target="../media/image9.gif"/><Relationship Id="rId11" Type="http://schemas.openxmlformats.org/officeDocument/2006/relationships/image" Target="../media/image10.png"/><Relationship Id="rId12" Type="http://schemas.openxmlformats.org/officeDocument/2006/relationships/image" Target="../media/image9.gif"/><Relationship Id="rId13" Type="http://schemas.openxmlformats.org/officeDocument/2006/relationships/image" Target="../media/image10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3.png"/><Relationship Id="rId1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RCTR027"/>
          <p:cNvPicPr/>
          <p:nvPr/>
        </p:nvPicPr>
        <p:blipFill>
          <a:blip r:embed="rId1"/>
          <a:stretch/>
        </p:blipFill>
        <p:spPr>
          <a:xfrm>
            <a:off x="250920" y="765000"/>
            <a:ext cx="1554120" cy="27082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CRCTR068"/>
          <p:cNvPicPr/>
          <p:nvPr/>
        </p:nvPicPr>
        <p:blipFill>
          <a:blip r:embed="rId2"/>
          <a:stretch/>
        </p:blipFill>
        <p:spPr>
          <a:xfrm>
            <a:off x="6603840" y="4276800"/>
            <a:ext cx="2540160" cy="2581200"/>
          </a:xfrm>
          <a:prstGeom prst="rect">
            <a:avLst/>
          </a:prstGeom>
          <a:ln w="0">
            <a:noFill/>
          </a:ln>
        </p:spPr>
      </p:pic>
      <p:sp>
        <p:nvSpPr>
          <p:cNvPr id="43" name="WordArt 6"/>
          <p:cNvSpPr txBox="1"/>
          <p:nvPr/>
        </p:nvSpPr>
        <p:spPr>
          <a:xfrm rot="20890200">
            <a:off x="1289160" y="1317600"/>
            <a:ext cx="7358040" cy="457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Тема:</a:t>
            </a:r>
            <a:endParaRPr b="1" i="1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 </a:t>
            </a:r>
            <a:r>
              <a:rPr b="1" i="1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Среда программирования</a:t>
            </a:r>
            <a:endParaRPr b="1" i="1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Pascal АВС.</a:t>
            </a:r>
            <a:endParaRPr b="1" i="1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Структура программы.</a:t>
            </a:r>
            <a:endParaRPr b="1" i="1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0" y="189000"/>
            <a:ext cx="38894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Georgia"/>
              </a:rPr>
              <a:t>7 клас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Дата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1CD5A-D885-4066-8936-0E147945AAFA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D1F0B-D64C-4468-8301-E0B55B3770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Объект 5" descr=""/>
          <p:cNvPicPr/>
          <p:nvPr/>
        </p:nvPicPr>
        <p:blipFill>
          <a:blip r:embed="rId1"/>
          <a:srcRect l="0" t="0" r="42475" b="27765"/>
          <a:stretch/>
        </p:blipFill>
        <p:spPr>
          <a:xfrm>
            <a:off x="0" y="333360"/>
            <a:ext cx="9155160" cy="5543640"/>
          </a:xfrm>
          <a:prstGeom prst="rect">
            <a:avLst/>
          </a:prstGeom>
          <a:ln w="0">
            <a:noFill/>
          </a:ln>
        </p:spPr>
      </p:pic>
      <p:sp>
        <p:nvSpPr>
          <p:cNvPr id="85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EAA83-8CAD-436B-B5DB-A33DB0DDD04D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1CB98-D365-46EC-A273-C95915C377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1" descr="47"/>
          <p:cNvPicPr/>
          <p:nvPr/>
        </p:nvPicPr>
        <p:blipFill>
          <a:blip r:embed="rId1"/>
          <a:stretch/>
        </p:blipFill>
        <p:spPr>
          <a:xfrm>
            <a:off x="0" y="2421000"/>
            <a:ext cx="1979640" cy="2663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7" descr="47"/>
          <p:cNvPicPr/>
          <p:nvPr/>
        </p:nvPicPr>
        <p:blipFill>
          <a:blip r:embed="rId2"/>
          <a:stretch/>
        </p:blipFill>
        <p:spPr>
          <a:xfrm rot="914400">
            <a:off x="394920" y="2997000"/>
            <a:ext cx="1979640" cy="2089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bcd7b362ac12"/>
          <p:cNvPicPr/>
          <p:nvPr/>
        </p:nvPicPr>
        <p:blipFill>
          <a:blip r:embed="rId3">
            <a:lum bright="-12000"/>
          </a:blip>
          <a:stretch/>
        </p:blipFill>
        <p:spPr>
          <a:xfrm>
            <a:off x="9144000" y="3573360"/>
            <a:ext cx="2952720" cy="236232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12"/>
          <p:cNvSpPr/>
          <p:nvPr/>
        </p:nvSpPr>
        <p:spPr>
          <a:xfrm>
            <a:off x="755640" y="333360"/>
            <a:ext cx="1728720" cy="1150920"/>
          </a:xfrm>
          <a:prstGeom prst="cloudCallout">
            <a:avLst>
              <a:gd name="adj1" fmla="val -53398"/>
              <a:gd name="adj2" fmla="val 31518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25560">
            <a:solidFill>
              <a:srgbClr val="bbe0e3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4" descr="bcd7b362ac12"/>
          <p:cNvPicPr/>
          <p:nvPr/>
        </p:nvPicPr>
        <p:blipFill>
          <a:blip r:embed="rId4">
            <a:lum bright="-12000"/>
          </a:blip>
          <a:stretch/>
        </p:blipFill>
        <p:spPr>
          <a:xfrm>
            <a:off x="3635280" y="2637000"/>
            <a:ext cx="3024360" cy="254448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15"/>
          <p:cNvSpPr/>
          <p:nvPr/>
        </p:nvSpPr>
        <p:spPr>
          <a:xfrm>
            <a:off x="7380360" y="333360"/>
            <a:ext cx="1368360" cy="863640"/>
          </a:xfrm>
          <a:prstGeom prst="cloudCallout">
            <a:avLst>
              <a:gd name="adj1" fmla="val -50115"/>
              <a:gd name="adj2" fmla="val 10296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25560">
            <a:solidFill>
              <a:srgbClr val="bbe0e3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6"/>
          <p:cNvSpPr/>
          <p:nvPr/>
        </p:nvSpPr>
        <p:spPr>
          <a:xfrm>
            <a:off x="3059280" y="907920"/>
            <a:ext cx="1369800" cy="865440"/>
          </a:xfrm>
          <a:prstGeom prst="cloudCallout">
            <a:avLst>
              <a:gd name="adj1" fmla="val -49884"/>
              <a:gd name="adj2" fmla="val 43393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25560">
            <a:solidFill>
              <a:srgbClr val="bbe0e3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8" descr="47"/>
          <p:cNvPicPr/>
          <p:nvPr/>
        </p:nvPicPr>
        <p:blipFill>
          <a:blip r:embed="rId5"/>
          <a:stretch/>
        </p:blipFill>
        <p:spPr>
          <a:xfrm>
            <a:off x="7020000" y="2421000"/>
            <a:ext cx="2124000" cy="2879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9" descr="47"/>
          <p:cNvPicPr/>
          <p:nvPr/>
        </p:nvPicPr>
        <p:blipFill>
          <a:blip r:embed="rId6"/>
          <a:stretch/>
        </p:blipFill>
        <p:spPr>
          <a:xfrm flipH="1" rot="20142000">
            <a:off x="6876360" y="3141720"/>
            <a:ext cx="1512720" cy="2089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6" descr="149"/>
          <p:cNvPicPr/>
          <p:nvPr/>
        </p:nvPicPr>
        <p:blipFill>
          <a:blip r:embed="rId7">
            <a:lum bright="-6000"/>
          </a:blip>
          <a:stretch/>
        </p:blipFill>
        <p:spPr>
          <a:xfrm>
            <a:off x="3132000" y="4941720"/>
            <a:ext cx="663840" cy="8654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7" descr="149"/>
          <p:cNvPicPr/>
          <p:nvPr/>
        </p:nvPicPr>
        <p:blipFill>
          <a:blip r:embed="rId8">
            <a:lum bright="-6000"/>
          </a:blip>
          <a:stretch/>
        </p:blipFill>
        <p:spPr>
          <a:xfrm>
            <a:off x="4067280" y="5300640"/>
            <a:ext cx="663480" cy="865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8" descr="149"/>
          <p:cNvPicPr/>
          <p:nvPr/>
        </p:nvPicPr>
        <p:blipFill>
          <a:blip r:embed="rId9">
            <a:lum bright="-6000"/>
          </a:blip>
          <a:stretch/>
        </p:blipFill>
        <p:spPr>
          <a:xfrm>
            <a:off x="6659640" y="5300640"/>
            <a:ext cx="663480" cy="865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0" descr="n_blu050"/>
          <p:cNvPicPr/>
          <p:nvPr/>
        </p:nvPicPr>
        <p:blipFill>
          <a:blip r:embed="rId10"/>
          <a:stretch/>
        </p:blipFill>
        <p:spPr>
          <a:xfrm>
            <a:off x="1979640" y="4581360"/>
            <a:ext cx="846000" cy="846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1" descr="b13"/>
          <p:cNvPicPr/>
          <p:nvPr/>
        </p:nvPicPr>
        <p:blipFill>
          <a:blip r:embed="rId11"/>
          <a:stretch/>
        </p:blipFill>
        <p:spPr>
          <a:xfrm>
            <a:off x="3338640" y="5445000"/>
            <a:ext cx="817560" cy="874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2" descr="n_blu050"/>
          <p:cNvPicPr/>
          <p:nvPr/>
        </p:nvPicPr>
        <p:blipFill>
          <a:blip r:embed="rId12"/>
          <a:stretch/>
        </p:blipFill>
        <p:spPr>
          <a:xfrm>
            <a:off x="5148360" y="5516640"/>
            <a:ext cx="774720" cy="774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3" descr="b13"/>
          <p:cNvPicPr/>
          <p:nvPr/>
        </p:nvPicPr>
        <p:blipFill>
          <a:blip r:embed="rId13"/>
          <a:stretch/>
        </p:blipFill>
        <p:spPr>
          <a:xfrm>
            <a:off x="6578640" y="4581360"/>
            <a:ext cx="817560" cy="874800"/>
          </a:xfrm>
          <a:prstGeom prst="rect">
            <a:avLst/>
          </a:prstGeom>
          <a:ln w="0">
            <a:noFill/>
          </a:ln>
        </p:spPr>
      </p:pic>
      <p:pic>
        <p:nvPicPr>
          <p:cNvPr id="103" name="Улыб3414.wav" descr=""/>
          <p:cNvPicPr/>
          <p:nvPr/>
        </p:nvPicPr>
        <p:blipFill>
          <a:blip r:embed="rId14"/>
          <a:stretch/>
        </p:blipFill>
        <p:spPr>
          <a:xfrm>
            <a:off x="8459640" y="630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b2c9562e2641"/>
          <p:cNvPicPr/>
          <p:nvPr/>
        </p:nvPicPr>
        <p:blipFill>
          <a:blip r:embed="rId15">
            <a:lum bright="-6000"/>
          </a:blip>
          <a:stretch/>
        </p:blipFill>
        <p:spPr>
          <a:xfrm>
            <a:off x="2241720" y="2781360"/>
            <a:ext cx="1591920" cy="196668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20"/>
          <p:cNvSpPr/>
          <p:nvPr/>
        </p:nvSpPr>
        <p:spPr>
          <a:xfrm>
            <a:off x="3635280" y="1773360"/>
            <a:ext cx="1297080" cy="1368360"/>
          </a:xfrm>
          <a:prstGeom prst="sun">
            <a:avLst>
              <a:gd name="adj" fmla="val 25000"/>
            </a:avLst>
          </a:prstGeom>
          <a:blipFill rotWithShape="0">
            <a:blip r:embed="rId16"/>
            <a:srcRect/>
            <a:stretch/>
          </a:blipFill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37"/>
          <p:cNvSpPr/>
          <p:nvPr/>
        </p:nvSpPr>
        <p:spPr>
          <a:xfrm>
            <a:off x="8172360" y="6308640"/>
            <a:ext cx="719280" cy="406440"/>
          </a:xfrm>
          <a:prstGeom prst="leftArrow">
            <a:avLst>
              <a:gd name="adj1" fmla="val 50000"/>
              <a:gd name="adj2" fmla="val 44243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8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2" nodeType="after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7.40741E-007 L 0.05486 0.05324 C 0.06632 0.06528 0.08351 0.07199 0.10157 0.07199 C 0.12205 0.07199 0.13837 0.06528 0.14983 0.05324 L 0.20486 -7.40741E-007 E">
                                      <p:cBhvr>
                                        <p:cTn id="53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55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2.59259E-006 L -0.06997 0.03125 C -0.08455 0.03819 -0.1066 0.04213 -0.129 0.04213 C -0.15504 0.04213 -0.17587 0.03819 -0.19045 0.03125 L -0.2599 2.59259E-006 E">
                                      <p:cBhvr>
                                        <p:cTn id="56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58" nodeType="after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81481E-006 L 0.11685 0.05324 C 0.14132 0.06527 0.17813 0.07199 0.21667 0.07199 C 0.26007 0.07199 0.29497 0.06527 0.31945 0.05324 L 0.43716 4.81481E-006 E">
                                      <p:cBhvr>
                                        <p:cTn id="59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6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78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0.05255 L 0.02812 -0.00995 C 0.03403 -0.02407 0.04288 -0.03148 0.05208 -0.03148 C 0.0625 -0.03148 0.07101 -0.02407 0.07691 -0.00995 L 0.10538 0.05255 E">
                                      <p:cBhvr>
                                        <p:cTn id="79" dur="1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8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88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2.59259E-006 L 0.07535 -0.08611 C 0.09132 -0.10555 0.11511 -0.11551 0.13993 -0.11551 C 0.16806 -0.11551 0.1908 -0.10555 0.20677 -0.08611 L 0.28351 -2.59259E-006 E">
                                      <p:cBhvr>
                                        <p:cTn id="89" dur="1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3500"/>
                            </p:stCondLst>
                            <p:childTnLst>
                              <p:par>
                                <p:cTn id="9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98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85185E-006 L 0.08542 -0.0507 C 0.10348 -0.06273 0.12743 -0.06366 0.15052 -0.05556 C 0.17639 -0.04653 0.19618 -0.03009 0.20764 -0.00764 L 0.26407 0.09282 E">
                                      <p:cBhvr>
                                        <p:cTn id="99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0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1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11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1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12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137" nodeType="afterEffect" fill="hold" presetClass="path" presetID="1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33333E-006 C 0.00052 0.16042 0.09566 0.28797 0.21337 0.28797 C 0.33021 0.28797 0.425 0.16042 0.42517 -3.33333E-006 C 0.42517 -0.1581 0.33021 -0.28935 0.21215 -0.28935 C 0.09601 -0.28796 2.77778E-007 -0.15926 2.77778E-007 -3.33333E-006 Z">
                                      <p:cBhvr>
                                        <p:cTn id="138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14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35500"/>
                            </p:stCondLst>
                            <p:childTnLst>
                              <p:par>
                                <p:cTn id="1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4.81481E-006 L -0.32274 -0.20486 E">
                                      <p:cBhvr>
                                        <p:cTn id="148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0" dur="2000" fill="hold"/>
                                        <p:tgtEl>
                                          <p:spTgt spid="1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37500"/>
                            </p:stCondLst>
                            <p:childTnLst>
                              <p:par>
                                <p:cTn id="152" nodeType="afterEffect" fill="hold" presetClass="entr" presetID="35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43500"/>
                            </p:stCondLst>
                            <p:childTnLst>
                              <p:par>
                                <p:cTn id="15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16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44500"/>
                            </p:stCondLst>
                            <p:childTnLst>
                              <p:par>
                                <p:cTn id="1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45000"/>
                            </p:stCondLst>
                            <p:childTnLst>
                              <p:par>
                                <p:cTn id="17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45500"/>
                            </p:stCondLst>
                            <p:childTnLst>
                              <p:par>
                                <p:cTn id="175" nodeType="after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2274 -0.20486 L -0.13923 -0.10417 C -0.10069 -0.08149 -0.04323 -0.06829 0.01667 -0.06829 C 0.08525 -0.06829 0.13993 -0.08149 0.17848 -0.10417 L 0.36233 -0.20486 E">
                                      <p:cBhvr>
                                        <p:cTn id="176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47500"/>
                            </p:stCondLst>
                            <p:childTnLst>
                              <p:par>
                                <p:cTn id="178" nodeType="afterEffect" fill="hold" presetClass="entr" presetID="35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3500"/>
                            </p:stCondLst>
                            <p:childTnLst>
                              <p:par>
                                <p:cTn id="185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7813 -0.17337 L 0.20018 -0.25902 C 0.16337 -0.27824 0.10712 -0.28888 0.04983 -0.28888 C -0.01666 -0.28888 -0.06979 -0.27824 -0.10659 -0.25902 L -0.28333 -0.17337 E">
                                      <p:cBhvr>
                                        <p:cTn id="186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55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CRCTR027"/>
          <p:cNvPicPr/>
          <p:nvPr/>
        </p:nvPicPr>
        <p:blipFill>
          <a:blip r:embed="rId1"/>
          <a:stretch/>
        </p:blipFill>
        <p:spPr>
          <a:xfrm>
            <a:off x="250920" y="765000"/>
            <a:ext cx="1554120" cy="2708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CRCTR068"/>
          <p:cNvPicPr/>
          <p:nvPr/>
        </p:nvPicPr>
        <p:blipFill>
          <a:blip r:embed="rId2"/>
          <a:stretch/>
        </p:blipFill>
        <p:spPr>
          <a:xfrm>
            <a:off x="6603840" y="4276800"/>
            <a:ext cx="2540160" cy="2581200"/>
          </a:xfrm>
          <a:prstGeom prst="rect">
            <a:avLst/>
          </a:prstGeom>
          <a:ln w="0">
            <a:noFill/>
          </a:ln>
        </p:spPr>
      </p:pic>
      <p:sp>
        <p:nvSpPr>
          <p:cNvPr id="109" name="WordArt 6"/>
          <p:cNvSpPr txBox="1"/>
          <p:nvPr/>
        </p:nvSpPr>
        <p:spPr>
          <a:xfrm rot="20890200">
            <a:off x="1739880" y="1601640"/>
            <a:ext cx="6888240" cy="329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Работа </a:t>
            </a:r>
            <a:endParaRPr b="1" i="1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за компьютером</a:t>
            </a:r>
            <a:endParaRPr b="1" i="1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10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17D8D-04CF-4857-9B66-A9ABF2394E47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AF6FF-B524-4299-84D0-57B085F06A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CRCTR027"/>
          <p:cNvPicPr/>
          <p:nvPr/>
        </p:nvPicPr>
        <p:blipFill>
          <a:blip r:embed="rId1"/>
          <a:stretch/>
        </p:blipFill>
        <p:spPr>
          <a:xfrm>
            <a:off x="179280" y="1268280"/>
            <a:ext cx="1554120" cy="2708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CRCTR068"/>
          <p:cNvPicPr/>
          <p:nvPr/>
        </p:nvPicPr>
        <p:blipFill>
          <a:blip r:embed="rId2"/>
          <a:stretch/>
        </p:blipFill>
        <p:spPr>
          <a:xfrm>
            <a:off x="6603840" y="4276800"/>
            <a:ext cx="2540160" cy="2581200"/>
          </a:xfrm>
          <a:prstGeom prst="rect">
            <a:avLst/>
          </a:prstGeom>
          <a:ln w="0">
            <a:noFill/>
          </a:ln>
        </p:spPr>
      </p:pic>
      <p:sp>
        <p:nvSpPr>
          <p:cNvPr id="114" name="WordArt 4"/>
          <p:cNvSpPr txBox="1"/>
          <p:nvPr/>
        </p:nvSpPr>
        <p:spPr>
          <a:xfrm>
            <a:off x="395280" y="33480"/>
            <a:ext cx="7961400" cy="12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Домашнее  задание:</a:t>
            </a:r>
            <a:endParaRPr b="1" i="1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15" name="Дата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EC969-3441-41E8-A112-5BD039500468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C57B0-8E24-4BD6-96B0-2BCD2DF7E7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706400" y="1547640"/>
            <a:ext cx="7307280" cy="24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учить конспек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думать рисунок и составить к нему программу на язык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Дата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F0C39-5383-41D6-9734-D1A3780549E5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9EE09-536B-4F59-890D-AECED917BA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Прямоугольник 4" descr=""/>
          <p:cNvPicPr/>
          <p:nvPr/>
        </p:nvPicPr>
        <p:blipFill>
          <a:blip r:embed="rId1"/>
          <a:stretch/>
        </p:blipFill>
        <p:spPr>
          <a:xfrm>
            <a:off x="-36360" y="974880"/>
            <a:ext cx="926604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CRCTR027"/>
          <p:cNvPicPr/>
          <p:nvPr/>
        </p:nvPicPr>
        <p:blipFill>
          <a:blip r:embed="rId1"/>
          <a:stretch/>
        </p:blipFill>
        <p:spPr>
          <a:xfrm>
            <a:off x="250920" y="765000"/>
            <a:ext cx="1554120" cy="2708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CRCTR068"/>
          <p:cNvPicPr/>
          <p:nvPr/>
        </p:nvPicPr>
        <p:blipFill>
          <a:blip r:embed="rId2"/>
          <a:stretch/>
        </p:blipFill>
        <p:spPr>
          <a:xfrm>
            <a:off x="6603840" y="4276800"/>
            <a:ext cx="2540160" cy="2581200"/>
          </a:xfrm>
          <a:prstGeom prst="rect">
            <a:avLst/>
          </a:prstGeom>
          <a:ln w="0">
            <a:noFill/>
          </a:ln>
        </p:spPr>
      </p:pic>
      <p:sp>
        <p:nvSpPr>
          <p:cNvPr id="123" name="WordArt 6"/>
          <p:cNvSpPr txBox="1"/>
          <p:nvPr/>
        </p:nvSpPr>
        <p:spPr>
          <a:xfrm rot="20890200">
            <a:off x="1452240" y="1723680"/>
            <a:ext cx="6888240" cy="329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Спасибо за урок</a:t>
            </a:r>
            <a:endParaRPr b="1" i="1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24" name="Дата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847C0-2254-46D3-B23E-EC474CECC9A9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74CFD-0DDA-4CDE-8019-91692E1498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CRCTR027"/>
          <p:cNvPicPr/>
          <p:nvPr/>
        </p:nvPicPr>
        <p:blipFill>
          <a:blip r:embed="rId1"/>
          <a:stretch/>
        </p:blipFill>
        <p:spPr>
          <a:xfrm>
            <a:off x="250920" y="765000"/>
            <a:ext cx="1554120" cy="2708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CRCTR068"/>
          <p:cNvPicPr/>
          <p:nvPr/>
        </p:nvPicPr>
        <p:blipFill>
          <a:blip r:embed="rId2"/>
          <a:stretch/>
        </p:blipFill>
        <p:spPr>
          <a:xfrm>
            <a:off x="6603840" y="4276800"/>
            <a:ext cx="2540160" cy="25812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805040" y="1628640"/>
            <a:ext cx="7307280" cy="24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e4649"/>
                </a:solidFill>
                <a:latin typeface="Georgia"/>
              </a:rPr>
              <a:t>МБОУ Лицей № 6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e4649"/>
                </a:solidFill>
                <a:latin typeface="Georgia"/>
              </a:rPr>
              <a:t>г.УФ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Саликбаева Зульфия Зинну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учитель информа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127E3-971B-4930-B156-5BF1B65C35D7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247AB-984A-485B-9B73-9570CCCADF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М.Ушаков, Т.А.Юркова «Паскаль для школьников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festival.1september.ru/articles/620963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metod-kopilka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comp-as.by/index.php?option=com_content&amp;view=article&amp;catid=6%3A7--&amp;id=30%3A7-1-&amp;Itemid=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WordArt 4"/>
          <p:cNvSpPr txBox="1"/>
          <p:nvPr/>
        </p:nvSpPr>
        <p:spPr>
          <a:xfrm>
            <a:off x="395280" y="33480"/>
            <a:ext cx="7961400" cy="12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Используемые информационные ресурсы: </a:t>
            </a:r>
            <a:endParaRPr b="1" i="1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33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97C62-12FD-424C-B0AC-6666A67D5707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66984-46E1-42C6-B5F8-318F4AEC33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0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Цели уро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знакомиться с понятием «программирование»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 средой программирования Pascal ABC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 структурой программ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бор простейшего оператора выво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формировать первичные знания по применению изученного матер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D59A4-F8BB-4D91-9908-1FE99EDFADD4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BE5BB-8A8A-4B79-8583-A0BCD31694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200" spc="-1" strike="noStrike">
                <a:solidFill>
                  <a:srgbClr val="000000"/>
                </a:solidFill>
                <a:latin typeface="Arial"/>
              </a:rPr>
              <a:t>Составление последовательности программ для решения задачи на языке понятном компьютеру называется разработкой программ или программированием. Язык программирования представляет собой набор слов, специальных знаков и команд понятных компьюте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9C040-7CBA-4113-A396-D7E5A4D2D110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D2A8D-12A1-400E-A923-360CB27E50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Что такое язык программирова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9280" y="189000"/>
            <a:ext cx="8964720" cy="117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Паскаль был разработан швейцарским ученым Никлаусом Виртом (1970 г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5508720" y="1785960"/>
            <a:ext cx="3000240" cy="4057560"/>
          </a:xfrm>
          <a:prstGeom prst="rect">
            <a:avLst/>
          </a:prstGeom>
          <a:ln w="0">
            <a:noFill/>
          </a:ln>
        </p:spPr>
      </p:pic>
      <p:sp>
        <p:nvSpPr>
          <p:cNvPr id="57" name="Дата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088E9-0F2B-4AFF-A70F-8A96E89E3933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B919D-2752-4CEA-B0A1-8C187F2AEA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5"/>
          <p:cNvSpPr/>
          <p:nvPr/>
        </p:nvSpPr>
        <p:spPr>
          <a:xfrm>
            <a:off x="458640" y="1368360"/>
            <a:ext cx="4572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нем. Niklaus Wirth, род. 15 февраля 1934) — швейцарский учёный, специалист в области информатики, один из известнейших теоретиков в области разработки языков программирования, профессор компьютерных наук (ETH), Лауреат премии Тьюринга 1984 года. Ведущий разработчик языков Паскаль, Модула-2, Обер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Алфавит языка Паска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324000" y="1143000"/>
            <a:ext cx="8229600" cy="54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26 латинских строчных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ук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A B C D E F G H I J K L M N O P Q R S T U V W X Y 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26 латинских прописных букв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a b c d e f g h i j k l m n o p q r s t u v w x y 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10 циф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0 1 2 3 4 5 6 7 8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наки операц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+   -   *   /   =   &lt;&gt;   &lt;   &gt;   &lt;=   &gt;=   :=  @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граничители (разделители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.   ,   '   (   )   [   ]   (.  .)   {  }  (*  *)   ..   :  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дчеркивание </a:t>
            </a: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пецификаторы:  </a:t>
            </a: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^  #  $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E049F-DED8-44C9-ABC5-DF96319DFD6C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4F82E-C4A4-4F7F-B378-894FFD7F8D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Структура программы Pascal АВ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1547640" y="1268280"/>
            <a:ext cx="6048720" cy="53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&lt;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заголовок программы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333399"/>
                </a:solidFill>
                <a:latin typeface="Arial"/>
              </a:rPr>
              <a:t>program</a:t>
            </a:r>
            <a:r>
              <a:rPr b="1" lang="et-EE" sz="2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мя_Программы;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&lt;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Раздел описаний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333399"/>
                </a:solidFill>
                <a:latin typeface="Arial"/>
              </a:rPr>
              <a:t>var</a:t>
            </a:r>
            <a:r>
              <a:rPr b="1" lang="et-E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исания_Переменны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&lt;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Раздел операторов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333399"/>
                </a:solidFill>
                <a:latin typeface="Arial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&lt;оператор1&gt;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&lt;оператор2&gt;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&lt;операторN&gt;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</a:t>
            </a:r>
            <a:r>
              <a:rPr b="1" lang="et-EE" sz="2800" spc="-1" strike="noStrike">
                <a:solidFill>
                  <a:srgbClr val="333399"/>
                </a:solidFill>
                <a:latin typeface="Arial"/>
              </a:rPr>
              <a:t>nd</a:t>
            </a:r>
            <a:r>
              <a:rPr b="1" lang="et-EE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BE9E3-0996-4FF0-A8DB-C3777D04A90A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FFD8D-F97F-4956-A8A8-5A9BBA9CE9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928440" y="1785600"/>
            <a:ext cx="37875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Iwanow_Petr_7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о нельз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а-Иванов Петр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(допущены три ошибки: имя начинается цифрой, использовано тире и слова разделены пробелом)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"/>
          <p:cNvSpPr/>
          <p:nvPr/>
        </p:nvSpPr>
        <p:spPr>
          <a:xfrm>
            <a:off x="4932360" y="1062000"/>
            <a:ext cx="374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262673"/>
                </a:solidFill>
                <a:uFillTx/>
                <a:latin typeface="Arial"/>
              </a:rPr>
              <a:t>Операторные скобки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begin</a:t>
            </a:r>
            <a:r>
              <a:rPr b="1" lang="ru-RU" sz="36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….. </a:t>
            </a:r>
            <a:r>
              <a:rPr b="1" lang="en-US" sz="36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end</a:t>
            </a:r>
            <a:r>
              <a:rPr b="0" lang="ru-RU" sz="36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4"/>
          <p:cNvSpPr/>
          <p:nvPr/>
        </p:nvSpPr>
        <p:spPr>
          <a:xfrm>
            <a:off x="5111640" y="3068640"/>
            <a:ext cx="3564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262673"/>
                </a:solidFill>
                <a:uFillTx/>
                <a:latin typeface="Arial"/>
              </a:rPr>
              <a:t>Разделителем оператор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аскале явля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точка с запят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6"/>
          <p:cNvSpPr/>
          <p:nvPr/>
        </p:nvSpPr>
        <p:spPr>
          <a:xfrm>
            <a:off x="1000080" y="12859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262673"/>
                </a:solidFill>
                <a:uFillTx/>
                <a:latin typeface="Arial"/>
              </a:rPr>
              <a:t>Имя 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D3144-AA8E-4A75-97DF-3E5008756953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4AC1C-AA8A-45CA-AC3C-41C451554D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4"/>
          <p:cNvSpPr txBox="1"/>
          <p:nvPr/>
        </p:nvSpPr>
        <p:spPr>
          <a:xfrm>
            <a:off x="2411280" y="189000"/>
            <a:ext cx="4321440" cy="80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Важно!</a:t>
            </a:r>
            <a:endParaRPr b="1" i="1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Операторы выв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39280" y="2060640"/>
            <a:ext cx="824724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&lt;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ывод в строку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73"/>
                </a:solidFill>
                <a:latin typeface="Arial"/>
              </a:rPr>
              <a:t>Write</a:t>
            </a:r>
            <a:r>
              <a:rPr b="0" lang="ru-RU" sz="2800" spc="-1" strike="noStrike">
                <a:solidFill>
                  <a:srgbClr val="262673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‘значения переменных’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,…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&lt;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ывод в столбец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73"/>
                </a:solidFill>
                <a:latin typeface="Arial"/>
              </a:rPr>
              <a:t>Writeln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1, b2, b3,…, bn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03DF3-7890-42A4-9CFA-ABC482C34726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CCD07-D2E0-4690-B62B-97CEF7A28E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&lt;Моя первая программа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888840" y="1484280"/>
            <a:ext cx="7456680" cy="25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Program pr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beg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ln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 </a:t>
            </a:r>
            <a:r>
              <a:rPr b="1" lang="en-US" sz="2400" spc="-1" strike="noStrike">
                <a:solidFill>
                  <a:srgbClr val="00b0f0"/>
                </a:solidFill>
                <a:latin typeface="Arial"/>
              </a:rPr>
              <a:t>‘Hello, </a:t>
            </a:r>
            <a:r>
              <a:rPr b="1" lang="ru-RU" sz="2400" spc="-1" strike="noStrike">
                <a:solidFill>
                  <a:srgbClr val="00b0f0"/>
                </a:solidFill>
                <a:latin typeface="Arial"/>
              </a:rPr>
              <a:t>меня зовут Вероника!’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 ( </a:t>
            </a:r>
            <a:r>
              <a:rPr b="1" lang="en-US" sz="2400" spc="-1" strike="noStrike">
                <a:solidFill>
                  <a:srgbClr val="00b0f0"/>
                </a:solidFill>
                <a:latin typeface="Arial"/>
              </a:rPr>
              <a:t>‘</a:t>
            </a:r>
            <a:r>
              <a:rPr b="1" lang="ru-RU" sz="2400" spc="-1" strike="noStrike">
                <a:solidFill>
                  <a:srgbClr val="00b0f0"/>
                </a:solidFill>
                <a:latin typeface="Arial"/>
              </a:rPr>
              <a:t>Это моя первая программа!’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E2B1C-2AC9-4397-8B2E-6D56522C1F44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BD153-255A-4D61-87A5-3077D1A1CC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8T08:25:57Z</dcterms:created>
  <dc:creator>MAMA</dc:creator>
  <dc:description/>
  <dc:language>en-US</dc:language>
  <cp:lastModifiedBy>1</cp:lastModifiedBy>
  <dcterms:modified xsi:type="dcterms:W3CDTF">2012-12-20T04:22:36Z</dcterms:modified>
  <cp:revision>37</cp:revision>
  <dc:subject/>
  <dc:title>Слайд 1</dc:title>
</cp:coreProperties>
</file>