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gif" ContentType="image/gif"/>
  <Override PartName="/ppt/media/image9.gif" ContentType="image/gi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CCC6-822A-49B0-A3E8-C5C519383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C31B-98BD-4ACF-B6D8-86D22F3E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FDF5-B825-448F-9A36-1C6E8E36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BA1A-D0FB-42C7-BF8A-A720041EA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6C70-7647-4D8B-ADBA-8FA92FEF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F3EF-40E7-415E-85D0-08EEB78B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5C0C-7CEF-401B-8EE8-2785B5F69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4950-CF83-49CE-BF21-3E10E9E12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11FA-5174-4067-90DF-A3AC7652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0EE-C14F-40F8-A063-73451DE06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BD2A-7010-40E6-AE6D-6FB914B2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0C2F-3CBC-408B-968A-D0FE38C66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98CA-6EDF-450D-A1B1-D8C8D313780A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DBCF-1292-41F0-8A81-BBE92E6277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8.gif"/><Relationship Id="rId8" Type="http://schemas.openxmlformats.org/officeDocument/2006/relationships/image" Target="../media/image8.gif"/><Relationship Id="rId9" Type="http://schemas.openxmlformats.org/officeDocument/2006/relationships/image" Target="../media/image8.gif"/><Relationship Id="rId10" Type="http://schemas.openxmlformats.org/officeDocument/2006/relationships/image" Target="../media/image9.gif"/><Relationship Id="rId11" Type="http://schemas.openxmlformats.org/officeDocument/2006/relationships/image" Target="../media/image10.png"/><Relationship Id="rId12" Type="http://schemas.openxmlformats.org/officeDocument/2006/relationships/image" Target="../media/image9.gi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43" name="WordArt 6"/>
          <p:cNvSpPr txBox="1"/>
          <p:nvPr/>
        </p:nvSpPr>
        <p:spPr>
          <a:xfrm rot="20890200">
            <a:off x="1289160" y="1317600"/>
            <a:ext cx="7358040" cy="457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Тема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 </a:t>
            </a: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реда программирования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Pascal АВС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труктура программы.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189000"/>
            <a:ext cx="3889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7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6061-AC27-4007-ABBE-81029EC2021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C776-8145-49B6-B614-687701C7ECD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Объект 5" descr=""/>
          <p:cNvPicPr/>
          <p:nvPr/>
        </p:nvPicPr>
        <p:blipFill>
          <a:blip r:embed="rId1"/>
          <a:srcRect l="0" t="0" r="42475" b="27765"/>
          <a:stretch/>
        </p:blipFill>
        <p:spPr>
          <a:xfrm>
            <a:off x="0" y="333360"/>
            <a:ext cx="9155160" cy="5543640"/>
          </a:xfrm>
          <a:prstGeom prst="rect">
            <a:avLst/>
          </a:prstGeom>
          <a:ln w="0">
            <a:noFill/>
          </a:ln>
        </p:spPr>
      </p:pic>
      <p:sp>
        <p:nvSpPr>
          <p:cNvPr id="8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CFA49-77B6-43B1-A004-66ED2E4A41E9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C79-D4D9-4AD0-9294-E38C9E2366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1" descr="47"/>
          <p:cNvPicPr/>
          <p:nvPr/>
        </p:nvPicPr>
        <p:blipFill>
          <a:blip r:embed="rId1"/>
          <a:stretch/>
        </p:blipFill>
        <p:spPr>
          <a:xfrm>
            <a:off x="0" y="2421000"/>
            <a:ext cx="1979640" cy="26636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7" descr="47"/>
          <p:cNvPicPr/>
          <p:nvPr/>
        </p:nvPicPr>
        <p:blipFill>
          <a:blip r:embed="rId2"/>
          <a:stretch/>
        </p:blipFill>
        <p:spPr>
          <a:xfrm rot="914400">
            <a:off x="394920" y="2997000"/>
            <a:ext cx="1979640" cy="2089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bcd7b362ac12"/>
          <p:cNvPicPr/>
          <p:nvPr/>
        </p:nvPicPr>
        <p:blipFill>
          <a:blip r:embed="rId3">
            <a:lum bright="-12000"/>
          </a:blip>
          <a:stretch/>
        </p:blipFill>
        <p:spPr>
          <a:xfrm>
            <a:off x="9144000" y="3573360"/>
            <a:ext cx="2952720" cy="236232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12"/>
          <p:cNvSpPr/>
          <p:nvPr/>
        </p:nvSpPr>
        <p:spPr>
          <a:xfrm>
            <a:off x="755640" y="333360"/>
            <a:ext cx="1728720" cy="1150920"/>
          </a:xfrm>
          <a:prstGeom prst="cloudCallout">
            <a:avLst>
              <a:gd name="adj1" fmla="val -53398"/>
              <a:gd name="adj2" fmla="val 31518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4" descr="bcd7b362ac12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3635280" y="2637000"/>
            <a:ext cx="3024360" cy="254448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15"/>
          <p:cNvSpPr/>
          <p:nvPr/>
        </p:nvSpPr>
        <p:spPr>
          <a:xfrm>
            <a:off x="7380360" y="333360"/>
            <a:ext cx="1368360" cy="863640"/>
          </a:xfrm>
          <a:prstGeom prst="cloudCallout">
            <a:avLst>
              <a:gd name="adj1" fmla="val -50115"/>
              <a:gd name="adj2" fmla="val 10296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6"/>
          <p:cNvSpPr/>
          <p:nvPr/>
        </p:nvSpPr>
        <p:spPr>
          <a:xfrm>
            <a:off x="3059280" y="907920"/>
            <a:ext cx="1369800" cy="865440"/>
          </a:xfrm>
          <a:prstGeom prst="cloudCallout">
            <a:avLst>
              <a:gd name="adj1" fmla="val -49884"/>
              <a:gd name="adj2" fmla="val 43393"/>
            </a:avLst>
          </a:prstGeom>
          <a:gradFill rotWithShape="0">
            <a:gsLst>
              <a:gs pos="0">
                <a:srgbClr val="bbe0e3"/>
              </a:gs>
              <a:gs pos="50000">
                <a:srgbClr val="ffffff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bbe0e3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47"/>
          <p:cNvPicPr/>
          <p:nvPr/>
        </p:nvPicPr>
        <p:blipFill>
          <a:blip r:embed="rId5"/>
          <a:stretch/>
        </p:blipFill>
        <p:spPr>
          <a:xfrm>
            <a:off x="7020000" y="2421000"/>
            <a:ext cx="2124000" cy="287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47"/>
          <p:cNvPicPr/>
          <p:nvPr/>
        </p:nvPicPr>
        <p:blipFill>
          <a:blip r:embed="rId6"/>
          <a:stretch/>
        </p:blipFill>
        <p:spPr>
          <a:xfrm flipH="1" rot="20142000">
            <a:off x="6876360" y="3141720"/>
            <a:ext cx="1512720" cy="2089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6" descr="149"/>
          <p:cNvPicPr/>
          <p:nvPr/>
        </p:nvPicPr>
        <p:blipFill>
          <a:blip r:embed="rId7">
            <a:lum bright="-6000"/>
          </a:blip>
          <a:stretch/>
        </p:blipFill>
        <p:spPr>
          <a:xfrm>
            <a:off x="3132000" y="4941720"/>
            <a:ext cx="663840" cy="865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7" descr="149"/>
          <p:cNvPicPr/>
          <p:nvPr/>
        </p:nvPicPr>
        <p:blipFill>
          <a:blip r:embed="rId8">
            <a:lum bright="-6000"/>
          </a:blip>
          <a:stretch/>
        </p:blipFill>
        <p:spPr>
          <a:xfrm>
            <a:off x="406728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8" descr="149"/>
          <p:cNvPicPr/>
          <p:nvPr/>
        </p:nvPicPr>
        <p:blipFill>
          <a:blip r:embed="rId9">
            <a:lum bright="-6000"/>
          </a:blip>
          <a:stretch/>
        </p:blipFill>
        <p:spPr>
          <a:xfrm>
            <a:off x="6659640" y="5300640"/>
            <a:ext cx="663480" cy="865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n_blu050"/>
          <p:cNvPicPr/>
          <p:nvPr/>
        </p:nvPicPr>
        <p:blipFill>
          <a:blip r:embed="rId10"/>
          <a:stretch/>
        </p:blipFill>
        <p:spPr>
          <a:xfrm>
            <a:off x="1979640" y="458136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1" descr="b13"/>
          <p:cNvPicPr/>
          <p:nvPr/>
        </p:nvPicPr>
        <p:blipFill>
          <a:blip r:embed="rId11"/>
          <a:stretch/>
        </p:blipFill>
        <p:spPr>
          <a:xfrm>
            <a:off x="3338640" y="544500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2" descr="n_blu050"/>
          <p:cNvPicPr/>
          <p:nvPr/>
        </p:nvPicPr>
        <p:blipFill>
          <a:blip r:embed="rId12"/>
          <a:stretch/>
        </p:blipFill>
        <p:spPr>
          <a:xfrm>
            <a:off x="5148360" y="5516640"/>
            <a:ext cx="774720" cy="77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3" descr="b13"/>
          <p:cNvPicPr/>
          <p:nvPr/>
        </p:nvPicPr>
        <p:blipFill>
          <a:blip r:embed="rId13"/>
          <a:stretch/>
        </p:blipFill>
        <p:spPr>
          <a:xfrm>
            <a:off x="6578640" y="4581360"/>
            <a:ext cx="817560" cy="874800"/>
          </a:xfrm>
          <a:prstGeom prst="rect">
            <a:avLst/>
          </a:prstGeom>
          <a:ln w="0">
            <a:noFill/>
          </a:ln>
        </p:spPr>
      </p:pic>
      <p:pic>
        <p:nvPicPr>
          <p:cNvPr id="103" name="Улыб3414.wav" descr=""/>
          <p:cNvPicPr/>
          <p:nvPr/>
        </p:nvPicPr>
        <p:blipFill>
          <a:blip r:embed="rId14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b2c9562e2641"/>
          <p:cNvPicPr/>
          <p:nvPr/>
        </p:nvPicPr>
        <p:blipFill>
          <a:blip r:embed="rId15">
            <a:lum bright="-6000"/>
          </a:blip>
          <a:stretch/>
        </p:blipFill>
        <p:spPr>
          <a:xfrm>
            <a:off x="2241720" y="2781360"/>
            <a:ext cx="1591920" cy="1966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20"/>
          <p:cNvSpPr/>
          <p:nvPr/>
        </p:nvSpPr>
        <p:spPr>
          <a:xfrm>
            <a:off x="3635280" y="1773360"/>
            <a:ext cx="1297080" cy="1368360"/>
          </a:xfrm>
          <a:prstGeom prst="sun">
            <a:avLst>
              <a:gd name="adj" fmla="val 25000"/>
            </a:avLst>
          </a:prstGeom>
          <a:blipFill rotWithShape="0">
            <a:blip r:embed="rId16"/>
            <a:srcRect/>
            <a:stretch/>
          </a:blipFill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7"/>
          <p:cNvSpPr/>
          <p:nvPr/>
        </p:nvSpPr>
        <p:spPr>
          <a:xfrm>
            <a:off x="8172360" y="6308640"/>
            <a:ext cx="719280" cy="406440"/>
          </a:xfrm>
          <a:prstGeom prst="leftArrow">
            <a:avLst>
              <a:gd name="adj1" fmla="val 50000"/>
              <a:gd name="adj2" fmla="val 44243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8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7.40741E-007 L 0.05486 0.05324 C 0.06632 0.06528 0.08351 0.07199 0.10157 0.07199 C 0.12205 0.07199 0.13837 0.06528 0.14983 0.05324 L 0.20486 -7.40741E-007 E">
                                      <p:cBhvr>
                                        <p:cTn id="53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2.59259E-006 L -0.06997 0.03125 C -0.08455 0.03819 -0.1066 0.04213 -0.129 0.04213 C -0.15504 0.04213 -0.17587 0.03819 -0.19045 0.03125 L -0.2599 2.59259E-006 E">
                                      <p:cBhvr>
                                        <p:cTn id="5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81481E-006 L 0.11685 0.05324 C 0.14132 0.06527 0.17813 0.07199 0.21667 0.07199 C 0.26007 0.07199 0.29497 0.06527 0.31945 0.05324 L 0.43716 4.81481E-006 E">
                                      <p:cBhvr>
                                        <p:cTn id="59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6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7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5255 L 0.02812 -0.00995 C 0.03403 -0.02407 0.04288 -0.03148 0.05208 -0.03148 C 0.0625 -0.03148 0.07101 -0.02407 0.07691 -0.00995 L 0.10538 0.05255 E">
                                      <p:cBhvr>
                                        <p:cTn id="79" dur="1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8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2.59259E-006 L 0.07535 -0.08611 C 0.09132 -0.10555 0.11511 -0.11551 0.13993 -0.11551 C 0.16806 -0.11551 0.1908 -0.10555 0.20677 -0.08611 L 0.28351 -2.59259E-006 E">
                                      <p:cBhvr>
                                        <p:cTn id="89" dur="1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3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98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85185E-006 L 0.08542 -0.0507 C 0.10348 -0.06273 0.12743 -0.06366 0.15052 -0.05556 C 0.17639 -0.04653 0.19618 -0.03009 0.20764 -0.00764 L 0.26407 0.09282 E">
                                      <p:cBhvr>
                                        <p:cTn id="99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1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2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137" nodeType="afterEffect" fill="hold" presetClass="path" presetID="1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3333E-006 C 0.00052 0.16042 0.09566 0.28797 0.21337 0.28797 C 0.33021 0.28797 0.425 0.16042 0.42517 -3.33333E-006 C 0.42517 -0.1581 0.33021 -0.28935 0.21215 -0.28935 C 0.09601 -0.28796 2.77778E-007 -0.15926 2.77778E-007 -3.33333E-006 Z">
                                      <p:cBhvr>
                                        <p:cTn id="138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5000"/>
                            </p:stCondLst>
                            <p:childTnLst>
                              <p:par>
                                <p:cTn id="14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3550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81481E-006 L -0.32274 -0.20486 E">
                                      <p:cBhvr>
                                        <p:cTn id="148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152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16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1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45000"/>
                            </p:stCondLst>
                            <p:childTnLst>
                              <p:par>
                                <p:cTn id="1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45500"/>
                            </p:stCondLst>
                            <p:childTnLst>
                              <p:par>
                                <p:cTn id="175" nodeType="after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2274 -0.20486 L -0.13923 -0.10417 C -0.10069 -0.08149 -0.04323 -0.06829 0.01667 -0.06829 C 0.08525 -0.06829 0.13993 -0.08149 0.17848 -0.10417 L 0.36233 -0.20486 E">
                                      <p:cBhvr>
                                        <p:cTn id="17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7500"/>
                            </p:stCondLst>
                            <p:childTnLst>
                              <p:par>
                                <p:cTn id="178" nodeType="afterEffect" fill="hold" presetClass="entr" presetID="3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85" nodeType="after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813 -0.17337 L 0.20018 -0.25902 C 0.16337 -0.27824 0.10712 -0.28888 0.04983 -0.28888 C -0.01666 -0.28888 -0.06979 -0.27824 -0.10659 -0.25902 L -0.28333 -0.17337 E">
                                      <p:cBhvr>
                                        <p:cTn id="186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09" name="WordArt 6"/>
          <p:cNvSpPr txBox="1"/>
          <p:nvPr/>
        </p:nvSpPr>
        <p:spPr>
          <a:xfrm rot="20890200">
            <a:off x="1739880" y="1601640"/>
            <a:ext cx="6888240" cy="329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Работа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за компьютером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0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E8DD-DEAB-486A-A33D-EF1A0C239BC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E55B-45CC-4E40-A862-82C356BA6D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RCTR027"/>
          <p:cNvPicPr/>
          <p:nvPr/>
        </p:nvPicPr>
        <p:blipFill>
          <a:blip r:embed="rId1"/>
          <a:stretch/>
        </p:blipFill>
        <p:spPr>
          <a:xfrm>
            <a:off x="179280" y="126828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14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Домашнее  задание: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15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FE1C-4330-4DC4-9AFB-CDACB50569A4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207AD-26AA-4757-A89F-ACD82B61712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706400" y="1547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конспек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думать рисунок и составить к нему программу на языке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68D87-0791-4F2C-BB72-EDE0EE41F56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1235-EA2D-4C05-85F3-6CCA6815F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Прямоугольник 4" descr=""/>
          <p:cNvPicPr/>
          <p:nvPr/>
        </p:nvPicPr>
        <p:blipFill>
          <a:blip r:embed="rId1"/>
          <a:stretch/>
        </p:blipFill>
        <p:spPr>
          <a:xfrm>
            <a:off x="-36360" y="974880"/>
            <a:ext cx="926604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3" name="WordArt 6"/>
          <p:cNvSpPr txBox="1"/>
          <p:nvPr/>
        </p:nvSpPr>
        <p:spPr>
          <a:xfrm rot="20890200">
            <a:off x="1452240" y="1723680"/>
            <a:ext cx="6888240" cy="32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Спасибо за урок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24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E866-C260-4DC8-8DE2-CD6631708CB5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59F4-38F8-4237-A006-AF5E9970CA2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CRCTR027"/>
          <p:cNvPicPr/>
          <p:nvPr/>
        </p:nvPicPr>
        <p:blipFill>
          <a:blip r:embed="rId1"/>
          <a:stretch/>
        </p:blipFill>
        <p:spPr>
          <a:xfrm>
            <a:off x="250920" y="765000"/>
            <a:ext cx="1554120" cy="2708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CRCTR068"/>
          <p:cNvPicPr/>
          <p:nvPr/>
        </p:nvPicPr>
        <p:blipFill>
          <a:blip r:embed="rId2"/>
          <a:stretch/>
        </p:blipFill>
        <p:spPr>
          <a:xfrm>
            <a:off x="6603840" y="4276800"/>
            <a:ext cx="2540160" cy="25812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805040" y="1628640"/>
            <a:ext cx="7307280" cy="24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МБОУ Лицей № 6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e4649"/>
                </a:solidFill>
                <a:latin typeface="Georgia"/>
              </a:rPr>
              <a:t>г.У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Саликбаева Зульфия Зинну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Georgia"/>
              </a:rPr>
              <a:t>учитель информат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31E1-F05E-428A-A4D0-4382087EA523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A490-004D-4D36-A53D-72FE1C39A3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.М.Ушаков, Т.А.Юркова «Паскаль для школьников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festival.1september.ru/articles/620963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metod-kopilk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comp-as.by/index.php?option=com_content&amp;view=article&amp;catid=6%3A7--&amp;id=30%3A7-1-&amp;Itemid=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395280" y="33480"/>
            <a:ext cx="7961400" cy="1299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Используемые информационные ресурсы: 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133" name="Дата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CBA3-9606-4726-870D-FE864408CEAF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A0C43-F998-40EB-8BE8-C2B16124F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знакомиться с понятием «программирование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редой программирования Pascal AB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 структурой программ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бор простейшего оператора вывод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формировать первичные знания по применению изуче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58FDB-63BD-41AB-A724-A92192E5658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9907-0CCD-4E39-8D69-1838BF10BE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a-RU" sz="3200" spc="-1" strike="noStrike">
                <a:solidFill>
                  <a:srgbClr val="000000"/>
                </a:solidFill>
                <a:latin typeface="Arial"/>
              </a:rPr>
              <a:t>Составление последовательности программ для решения задачи на языке понятном компьютеру называется разработкой программ или программированием. Язык программирования представляет собой набор слов, специальных знаков и команд понятных компьютер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50864-85AC-4B10-BB08-19487D2D193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353B-8839-484D-BAA9-E11B39AB4C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Что такое язык программирован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9280" y="189000"/>
            <a:ext cx="8964720" cy="117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Паскаль был разработан швейцарским ученым Никлаусом Виртом (1970 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08720" y="1785960"/>
            <a:ext cx="3000240" cy="4057560"/>
          </a:xfrm>
          <a:prstGeom prst="rect">
            <a:avLst/>
          </a:prstGeom>
          <a:ln w="0">
            <a:noFill/>
          </a:ln>
        </p:spPr>
      </p:pic>
      <p:sp>
        <p:nvSpPr>
          <p:cNvPr id="5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97BE0-0E85-467E-A704-B9E0901B8FF7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4929-F017-4941-B330-8AC90315A3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5"/>
          <p:cNvSpPr/>
          <p:nvPr/>
        </p:nvSpPr>
        <p:spPr>
          <a:xfrm>
            <a:off x="458640" y="1368360"/>
            <a:ext cx="4572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ем. Niklaus Wirth, род. 15 февраля 1934) — швейцарский учёный, специалист в области информатики, один из известнейших теоретиков в области разработки языков программирования, профессор компьютерных наук (ETH), Лауреат премии Тьюринга 1984 года. Ведущий разработчик языков Паскаль, Модула-2, Обер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Алфавит языка Паска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324000" y="1143000"/>
            <a:ext cx="8229600" cy="545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строчных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бук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26 латинских прописных букв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Arial"/>
              </a:rPr>
              <a:t>a b c d e f g h i j k l m n o p q r s t u v w x y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0 циф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0 1 2 3 4 5 6 7 8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знаки операци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+   -   *   /   =   &lt;&gt;   &lt;   &gt;   &lt;=   &gt;=   :=  @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граничители (разделители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.   ,   '   (   )   [   ]   (.  .)   {  }  (*  *)   ..   :  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черкивание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_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спецификаторы:  </a:t>
            </a:r>
            <a:r>
              <a:rPr b="1" lang="ru-RU" sz="2800" spc="-1" strike="noStrike">
                <a:solidFill>
                  <a:srgbClr val="990033"/>
                </a:solidFill>
                <a:latin typeface="Arial"/>
              </a:rPr>
              <a:t>^  #  $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EF81-4393-4748-B475-8DD83FDA1F3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1C51C-B49B-4A7A-B65B-B00FE245C3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Структура программы Pascal АВ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547640" y="1268280"/>
            <a:ext cx="6048720" cy="532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заголовок программы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program</a:t>
            </a:r>
            <a:r>
              <a:rPr b="1" lang="et-EE" sz="2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я_Программы;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исаний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var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исания_Переме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Раздел операторов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be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1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2&gt;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&lt;операторN&gt;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lang="et-EE" sz="2800" spc="-1" strike="noStrike">
                <a:solidFill>
                  <a:srgbClr val="333399"/>
                </a:solidFill>
                <a:latin typeface="Arial"/>
              </a:rPr>
              <a:t>nd</a:t>
            </a:r>
            <a:r>
              <a:rPr b="1" lang="et-EE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6DE31-FB2A-4ECC-9255-278ACF799D3E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EDD51-5CFB-44E0-BDE7-3525E41DAB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928440" y="1785600"/>
            <a:ext cx="37875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Iwanow_Petr_7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но нельз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а-Иванов Петр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(допущены три ошибки: имя начинается цифрой, использовано тире и слова разделены пробелом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"/>
          <p:cNvSpPr/>
          <p:nvPr/>
        </p:nvSpPr>
        <p:spPr>
          <a:xfrm>
            <a:off x="4932360" y="1062000"/>
            <a:ext cx="37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Операторные скобки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begin</a:t>
            </a:r>
            <a:r>
              <a:rPr b="1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….. </a:t>
            </a:r>
            <a:r>
              <a:rPr b="1" lang="en-US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end</a:t>
            </a:r>
            <a:r>
              <a:rPr b="0" lang="ru-RU" sz="36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5111640" y="3068640"/>
            <a:ext cx="356400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Разделителем операт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аскале яв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;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точка с запят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6"/>
          <p:cNvSpPr/>
          <p:nvPr/>
        </p:nvSpPr>
        <p:spPr>
          <a:xfrm>
            <a:off x="1000080" y="12859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262673"/>
                </a:solidFill>
                <a:uFillTx/>
                <a:latin typeface="Arial"/>
              </a:rPr>
              <a:t>Имя пр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DBC0-3657-424C-8F6F-9A1DBCF92DF0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51B8-3BB9-46A1-95E7-C438AE097E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2411280" y="189000"/>
            <a:ext cx="432144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Georgia"/>
              </a:rPr>
              <a:t>Важно!</a:t>
            </a:r>
            <a:endParaRPr b="1" i="1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Операторы вы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9280" y="2060640"/>
            <a:ext cx="824724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рок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</a:t>
            </a:r>
            <a:r>
              <a:rPr b="0" lang="ru-RU" sz="2800" spc="-1" strike="noStrike">
                <a:solidFill>
                  <a:srgbClr val="262673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‘значения переменных’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…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n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ывод в столбе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62673"/>
                </a:solidFill>
                <a:latin typeface="Arial"/>
              </a:rPr>
              <a:t>Writel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1, b2, b3,…, b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39D0-399E-4A28-8AEB-F62AA2DB050B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D893-C758-4CE9-8AC1-E515FC332E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&lt;Моя первая программа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888840" y="1484280"/>
            <a:ext cx="7456680" cy="25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Program pr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beg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ln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Hello, 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меня зовут Вероник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( </a:t>
            </a:r>
            <a:r>
              <a:rPr b="1" lang="en-US" sz="2400" spc="-1" strike="noStrike">
                <a:solidFill>
                  <a:srgbClr val="00b0f0"/>
                </a:solidFill>
                <a:latin typeface="Arial"/>
              </a:rPr>
              <a:t>‘</a:t>
            </a:r>
            <a:r>
              <a:rPr b="1" lang="ru-RU" sz="2400" spc="-1" strike="noStrike">
                <a:solidFill>
                  <a:srgbClr val="00b0f0"/>
                </a:solidFill>
                <a:latin typeface="Arial"/>
              </a:rPr>
              <a:t>Это моя первая программа!’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e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Дата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ACFD-E6F2-4BA9-9093-20C45F58E141}" type="datetime">
              <a:rPr b="0" lang="ru-RU" sz="14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F2D5-1B25-4634-931E-E8835555DB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8:25:57Z</dcterms:created>
  <dc:creator>MAMA</dc:creator>
  <dc:description/>
  <dc:language>en-US</dc:language>
  <cp:lastModifiedBy>1</cp:lastModifiedBy>
  <dcterms:modified xsi:type="dcterms:W3CDTF">2012-12-20T04:22:36Z</dcterms:modified>
  <cp:revision>37</cp:revision>
  <dc:subject/>
  <dc:title>Слайд 1</dc:title>
</cp:coreProperties>
</file>