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5.gif" ContentType="image/gif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gif" ContentType="image/gif"/>
  <Override PartName="/ppt/media/image9.gif" ContentType="image/gi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08AC-66F2-48CD-8D87-1EC5B7F4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497C-AB70-4362-BCB4-7615EE0F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08F7-8951-4E12-9F4B-B14A440EE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E78F-38E5-4F31-88CD-B51DB162B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D6BC-30CB-4F23-A888-72C21082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4233-6314-430B-833D-EE094AAB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6288-532B-45EF-B286-298A0408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898D-2334-475B-A21C-10905294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9553-EE3E-4289-9C38-9AEB7899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8133-6270-4E0E-A01B-BF717780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C23A-093F-46C4-9C7A-BFED7610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AAC8-F9CF-4FD1-A87C-0F771A25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AB18-F625-4C19-882A-6C0A3EA2406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47EF-AD45-40F1-B3D1-285794CBD4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9.gif"/><Relationship Id="rId11" Type="http://schemas.openxmlformats.org/officeDocument/2006/relationships/image" Target="../media/image10.png"/><Relationship Id="rId12" Type="http://schemas.openxmlformats.org/officeDocument/2006/relationships/image" Target="../media/image9.gif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RCTR027"/>
          <p:cNvPicPr/>
          <p:nvPr/>
        </p:nvPicPr>
        <p:blipFill>
          <a:blip r:embed="rId1"/>
          <a:stretch/>
        </p:blipFill>
        <p:spPr>
          <a:xfrm>
            <a:off x="250920" y="76500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 rot="20890200">
            <a:off x="1289160" y="1317600"/>
            <a:ext cx="7358040" cy="457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Тема: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 </a:t>
            </a: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Среда программирования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Pascal АВС.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Структура программы.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189000"/>
            <a:ext cx="3889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7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0FF2-3F25-4F93-BDA6-F73D97F1BFE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3830-6BD6-4BEA-AE0E-14B169113E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Объект 5" descr=""/>
          <p:cNvPicPr/>
          <p:nvPr/>
        </p:nvPicPr>
        <p:blipFill>
          <a:blip r:embed="rId1"/>
          <a:srcRect l="0" t="0" r="42475" b="27765"/>
          <a:stretch/>
        </p:blipFill>
        <p:spPr>
          <a:xfrm>
            <a:off x="0" y="333360"/>
            <a:ext cx="9155160" cy="5543640"/>
          </a:xfrm>
          <a:prstGeom prst="rect">
            <a:avLst/>
          </a:prstGeom>
          <a:ln w="0">
            <a:noFill/>
          </a:ln>
        </p:spPr>
      </p:pic>
      <p:sp>
        <p:nvSpPr>
          <p:cNvPr id="8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1C68-2AD7-4AB3-8626-750DB30C09C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1E67-BADD-4513-A350-E1C1DEAFBB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47"/>
          <p:cNvPicPr/>
          <p:nvPr/>
        </p:nvPicPr>
        <p:blipFill>
          <a:blip r:embed="rId1"/>
          <a:stretch/>
        </p:blipFill>
        <p:spPr>
          <a:xfrm>
            <a:off x="0" y="2421000"/>
            <a:ext cx="1979640" cy="2663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47"/>
          <p:cNvPicPr/>
          <p:nvPr/>
        </p:nvPicPr>
        <p:blipFill>
          <a:blip r:embed="rId2"/>
          <a:stretch/>
        </p:blipFill>
        <p:spPr>
          <a:xfrm rot="914400">
            <a:off x="394920" y="2997000"/>
            <a:ext cx="1979640" cy="2089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bcd7b362ac12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9144000" y="3573360"/>
            <a:ext cx="2952720" cy="23623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12"/>
          <p:cNvSpPr/>
          <p:nvPr/>
        </p:nvSpPr>
        <p:spPr>
          <a:xfrm>
            <a:off x="755640" y="333360"/>
            <a:ext cx="1728720" cy="1150920"/>
          </a:xfrm>
          <a:prstGeom prst="cloudCallout">
            <a:avLst>
              <a:gd name="adj1" fmla="val -53398"/>
              <a:gd name="adj2" fmla="val 31518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bbe0e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4" descr="bcd7b362ac12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3635280" y="2637000"/>
            <a:ext cx="3024360" cy="254448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15"/>
          <p:cNvSpPr/>
          <p:nvPr/>
        </p:nvSpPr>
        <p:spPr>
          <a:xfrm>
            <a:off x="7380360" y="333360"/>
            <a:ext cx="1368360" cy="863640"/>
          </a:xfrm>
          <a:prstGeom prst="cloudCallout">
            <a:avLst>
              <a:gd name="adj1" fmla="val -50115"/>
              <a:gd name="adj2" fmla="val 10296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bbe0e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6"/>
          <p:cNvSpPr/>
          <p:nvPr/>
        </p:nvSpPr>
        <p:spPr>
          <a:xfrm>
            <a:off x="3059280" y="907920"/>
            <a:ext cx="1369800" cy="865440"/>
          </a:xfrm>
          <a:prstGeom prst="cloudCallout">
            <a:avLst>
              <a:gd name="adj1" fmla="val -49884"/>
              <a:gd name="adj2" fmla="val 43393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bbe0e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8" descr="47"/>
          <p:cNvPicPr/>
          <p:nvPr/>
        </p:nvPicPr>
        <p:blipFill>
          <a:blip r:embed="rId5"/>
          <a:stretch/>
        </p:blipFill>
        <p:spPr>
          <a:xfrm>
            <a:off x="7020000" y="2421000"/>
            <a:ext cx="2124000" cy="287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9" descr="47"/>
          <p:cNvPicPr/>
          <p:nvPr/>
        </p:nvPicPr>
        <p:blipFill>
          <a:blip r:embed="rId6"/>
          <a:stretch/>
        </p:blipFill>
        <p:spPr>
          <a:xfrm flipH="1" rot="20142000">
            <a:off x="6876360" y="3141720"/>
            <a:ext cx="1512720" cy="2089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6" descr="149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3132000" y="4941720"/>
            <a:ext cx="663840" cy="865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7" descr="149"/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4067280" y="5300640"/>
            <a:ext cx="663480" cy="865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8" descr="149"/>
          <p:cNvPicPr/>
          <p:nvPr/>
        </p:nvPicPr>
        <p:blipFill>
          <a:blip r:embed="rId9">
            <a:lum bright="-6000"/>
          </a:blip>
          <a:stretch/>
        </p:blipFill>
        <p:spPr>
          <a:xfrm>
            <a:off x="6659640" y="5300640"/>
            <a:ext cx="663480" cy="865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0" descr="n_blu050"/>
          <p:cNvPicPr/>
          <p:nvPr/>
        </p:nvPicPr>
        <p:blipFill>
          <a:blip r:embed="rId10"/>
          <a:stretch/>
        </p:blipFill>
        <p:spPr>
          <a:xfrm>
            <a:off x="1979640" y="4581360"/>
            <a:ext cx="846000" cy="846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1" descr="b13"/>
          <p:cNvPicPr/>
          <p:nvPr/>
        </p:nvPicPr>
        <p:blipFill>
          <a:blip r:embed="rId11"/>
          <a:stretch/>
        </p:blipFill>
        <p:spPr>
          <a:xfrm>
            <a:off x="3338640" y="5445000"/>
            <a:ext cx="817560" cy="874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2" descr="n_blu050"/>
          <p:cNvPicPr/>
          <p:nvPr/>
        </p:nvPicPr>
        <p:blipFill>
          <a:blip r:embed="rId12"/>
          <a:stretch/>
        </p:blipFill>
        <p:spPr>
          <a:xfrm>
            <a:off x="5148360" y="5516640"/>
            <a:ext cx="774720" cy="77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3" descr="b13"/>
          <p:cNvPicPr/>
          <p:nvPr/>
        </p:nvPicPr>
        <p:blipFill>
          <a:blip r:embed="rId13"/>
          <a:stretch/>
        </p:blipFill>
        <p:spPr>
          <a:xfrm>
            <a:off x="6578640" y="4581360"/>
            <a:ext cx="817560" cy="874800"/>
          </a:xfrm>
          <a:prstGeom prst="rect">
            <a:avLst/>
          </a:prstGeom>
          <a:ln w="0">
            <a:noFill/>
          </a:ln>
        </p:spPr>
      </p:pic>
      <p:pic>
        <p:nvPicPr>
          <p:cNvPr id="103" name="Улыб3414.wav" descr=""/>
          <p:cNvPicPr/>
          <p:nvPr/>
        </p:nvPicPr>
        <p:blipFill>
          <a:blip r:embed="rId14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b2c9562e2641"/>
          <p:cNvPicPr/>
          <p:nvPr/>
        </p:nvPicPr>
        <p:blipFill>
          <a:blip r:embed="rId15">
            <a:lum bright="-6000"/>
          </a:blip>
          <a:stretch/>
        </p:blipFill>
        <p:spPr>
          <a:xfrm>
            <a:off x="2241720" y="2781360"/>
            <a:ext cx="1591920" cy="196668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20"/>
          <p:cNvSpPr/>
          <p:nvPr/>
        </p:nvSpPr>
        <p:spPr>
          <a:xfrm>
            <a:off x="3635280" y="1773360"/>
            <a:ext cx="1297080" cy="1368360"/>
          </a:xfrm>
          <a:prstGeom prst="sun">
            <a:avLst>
              <a:gd name="adj" fmla="val 25000"/>
            </a:avLst>
          </a:prstGeom>
          <a:blipFill rotWithShape="0">
            <a:blip r:embed="rId16"/>
            <a:srcRect/>
            <a:stretch/>
          </a:blipFill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7"/>
          <p:cNvSpPr/>
          <p:nvPr/>
        </p:nvSpPr>
        <p:spPr>
          <a:xfrm>
            <a:off x="8172360" y="6308640"/>
            <a:ext cx="719280" cy="406440"/>
          </a:xfrm>
          <a:prstGeom prst="leftArrow">
            <a:avLst>
              <a:gd name="adj1" fmla="val 50000"/>
              <a:gd name="adj2" fmla="val 4424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2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40741E-007 L 0.05486 0.05324 C 0.06632 0.06528 0.08351 0.07199 0.10157 0.07199 C 0.12205 0.07199 0.13837 0.06528 0.14983 0.05324 L 0.20486 -7.40741E-007 E">
                                      <p:cBhvr>
                                        <p:cTn id="53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5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59259E-006 L -0.06997 0.03125 C -0.08455 0.03819 -0.1066 0.04213 -0.129 0.04213 C -0.15504 0.04213 -0.17587 0.03819 -0.19045 0.03125 L -0.2599 2.59259E-006 E">
                                      <p:cBhvr>
                                        <p:cTn id="5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8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81481E-006 L 0.11685 0.05324 C 0.14132 0.06527 0.17813 0.07199 0.21667 0.07199 C 0.26007 0.07199 0.29497 0.06527 0.31945 0.05324 L 0.43716 4.81481E-006 E">
                                      <p:cBhvr>
                                        <p:cTn id="59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78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5255 L 0.02812 -0.00995 C 0.03403 -0.02407 0.04288 -0.03148 0.05208 -0.03148 C 0.0625 -0.03148 0.07101 -0.02407 0.07691 -0.00995 L 0.10538 0.05255 E">
                                      <p:cBhvr>
                                        <p:cTn id="79" dur="1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88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59259E-006 L 0.07535 -0.08611 C 0.09132 -0.10555 0.11511 -0.11551 0.13993 -0.11551 C 0.16806 -0.11551 0.1908 -0.10555 0.20677 -0.08611 L 0.28351 -2.59259E-006 E">
                                      <p:cBhvr>
                                        <p:cTn id="89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98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08542 -0.0507 C 0.10348 -0.06273 0.12743 -0.06366 0.15052 -0.05556 C 0.17639 -0.04653 0.19618 -0.03009 0.20764 -0.00764 L 0.26407 0.09282 E">
                                      <p:cBhvr>
                                        <p:cTn id="99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37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0.00052 0.16042 0.09566 0.28797 0.21337 0.28797 C 0.33021 0.28797 0.425 0.16042 0.42517 -3.33333E-006 C 0.42517 -0.1581 0.33021 -0.28935 0.21215 -0.28935 C 0.09601 -0.28796 2.77778E-007 -0.15926 2.77778E-007 -3.33333E-006 Z">
                                      <p:cBhvr>
                                        <p:cTn id="138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81481E-006 L -0.32274 -0.20486 E">
                                      <p:cBhvr>
                                        <p:cTn id="148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152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1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1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1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175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274 -0.20486 L -0.13923 -0.10417 C -0.10069 -0.08149 -0.04323 -0.06829 0.01667 -0.06829 C 0.08525 -0.06829 0.13993 -0.08149 0.17848 -0.10417 L 0.36233 -0.20486 E">
                                      <p:cBhvr>
                                        <p:cTn id="17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7500"/>
                            </p:stCondLst>
                            <p:childTnLst>
                              <p:par>
                                <p:cTn id="178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3500"/>
                            </p:stCondLst>
                            <p:childTnLst>
                              <p:par>
                                <p:cTn id="185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813 -0.17337 L 0.20018 -0.25902 C 0.16337 -0.27824 0.10712 -0.28888 0.04983 -0.28888 C -0.01666 -0.28888 -0.06979 -0.27824 -0.10659 -0.25902 L -0.28333 -0.17337 E">
                                      <p:cBhvr>
                                        <p:cTn id="18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55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CRCTR027"/>
          <p:cNvPicPr/>
          <p:nvPr/>
        </p:nvPicPr>
        <p:blipFill>
          <a:blip r:embed="rId1"/>
          <a:stretch/>
        </p:blipFill>
        <p:spPr>
          <a:xfrm>
            <a:off x="250920" y="76500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6"/>
          <p:cNvSpPr txBox="1"/>
          <p:nvPr/>
        </p:nvSpPr>
        <p:spPr>
          <a:xfrm rot="20890200">
            <a:off x="1739880" y="1601640"/>
            <a:ext cx="6888240" cy="329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Работа 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за компьютером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10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2E93-23F1-425D-B4EA-40134E75C2F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2F80-F20A-4B58-87C9-D2637021A5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RCTR027"/>
          <p:cNvPicPr/>
          <p:nvPr/>
        </p:nvPicPr>
        <p:blipFill>
          <a:blip r:embed="rId1"/>
          <a:stretch/>
        </p:blipFill>
        <p:spPr>
          <a:xfrm>
            <a:off x="179280" y="126828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4"/>
          <p:cNvSpPr txBox="1"/>
          <p:nvPr/>
        </p:nvSpPr>
        <p:spPr>
          <a:xfrm>
            <a:off x="395280" y="33480"/>
            <a:ext cx="7961400" cy="12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Домашнее  задание: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15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7D38-970E-4BB7-A226-62C3ED40672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B0B3-319A-4C89-8A83-776C596C91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706400" y="1547640"/>
            <a:ext cx="7307280" cy="24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учить конспек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думать рисунок и составить к нему программу на язык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7696-BCC3-48F6-9615-61102813EA8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B495-D62E-49B0-90B0-00DCEFB8C2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Прямоугольник 4" descr=""/>
          <p:cNvPicPr/>
          <p:nvPr/>
        </p:nvPicPr>
        <p:blipFill>
          <a:blip r:embed="rId1"/>
          <a:stretch/>
        </p:blipFill>
        <p:spPr>
          <a:xfrm>
            <a:off x="-36360" y="974880"/>
            <a:ext cx="926604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RCTR027"/>
          <p:cNvPicPr/>
          <p:nvPr/>
        </p:nvPicPr>
        <p:blipFill>
          <a:blip r:embed="rId1"/>
          <a:stretch/>
        </p:blipFill>
        <p:spPr>
          <a:xfrm>
            <a:off x="250920" y="76500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123" name="WordArt 6"/>
          <p:cNvSpPr txBox="1"/>
          <p:nvPr/>
        </p:nvSpPr>
        <p:spPr>
          <a:xfrm rot="20890200">
            <a:off x="1452240" y="1723680"/>
            <a:ext cx="6888240" cy="32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Спасибо за урок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24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391E-8E74-44FD-AE50-2AC226960EB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F079-1B9D-4BC3-AB1F-CCFC236442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CRCTR027"/>
          <p:cNvPicPr/>
          <p:nvPr/>
        </p:nvPicPr>
        <p:blipFill>
          <a:blip r:embed="rId1"/>
          <a:stretch/>
        </p:blipFill>
        <p:spPr>
          <a:xfrm>
            <a:off x="250920" y="76500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805040" y="1628640"/>
            <a:ext cx="7307280" cy="24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e4649"/>
                </a:solidFill>
                <a:latin typeface="Georgia"/>
              </a:rPr>
              <a:t>МБОУ Лицей № 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e4649"/>
                </a:solidFill>
                <a:latin typeface="Georgia"/>
              </a:rPr>
              <a:t>г.У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Саликбаева Зульфия Зинну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учитель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539C-6F49-49A1-B70F-0AC93125472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1504-B9F3-4A78-BEEA-03B50999E3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М.Ушаков, Т.А.Юркова «Паскаль для школьников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festival.1september.ru/articles/620963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etod-kopilka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omp-as.by/index.php?option=com_content&amp;view=article&amp;catid=6%3A7--&amp;id=30%3A7-1-&amp;Itemid=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395280" y="33480"/>
            <a:ext cx="7961400" cy="12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Используемые информационные ресурсы: 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33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DAB6-B6BE-4603-9318-EEE9F3736E8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6566-9945-4914-B02C-5228E4D66D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ься с понятием «программирование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 средой программирования Pascal ABC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 структурой програм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бор простейшего оператора выво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формировать первичные знания по применению изуче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586E-29FA-4A54-80C6-B9C002F51CF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0384-49D2-4D7A-A437-AB67364D1F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Составление последовательности программ для решения задачи на языке понятном компьютеру называется разработкой программ или программированием. Язык программирования представляет собой набор слов, специальных знаков и команд понятных компьют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4125-C150-4CF3-B6B8-6AF81711593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7A50-CEDD-42AB-B1DB-85D6F5A0D6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Что такое язык программиров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964720" cy="117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Паскаль был разработан швейцарским ученым Никлаусом Виртом (1970 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508720" y="1785960"/>
            <a:ext cx="3000240" cy="4057560"/>
          </a:xfrm>
          <a:prstGeom prst="rect">
            <a:avLst/>
          </a:prstGeom>
          <a:ln w="0">
            <a:noFill/>
          </a:ln>
        </p:spPr>
      </p:pic>
      <p:sp>
        <p:nvSpPr>
          <p:cNvPr id="57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E87D-7F8B-43D1-8972-7AB1B46231A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D3D5-85E8-4E3F-BF98-9B006405C2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458640" y="136836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ем. Niklaus Wirth, род. 15 февраля 1934) — швейцарский учёный, специалист в области информатики, один из известнейших теоретиков в области разработки языков программирования, профессор компьютерных наук (ETH), Лауреат премии Тьюринга 1984 года. Ведущий разработчик языков Паскаль, Модула-2, Обер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Алфавит языка Паск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24000" y="1143000"/>
            <a:ext cx="8229600" cy="54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6 латинских строчных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ук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A B C D E F G H I J K L M N O P Q R S T U V W X Y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6 латинских прописных букв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a b c d e f g h i j k l m n o p q r s t u v w x y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0 циф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0 1 2 3 4 5 6 7 8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наки операц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+   -   *   /   =   &lt;&gt;   &lt;   &gt;   &lt;=   &gt;=   :=  @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граничители (разделители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.   ,   '   (   )   [   ]   (.  .)   {  }  (*  *)   ..   :  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черкивание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ецификаторы: 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^  # 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6201-2338-43C6-AE1E-89AB51EA937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F524-6863-442F-AF08-C309143B7B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Структура программы Pascal АВ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1547640" y="1268280"/>
            <a:ext cx="604872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заголовок программы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333399"/>
                </a:solidFill>
                <a:latin typeface="Arial"/>
              </a:rPr>
              <a:t>program</a:t>
            </a:r>
            <a:r>
              <a:rPr b="1" lang="et-EE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я_Программы;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Раздел описаний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333399"/>
                </a:solidFill>
                <a:latin typeface="Arial"/>
              </a:rPr>
              <a:t>var</a:t>
            </a: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исания_Переме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Раздел операторов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333399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lt;оператор1&gt;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lt;оператор2&gt;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lt;операторN&gt;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et-EE" sz="2800" spc="-1" strike="noStrike">
                <a:solidFill>
                  <a:srgbClr val="333399"/>
                </a:solidFill>
                <a:latin typeface="Arial"/>
              </a:rPr>
              <a:t>nd</a:t>
            </a: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EF77-901D-4AA6-ABA6-5BAA2D4CDF7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900C-DFA6-42C3-9913-9C4C2B0CB9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928440" y="1785600"/>
            <a:ext cx="37875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Iwanow_Petr_7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о нельз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а-Иванов Петр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(допущены три ошибки: имя начинается цифрой, использовано тире и слова разделены пробелом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4932360" y="1062000"/>
            <a:ext cx="374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62673"/>
                </a:solidFill>
                <a:uFillTx/>
                <a:latin typeface="Arial"/>
              </a:rPr>
              <a:t>Операторные скобки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begin</a:t>
            </a:r>
            <a:r>
              <a:rPr b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….. </a:t>
            </a:r>
            <a:r>
              <a:rPr b="1" lang="en-US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end</a:t>
            </a:r>
            <a:r>
              <a:rPr b="0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5111640" y="3068640"/>
            <a:ext cx="356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62673"/>
                </a:solidFill>
                <a:uFillTx/>
                <a:latin typeface="Arial"/>
              </a:rPr>
              <a:t>Разделителем операто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аскале яв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очка с запят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6"/>
          <p:cNvSpPr/>
          <p:nvPr/>
        </p:nvSpPr>
        <p:spPr>
          <a:xfrm>
            <a:off x="1000080" y="1285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62673"/>
                </a:solidFill>
                <a:uFillTx/>
                <a:latin typeface="Arial"/>
              </a:rPr>
              <a:t>Имя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D825-4F2C-4FA9-8158-AE16D33653A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AD1E-2AB9-4E16-B68B-A47B1E3997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2411280" y="189000"/>
            <a:ext cx="432144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Важно!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Операторы вы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9280" y="2060640"/>
            <a:ext cx="824724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ывод в строку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Write</a:t>
            </a: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‘значения переменных’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…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ывод в столбе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Writel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1, b2, b3,…, bn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49F2-DA90-4EC8-822C-2A1A762B90C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C401-7AFF-42D1-84B7-1181581D0B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&lt;Моя первая программа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888840" y="1484280"/>
            <a:ext cx="7456680" cy="25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Program pr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beg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ln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‘Hello,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меня зовут Вероника!’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( 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‘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Это моя первая программа!’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916D-BE43-4C30-AFF5-7490BD358A3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B5D8-2D2F-4114-9A60-921CB2367D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08:25:57Z</dcterms:created>
  <dc:creator>MAMA</dc:creator>
  <dc:description/>
  <dc:language>en-US</dc:language>
  <cp:lastModifiedBy>1</cp:lastModifiedBy>
  <dcterms:modified xsi:type="dcterms:W3CDTF">2012-12-20T04:22:36Z</dcterms:modified>
  <cp:revision>37</cp:revision>
  <dc:subject/>
  <dc:title>Слайд 1</dc:title>
</cp:coreProperties>
</file>