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4A70-BC2A-4078-A37D-B5EA1B69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DA6B-FA65-4488-91E4-A585A3E6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526C-32FF-4976-8F46-9B306984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AAF6D-0596-46A1-B4B8-163F44B9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58E6-5140-4198-940B-4218FA77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02E1-ED96-4D8B-968B-95BBEA2E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F17E-E79D-4705-8D12-F323099D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6CAC-5209-4954-9782-174A7B40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07B8-C091-4035-AE5E-E35E4B2E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AAC0-6B07-4024-9A20-9EE41F0E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2235-9F76-4DCA-8160-215E07E5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86B9-2DE8-4037-8A3F-DE809F8F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71B4-62B1-4205-B9F5-233CBDCC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E7C8-8979-4368-9395-CDFF1624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0B41-387C-4F49-9FCE-76BD1D2B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4140-983D-4009-A4CF-127AAE80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B990-DC7B-4B47-B0F8-0CA7DC85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DCAC-1315-432B-B28A-BC60E5ED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77F1-9C98-40CD-AEDA-B2B6D6BB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0386-C416-469A-BD94-E504C597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F125F-AAC9-47A2-8208-13B2E49C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A3A2-F878-4C8E-980F-F277766A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3CFA-DE3E-40DE-A996-2762C79D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23BB-1A92-45DF-BDD6-926C1F66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C70F-BDA3-426F-8381-10670EC055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52D5-CCFC-4C10-9758-CBD1DAC2F9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Урок природоведения                                     «Водоемы нашего края»</a:t>
            </a:r>
            <a:br>
              <a:rPr sz="5400"/>
            </a:b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 4 класс</a:t>
            </a:r>
            <a:br>
              <a:rPr sz="5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(по учебнику А.А.Плешакова «Окружающий мир»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4000" y="4149360"/>
            <a:ext cx="7448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работала и провела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влова Элеонора Васильевна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3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.Шульг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1749" t="3248" r="51320" b="52356"/>
          <a:stretch/>
        </p:blipFill>
        <p:spPr>
          <a:xfrm>
            <a:off x="1042920" y="1600200"/>
            <a:ext cx="7129440" cy="4781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>
            <a:hlinkClick r:id="" action="ppaction://hlinkshowjump?jump=previousslide"/>
          </p:cNvPr>
          <p:cNvSpPr/>
          <p:nvPr/>
        </p:nvSpPr>
        <p:spPr>
          <a:xfrm>
            <a:off x="8317080" y="5877000"/>
            <a:ext cx="826920" cy="709560"/>
          </a:xfrm>
          <a:custGeom>
            <a:avLst/>
            <a:gdLst>
              <a:gd name="textAreaLeft" fmla="*/ 45720 w 826920"/>
              <a:gd name="textAreaRight" fmla="*/ 781200 w 82692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5171" h="21600">
                <a:moveTo>
                  <a:pt x="0" y="0"/>
                </a:moveTo>
                <a:lnTo>
                  <a:pt x="25171" y="0"/>
                </a:lnTo>
                <a:lnTo>
                  <a:pt x="25171" y="21600"/>
                </a:lnTo>
                <a:lnTo>
                  <a:pt x="0" y="21600"/>
                </a:lnTo>
                <a:close/>
              </a:path>
              <a:path fill="lightenLess" w="25171" h="21600">
                <a:moveTo>
                  <a:pt x="0" y="0"/>
                </a:moveTo>
                <a:lnTo>
                  <a:pt x="25171" y="0"/>
                </a:lnTo>
                <a:lnTo>
                  <a:pt x="23771" y="1400"/>
                </a:lnTo>
                <a:lnTo>
                  <a:pt x="1400" y="1400"/>
                </a:lnTo>
                <a:close/>
              </a:path>
              <a:path fill="darken" w="25171" h="21600">
                <a:moveTo>
                  <a:pt x="25171" y="0"/>
                </a:moveTo>
                <a:lnTo>
                  <a:pt x="25171" y="21600"/>
                </a:lnTo>
                <a:lnTo>
                  <a:pt x="23771" y="20200"/>
                </a:lnTo>
                <a:lnTo>
                  <a:pt x="23771" y="1400"/>
                </a:lnTo>
                <a:close/>
              </a:path>
              <a:path fill="darkenLess" w="25171" h="21600">
                <a:moveTo>
                  <a:pt x="2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1" y="20200"/>
                </a:lnTo>
                <a:close/>
              </a:path>
              <a:path fill="lighten" w="2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4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р.Шульг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8961" t="1476" r="2029" b="52356"/>
          <a:stretch/>
        </p:blipFill>
        <p:spPr>
          <a:xfrm>
            <a:off x="1258920" y="1600200"/>
            <a:ext cx="691344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>
            <a:hlinkClick r:id="" action="ppaction://hlinkshowjump?jump=previousslide"/>
          </p:cNvPr>
          <p:cNvSpPr/>
          <p:nvPr/>
        </p:nvSpPr>
        <p:spPr>
          <a:xfrm>
            <a:off x="8244000" y="5815080"/>
            <a:ext cx="720720" cy="782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82640"/>
              <a:gd name="textAreaBottom" fmla="*/ 736200 h 782640"/>
            </a:gdLst>
            <a:ahLst/>
            <a:rect l="textAreaLeft" t="textAreaTop" r="textAreaRight" b="textAreaBottom"/>
            <a:pathLst>
              <a:path w="21600" h="23455">
                <a:moveTo>
                  <a:pt x="0" y="0"/>
                </a:moveTo>
                <a:lnTo>
                  <a:pt x="21600" y="0"/>
                </a:lnTo>
                <a:lnTo>
                  <a:pt x="21600" y="23455"/>
                </a:lnTo>
                <a:lnTo>
                  <a:pt x="0" y="23455"/>
                </a:lnTo>
                <a:close/>
              </a:path>
              <a:path fill="lightenLess" w="21600" h="23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55">
                <a:moveTo>
                  <a:pt x="21600" y="0"/>
                </a:moveTo>
                <a:lnTo>
                  <a:pt x="21600" y="23455"/>
                </a:lnTo>
                <a:lnTo>
                  <a:pt x="20200" y="22055"/>
                </a:lnTo>
                <a:lnTo>
                  <a:pt x="20200" y="1400"/>
                </a:lnTo>
                <a:close/>
              </a:path>
              <a:path fill="darkenLess" w="21600" h="23455">
                <a:moveTo>
                  <a:pt x="21600" y="23455"/>
                </a:moveTo>
                <a:lnTo>
                  <a:pt x="0" y="23455"/>
                </a:lnTo>
                <a:lnTo>
                  <a:pt x="1400" y="22055"/>
                </a:lnTo>
                <a:lnTo>
                  <a:pt x="20200" y="22055"/>
                </a:lnTo>
                <a:close/>
              </a:path>
              <a:path fill="lighten" w="21600" h="23455">
                <a:moveTo>
                  <a:pt x="0" y="23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5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5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исунки в Каповой пеще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1754" t="50720" r="54778" b="726"/>
          <a:stretch/>
        </p:blipFill>
        <p:spPr>
          <a:xfrm>
            <a:off x="1187280" y="1600200"/>
            <a:ext cx="712980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8459640" y="5815080"/>
            <a:ext cx="684360" cy="853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853920"/>
              <a:gd name="textAreaBottom" fmla="*/ 809640 h 853920"/>
            </a:gdLst>
            <a:ahLst/>
            <a:rect l="textAreaLeft" t="textAreaTop" r="textAreaRight" b="textAreaBottom"/>
            <a:pathLst>
              <a:path w="21600" h="26949">
                <a:moveTo>
                  <a:pt x="0" y="0"/>
                </a:moveTo>
                <a:lnTo>
                  <a:pt x="21600" y="0"/>
                </a:lnTo>
                <a:lnTo>
                  <a:pt x="21600" y="26949"/>
                </a:lnTo>
                <a:lnTo>
                  <a:pt x="0" y="26949"/>
                </a:lnTo>
                <a:close/>
              </a:path>
              <a:path fill="lightenLess" w="21600" h="26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49">
                <a:moveTo>
                  <a:pt x="21600" y="0"/>
                </a:moveTo>
                <a:lnTo>
                  <a:pt x="21600" y="26949"/>
                </a:lnTo>
                <a:lnTo>
                  <a:pt x="20200" y="25549"/>
                </a:lnTo>
                <a:lnTo>
                  <a:pt x="20200" y="1400"/>
                </a:lnTo>
                <a:close/>
              </a:path>
              <a:path fill="darkenLess" w="21600" h="26949">
                <a:moveTo>
                  <a:pt x="21600" y="26949"/>
                </a:moveTo>
                <a:lnTo>
                  <a:pt x="0" y="26949"/>
                </a:lnTo>
                <a:lnTo>
                  <a:pt x="1400" y="25549"/>
                </a:lnTo>
                <a:lnTo>
                  <a:pt x="20200" y="25549"/>
                </a:lnTo>
                <a:close/>
              </a:path>
              <a:path fill="lighten" w="21600" h="26949">
                <a:moveTo>
                  <a:pt x="0" y="26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4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6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рисунки в Каповой пеще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45326" t="50554" r="3987" b="892"/>
          <a:stretch/>
        </p:blipFill>
        <p:spPr>
          <a:xfrm>
            <a:off x="1258920" y="1600200"/>
            <a:ext cx="684216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>
            <a:hlinkClick r:id="" action="ppaction://hlinkshowjump?jump=previousslide"/>
          </p:cNvPr>
          <p:cNvSpPr/>
          <p:nvPr/>
        </p:nvSpPr>
        <p:spPr>
          <a:xfrm>
            <a:off x="8317080" y="5815080"/>
            <a:ext cx="647640" cy="782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82640"/>
              <a:gd name="textAreaBottom" fmla="*/ 740880 h 782640"/>
            </a:gdLst>
            <a:ahLst/>
            <a:rect l="textAreaLeft" t="textAreaTop" r="textAreaRight" b="textAreaBottom"/>
            <a:pathLst>
              <a:path w="21600" h="26100">
                <a:moveTo>
                  <a:pt x="0" y="0"/>
                </a:moveTo>
                <a:lnTo>
                  <a:pt x="21600" y="0"/>
                </a:lnTo>
                <a:lnTo>
                  <a:pt x="21600" y="26100"/>
                </a:lnTo>
                <a:lnTo>
                  <a:pt x="0" y="26100"/>
                </a:lnTo>
                <a:close/>
              </a:path>
              <a:path fill="lightenLess" w="21600" h="261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00">
                <a:moveTo>
                  <a:pt x="21600" y="0"/>
                </a:moveTo>
                <a:lnTo>
                  <a:pt x="21600" y="26100"/>
                </a:lnTo>
                <a:lnTo>
                  <a:pt x="20200" y="24700"/>
                </a:lnTo>
                <a:lnTo>
                  <a:pt x="20200" y="1400"/>
                </a:lnTo>
                <a:close/>
              </a:path>
              <a:path fill="darkenLess" w="21600" h="26100">
                <a:moveTo>
                  <a:pt x="21600" y="26100"/>
                </a:moveTo>
                <a:lnTo>
                  <a:pt x="0" y="26100"/>
                </a:lnTo>
                <a:lnTo>
                  <a:pt x="1400" y="24700"/>
                </a:lnTo>
                <a:lnTo>
                  <a:pt x="20200" y="24700"/>
                </a:lnTo>
                <a:close/>
              </a:path>
              <a:path fill="lighten" w="21600" h="26100">
                <a:moveTo>
                  <a:pt x="0" y="261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7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авловское водохранилищ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680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>
            <a:hlinkClick r:id="" action="ppaction://hlinkshowjump?jump=previousslide"/>
          </p:cNvPr>
          <p:cNvSpPr/>
          <p:nvPr/>
        </p:nvSpPr>
        <p:spPr>
          <a:xfrm>
            <a:off x="8317080" y="5589720"/>
            <a:ext cx="576000" cy="7189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18920"/>
              <a:gd name="textAreaBottom" fmla="*/ 681840 h 718920"/>
            </a:gdLst>
            <a:ahLst/>
            <a:rect l="textAreaLeft" t="textAreaTop" r="textAreaRight" b="textAreaBottom"/>
            <a:pathLst>
              <a:path w="21600" h="26956">
                <a:moveTo>
                  <a:pt x="0" y="0"/>
                </a:moveTo>
                <a:lnTo>
                  <a:pt x="21600" y="0"/>
                </a:lnTo>
                <a:lnTo>
                  <a:pt x="21600" y="26956"/>
                </a:lnTo>
                <a:lnTo>
                  <a:pt x="0" y="26956"/>
                </a:lnTo>
                <a:close/>
              </a:path>
              <a:path fill="lightenLess" w="21600" h="269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6">
                <a:moveTo>
                  <a:pt x="21600" y="0"/>
                </a:moveTo>
                <a:lnTo>
                  <a:pt x="21600" y="26956"/>
                </a:lnTo>
                <a:lnTo>
                  <a:pt x="20200" y="25556"/>
                </a:lnTo>
                <a:lnTo>
                  <a:pt x="20200" y="1400"/>
                </a:lnTo>
                <a:close/>
              </a:path>
              <a:path fill="darkenLess" w="21600" h="26956">
                <a:moveTo>
                  <a:pt x="21600" y="26956"/>
                </a:moveTo>
                <a:lnTo>
                  <a:pt x="0" y="26956"/>
                </a:lnTo>
                <a:lnTo>
                  <a:pt x="1400" y="25556"/>
                </a:lnTo>
                <a:lnTo>
                  <a:pt x="20200" y="25556"/>
                </a:lnTo>
                <a:close/>
              </a:path>
              <a:path fill="lighten" w="21600" h="26956">
                <a:moveTo>
                  <a:pt x="0" y="269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8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Павловское водохранилищ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481800" cy="44643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>
            <a:hlinkClick r:id="" action="ppaction://hlinkshowjump?jump=previousslide"/>
          </p:cNvPr>
          <p:cNvSpPr/>
          <p:nvPr/>
        </p:nvSpPr>
        <p:spPr>
          <a:xfrm>
            <a:off x="8172360" y="5516640"/>
            <a:ext cx="576360" cy="792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92000"/>
              <a:gd name="textAreaBottom" fmla="*/ 754920 h 792000"/>
            </a:gdLst>
            <a:ahLst/>
            <a:rect l="textAreaLeft" t="textAreaTop" r="textAreaRight" b="textAreaBottom"/>
            <a:pathLst>
              <a:path w="21600" h="29676">
                <a:moveTo>
                  <a:pt x="0" y="0"/>
                </a:moveTo>
                <a:lnTo>
                  <a:pt x="21600" y="0"/>
                </a:lnTo>
                <a:lnTo>
                  <a:pt x="21600" y="29676"/>
                </a:lnTo>
                <a:lnTo>
                  <a:pt x="0" y="29676"/>
                </a:lnTo>
                <a:close/>
              </a:path>
              <a:path fill="lightenLess" w="21600" h="296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76">
                <a:moveTo>
                  <a:pt x="21600" y="0"/>
                </a:moveTo>
                <a:lnTo>
                  <a:pt x="21600" y="29676"/>
                </a:lnTo>
                <a:lnTo>
                  <a:pt x="20200" y="28276"/>
                </a:lnTo>
                <a:lnTo>
                  <a:pt x="20200" y="1400"/>
                </a:lnTo>
                <a:close/>
              </a:path>
              <a:path fill="darkenLess" w="21600" h="29676">
                <a:moveTo>
                  <a:pt x="21600" y="29676"/>
                </a:moveTo>
                <a:lnTo>
                  <a:pt x="0" y="29676"/>
                </a:lnTo>
                <a:lnTo>
                  <a:pt x="1400" y="28276"/>
                </a:lnTo>
                <a:lnTo>
                  <a:pt x="20200" y="28276"/>
                </a:lnTo>
                <a:close/>
              </a:path>
              <a:path fill="lighten" w="21600" h="29676">
                <a:moveTo>
                  <a:pt x="0" y="296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7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9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.Уршак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4145" t="0" r="639" b="7407"/>
          <a:stretch/>
        </p:blipFill>
        <p:spPr>
          <a:xfrm>
            <a:off x="1116000" y="1700280"/>
            <a:ext cx="6335640" cy="45370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647640" cy="709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09560"/>
              <a:gd name="textAreaBottom" fmla="*/ 667800 h 709560"/>
            </a:gdLst>
            <a:ahLst/>
            <a:rect l="textAreaLeft" t="textAreaTop" r="textAreaRight" b="textAreaBottom"/>
            <a:pathLst>
              <a:path w="21600" h="23664">
                <a:moveTo>
                  <a:pt x="0" y="0"/>
                </a:moveTo>
                <a:lnTo>
                  <a:pt x="21600" y="0"/>
                </a:lnTo>
                <a:lnTo>
                  <a:pt x="21600" y="23664"/>
                </a:lnTo>
                <a:lnTo>
                  <a:pt x="0" y="23664"/>
                </a:lnTo>
                <a:close/>
              </a:path>
              <a:path fill="lightenLess" w="21600" h="23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64">
                <a:moveTo>
                  <a:pt x="21600" y="0"/>
                </a:moveTo>
                <a:lnTo>
                  <a:pt x="21600" y="23664"/>
                </a:lnTo>
                <a:lnTo>
                  <a:pt x="20200" y="22264"/>
                </a:lnTo>
                <a:lnTo>
                  <a:pt x="20200" y="1400"/>
                </a:lnTo>
                <a:close/>
              </a:path>
              <a:path fill="darkenLess" w="21600" h="23664">
                <a:moveTo>
                  <a:pt x="21600" y="23664"/>
                </a:moveTo>
                <a:lnTo>
                  <a:pt x="0" y="23664"/>
                </a:lnTo>
                <a:lnTo>
                  <a:pt x="1400" y="22264"/>
                </a:lnTo>
                <a:lnTo>
                  <a:pt x="20200" y="22264"/>
                </a:lnTo>
                <a:close/>
              </a:path>
              <a:path fill="lighten" w="21600" h="23664">
                <a:moveTo>
                  <a:pt x="0" y="23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6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826920" y="2276640"/>
            <a:ext cx="777744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50920" y="1172520"/>
            <a:ext cx="8497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Работа над новой тем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азгадайте ребята такую загадку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и тучка, и туман, я — река и океан. Я летаю и бегу, и стеклянной быть мот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од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им цветом обозначена вода на карте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Синим)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крутим наш глобус. Какого цвета стала Земля? Почему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Синего. Потому что 2/3 земной поверхности занимает вод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инакова ли вода на вкус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Нет, вода бывает пресная и соленая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ая вода в водоемах нашего края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Пресная) '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Где вода соленая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В морях и океанах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ие водоемы вы знаете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Океан, море, озеро, река, пруд, канал, водохранилище, ручей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вайте разделим названные водоемы на две группы по их происхождению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доемы созданные природой (естественные) и созданные человеком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искусственные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1042920" y="1302120"/>
            <a:ext cx="7489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ение изучения тем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ы отдыхаем  на реке, значит водоем—это место для отдыха люд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еще что вы знаете о значении водоемов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Люди берут из водоемов воду для питья и приготовления пищи. Водоемы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о дом для растений и животны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Из водоемов берут воду для хозяйственных нужд. По воде перевозят грузы. Воду для работы берут заводы и фабрики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Да, значение водоемов очень велико, потому что без воды не может существовать ни человек, ни животное, ни растение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всегда ли мы правильно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дем себя, находясь у водоема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читайте об этом в учебнике на стр. 155 (5-ый абзац). Учащиеся читают вслух материал в учебник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Итак, мы прочитали сейчас о том, что нельзя допускать, чтобы в водоемах мыли транспорт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льзя бросать в воду мусор, оставлять мусор на берегу. Надо следить за чистотой воды, расчищать родники и ручь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8"/>
          <p:cNvSpPr/>
          <p:nvPr/>
        </p:nvSpPr>
        <p:spPr>
          <a:xfrm>
            <a:off x="826920" y="487080"/>
            <a:ext cx="763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А сейчас поработаем с картой нашего края. Какие водоемы расположены на территории нашего края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азовите естественные водоемы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Реки — Белая, Дема, Караидель, Ашкадар, Уршак; озера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—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ое озеро, Кандракуль и Асылыкуль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= 12 — 18 км )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Перечислите искусственные водоемы нашего края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Павловское водохранилище, Юмагузипское водохранилище, пруды в д. Уразметово, строящийся пруд в с.Первомайское)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этом на экране демонстрируются фотографии водоемов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лайд №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Слайд №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На берегу какой реки расположено наше село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Река Уршак)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Вот как воспел в своём стихотворении Уршак наш земляк поэт Рашит Шакур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{Ученица читает стихотворение «Уршак» на башкирском языке).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Демонстрируется слайд ре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лайд №9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настоящее время на заводах и фабриках строятся очистные сооружения, где использованная в производстве вода очищается и используется снова. Мы знаем, что вода — растворитель, в ней растворяются различные вещества, поэтому применение удобрений и химикатов в сельском хозяйстве, в больших количествах, также опасно для всего живог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11280" y="1822320"/>
            <a:ext cx="8208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АМЯТ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 еще загрязняет водоемы? Задание «Подумай!» на стр.15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ое значение в природе имеют водоемы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Хранилище воды для быта, производства, дома, приготовления пищи; место для отдыха; перевозка грузов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I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Домашнее зада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ить рассказ о реке Уршак по плану на стр. 153 и карте республик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кортостан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просы на стр. 15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AutoShape 5">
            <a:hlinkClick r:id="" action="ppaction://hlinkshowjump?jump=lastslide"/>
          </p:cNvPr>
          <p:cNvSpPr/>
          <p:nvPr/>
        </p:nvSpPr>
        <p:spPr>
          <a:xfrm>
            <a:off x="8101080" y="558972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ПАМЯТ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бросай мусор в во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оставляй мусор на берег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мой велосипед и другие транспортные средства на берегу ре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4">
            <a:hlinkClick r:id="" action="ppaction://hlinkshowjump?jump=previousslide"/>
          </p:cNvPr>
          <p:cNvSpPr/>
          <p:nvPr/>
        </p:nvSpPr>
        <p:spPr>
          <a:xfrm>
            <a:off x="8028000" y="5589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11280" y="732600"/>
            <a:ext cx="828180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стопримечательностью Южного Урала, известной во всем мире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ещера Шульганташ.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расположенная на на правом берегу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реки Агидель в Бурзянском районе Башкортостан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щера Шульганташ является не только уникальным памятником природы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о и всемирно известным памятником первобытного искусств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щера напоминает дивный дворец с огромными залами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оединенными между собой широкими коридорам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Общая протяженность пещеры свыше 2 к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ходное отверстие пещеры в ширину 40м, в высоту—20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рез пещеру протекает подземная река Шульган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о одна из немногих пещер на земном шаре, в котор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охранились рисунки первобытного человека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Слайд №1           Слайд №2                  Слайд №3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Слайд №4           Слайд №5                  Слайд №6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1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ова пеще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rcRect l="0" t="0" r="56525" b="0"/>
          <a:stretch/>
        </p:blipFill>
        <p:spPr>
          <a:xfrm>
            <a:off x="1116000" y="1700280"/>
            <a:ext cx="720108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8">
            <a:hlinkClick r:id="" action="ppaction://hlinkshowjump?jump=previousslide"/>
          </p:cNvPr>
          <p:cNvSpPr/>
          <p:nvPr/>
        </p:nvSpPr>
        <p:spPr>
          <a:xfrm>
            <a:off x="8317080" y="5815080"/>
            <a:ext cx="826920" cy="782640"/>
          </a:xfrm>
          <a:custGeom>
            <a:avLst/>
            <a:gdLst>
              <a:gd name="textAreaLeft" fmla="*/ 50400 w 826920"/>
              <a:gd name="textAreaRight" fmla="*/ 776520 w 826920"/>
              <a:gd name="textAreaTop" fmla="*/ 50400 h 782640"/>
              <a:gd name="textAreaBottom" fmla="*/ 732240 h 782640"/>
            </a:gdLst>
            <a:ahLst/>
            <a:rect l="textAreaLeft" t="textAreaTop" r="textAreaRight" b="textAreaBottom"/>
            <a:pathLst>
              <a:path w="22822" h="21600">
                <a:moveTo>
                  <a:pt x="0" y="0"/>
                </a:moveTo>
                <a:lnTo>
                  <a:pt x="22822" y="0"/>
                </a:lnTo>
                <a:lnTo>
                  <a:pt x="22822" y="21600"/>
                </a:lnTo>
                <a:lnTo>
                  <a:pt x="0" y="21600"/>
                </a:lnTo>
                <a:close/>
              </a:path>
              <a:path fill="lightenLess" w="22822" h="21600">
                <a:moveTo>
                  <a:pt x="0" y="0"/>
                </a:moveTo>
                <a:lnTo>
                  <a:pt x="22822" y="0"/>
                </a:lnTo>
                <a:lnTo>
                  <a:pt x="21422" y="1400"/>
                </a:lnTo>
                <a:lnTo>
                  <a:pt x="1400" y="1400"/>
                </a:lnTo>
                <a:close/>
              </a:path>
              <a:path fill="darken" w="22822" h="21600">
                <a:moveTo>
                  <a:pt x="22822" y="0"/>
                </a:moveTo>
                <a:lnTo>
                  <a:pt x="22822" y="21600"/>
                </a:lnTo>
                <a:lnTo>
                  <a:pt x="21422" y="20200"/>
                </a:lnTo>
                <a:lnTo>
                  <a:pt x="21422" y="1400"/>
                </a:lnTo>
                <a:close/>
              </a:path>
              <a:path fill="darkenLess" w="22822" h="21600">
                <a:moveTo>
                  <a:pt x="22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2" y="20200"/>
                </a:lnTo>
                <a:close/>
              </a:path>
              <a:path fill="lighten" w="22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2" h="21600">
                <a:moveTo>
                  <a:pt x="4404" y="7493"/>
                </a:moveTo>
                <a:lnTo>
                  <a:pt x="7912" y="7493"/>
                </a:lnTo>
                <a:lnTo>
                  <a:pt x="7912" y="12828"/>
                </a:lnTo>
                <a:cubicBezTo>
                  <a:pt x="7912" y="13751"/>
                  <a:pt x="8713" y="14482"/>
                  <a:pt x="9748" y="14482"/>
                </a:cubicBezTo>
                <a:lnTo>
                  <a:pt x="11411" y="14482"/>
                </a:lnTo>
                <a:cubicBezTo>
                  <a:pt x="12446" y="14482"/>
                  <a:pt x="13247" y="13751"/>
                  <a:pt x="13247" y="12828"/>
                </a:cubicBezTo>
                <a:lnTo>
                  <a:pt x="13247" y="7493"/>
                </a:lnTo>
                <a:lnTo>
                  <a:pt x="11411" y="7493"/>
                </a:lnTo>
                <a:lnTo>
                  <a:pt x="14918" y="3985"/>
                </a:lnTo>
                <a:lnTo>
                  <a:pt x="18591" y="7493"/>
                </a:lnTo>
                <a:lnTo>
                  <a:pt x="16755" y="7493"/>
                </a:lnTo>
                <a:lnTo>
                  <a:pt x="16755" y="12828"/>
                </a:lnTo>
                <a:cubicBezTo>
                  <a:pt x="16755" y="15596"/>
                  <a:pt x="14179" y="18155"/>
                  <a:pt x="11411" y="18155"/>
                </a:cubicBezTo>
                <a:lnTo>
                  <a:pt x="9748" y="18155"/>
                </a:lnTo>
                <a:cubicBezTo>
                  <a:pt x="6981" y="18155"/>
                  <a:pt x="4404" y="15596"/>
                  <a:pt x="4404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2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ход в Капову пещер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45329" t="-83" r="2027" b="0"/>
          <a:stretch/>
        </p:blipFill>
        <p:spPr>
          <a:xfrm>
            <a:off x="971640" y="1700280"/>
            <a:ext cx="7345440" cy="44654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>
            <a:hlinkClick r:id="" action="ppaction://hlinkshowjump?jump=previousslide"/>
          </p:cNvPr>
          <p:cNvSpPr/>
          <p:nvPr/>
        </p:nvSpPr>
        <p:spPr>
          <a:xfrm>
            <a:off x="8388360" y="5815080"/>
            <a:ext cx="755640" cy="709560"/>
          </a:xfrm>
          <a:custGeom>
            <a:avLst/>
            <a:gdLst>
              <a:gd name="textAreaLeft" fmla="*/ 45720 w 755640"/>
              <a:gd name="textAreaRight" fmla="*/ 709920 w 75564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3002" h="21600">
                <a:moveTo>
                  <a:pt x="0" y="0"/>
                </a:moveTo>
                <a:lnTo>
                  <a:pt x="23002" y="0"/>
                </a:lnTo>
                <a:lnTo>
                  <a:pt x="23002" y="21600"/>
                </a:lnTo>
                <a:lnTo>
                  <a:pt x="0" y="21600"/>
                </a:lnTo>
                <a:close/>
              </a:path>
              <a:path fill="lightenLess" w="23002" h="21600">
                <a:moveTo>
                  <a:pt x="0" y="0"/>
                </a:moveTo>
                <a:lnTo>
                  <a:pt x="23002" y="0"/>
                </a:lnTo>
                <a:lnTo>
                  <a:pt x="21602" y="1400"/>
                </a:lnTo>
                <a:lnTo>
                  <a:pt x="1400" y="1400"/>
                </a:lnTo>
                <a:close/>
              </a:path>
              <a:path fill="darken" w="23002" h="21600">
                <a:moveTo>
                  <a:pt x="23002" y="0"/>
                </a:moveTo>
                <a:lnTo>
                  <a:pt x="23002" y="21600"/>
                </a:lnTo>
                <a:lnTo>
                  <a:pt x="21602" y="20200"/>
                </a:lnTo>
                <a:lnTo>
                  <a:pt x="21602" y="1400"/>
                </a:lnTo>
                <a:close/>
              </a:path>
              <a:path fill="darkenLess" w="23002" h="21600">
                <a:moveTo>
                  <a:pt x="23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02" y="20200"/>
                </a:lnTo>
                <a:close/>
              </a:path>
              <a:path fill="lighten" w="23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5:50:54Z</dcterms:created>
  <dc:creator>User</dc:creator>
  <dc:description/>
  <dc:language>en-US</dc:language>
  <cp:lastModifiedBy>Элеонора</cp:lastModifiedBy>
  <dcterms:modified xsi:type="dcterms:W3CDTF">2012-12-20T16:51:53Z</dcterms:modified>
  <cp:revision>11</cp:revision>
  <dc:subject/>
  <dc:title>Урок природоведения                                      «Водоемы нашего края»  4 класс</dc:title>
</cp:coreProperties>
</file>