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2E3-E502-4414-A4D3-59B07844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AD6-71C1-4A42-9178-4E92F4A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09C-B8A0-405F-A322-0A6B1A8D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CCE-FE44-4FDC-BB7F-83D94EF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8DB0-F6A1-4875-B363-1CF9E816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FCF-5530-4738-AAAF-3FAD1F8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313F-FF27-4AF8-B385-BDAE167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978-EB1A-48E7-BB14-3877440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F467-E0CC-45D0-9039-4B0B2182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6504-2C8E-486F-B79B-BAA87E97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E34-0ED0-4C8D-9346-130EF04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AA2-4FCC-45F1-BA57-D2D5F19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5AF-3EBC-4FF2-839E-2079EA2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C7FE-95AE-46B2-895C-82FB82C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74C9-0D82-49EB-9456-4E54979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C0E2-9343-4AD8-A6F9-D476D62D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94AF-4242-4844-981B-831F1128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6B2-A44A-45C0-A7E3-CEE77BE8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6C5-3DE3-4198-828C-41A3A93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C02-1637-443B-A835-5553EE5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F30-4CC6-4C56-9659-07207789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25C-A6F9-42B3-9895-0C0AE8B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A29-24D7-4C0F-A644-3F60826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876-34A2-40F5-80D7-56281C0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B338-B906-4EB6-9513-565C5681241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22F-9F49-4CA2-8D17-CB0B673390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</a:t>
            </a: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ражданское общество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авовое государство»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6"/>
          <p:cNvSpPr/>
          <p:nvPr/>
        </p:nvSpPr>
        <p:spPr>
          <a:xfrm>
            <a:off x="2343240" y="0"/>
            <a:ext cx="4019400" cy="3809880"/>
          </a:xfrm>
          <a:prstGeom prst="ellipse">
            <a:avLst/>
          </a:prstGeom>
          <a:solidFill>
            <a:srgbClr val="33cccc">
              <a:alpha val="62000"/>
            </a:srgbClr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</a:rPr>
              <a:t>ГРАЖДАНСКОЕ ОБЩЕСТВО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се социальные струк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отнош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торые не регулируют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ластью и государств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3505320" y="2565360"/>
            <a:ext cx="3886200" cy="3683160"/>
          </a:xfrm>
          <a:prstGeom prst="ellipse">
            <a:avLst/>
          </a:prstGeom>
          <a:solidFill>
            <a:srgbClr val="99ccff">
              <a:alpha val="33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cf70"/>
                </a:solidFill>
                <a:latin typeface="Times New Roman"/>
                <a:ea typeface="Times New Roman"/>
              </a:rPr>
              <a:t>ГРАЖДАНСКОЕ ОБЩЕСТВО –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пределенном этапе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о - экономического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ческого развития,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нова демократического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ого государства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27"/>
          <p:cNvSpPr/>
          <p:nvPr/>
        </p:nvSpPr>
        <p:spPr>
          <a:xfrm>
            <a:off x="152280" y="2565360"/>
            <a:ext cx="4381560" cy="4292640"/>
          </a:xfrm>
          <a:prstGeom prst="ellipse">
            <a:avLst/>
          </a:prstGeom>
          <a:solidFill>
            <a:srgbClr val="33ccff">
              <a:alpha val="47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f70"/>
                </a:solidFill>
                <a:latin typeface="Times New Roman"/>
              </a:rPr>
              <a:t>ПРАВОВОЕ ГОСУДАРСТВО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граниченное в своих действиях прав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чиненное воле суверенного народ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ражаемой в конституци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званное обеспечи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новополагающие пр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 свободу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6362640" y="376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962680" y="746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форм собственности (частная и др.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мократ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защищённость граждан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ая куль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457200" y="11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0" y="476280"/>
            <a:ext cx="327672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ховенство закон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прав и свобод личности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ая форма взаимоотношений индивида, общества и государств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 разделения вла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4533840" y="28843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819520" y="292572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3619440" y="4168800"/>
            <a:ext cx="914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cc"/>
                </a:solidFill>
                <a:latin typeface="Tahoma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5:08:22Z</dcterms:created>
  <dc:creator>user</dc:creator>
  <dc:description/>
  <dc:language>en-US</dc:language>
  <cp:lastModifiedBy>Ильясова Наталья Николаевна</cp:lastModifiedBy>
  <dcterms:modified xsi:type="dcterms:W3CDTF">2012-12-19T12:19:2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