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194-F896-45B7-8861-84756AA2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6C1-62CD-44EC-AF71-59B535C0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E2E-84A8-429A-8DB7-B81AFE16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6D6-E238-43F6-A033-6D65DFCF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2905-E98E-4A07-A5E3-E6E9800E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3CD3-68B5-40F6-A177-11B3450A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27C3-5F42-4891-9472-A3484901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06A8-4F6F-480C-B39C-29AFDFEB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D9EA-2EF3-4850-8FB6-AB2F5490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5B71-2A17-4B37-A66C-330BBDF3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58AB-FC88-496E-8124-C893EC17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88C-CBA5-4DD1-9728-DA5ED3AA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E1FC-154A-4AC5-9B27-85D108D5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3F9B-9704-475B-8C2B-98F0A6D8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8B83-851B-4092-B952-AAF58AC7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9874-E5FF-4082-B1D6-0BD1B64C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0BE2-39F6-43C6-97C5-8246D9C9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705-FED7-47EB-9B54-AB68098F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B74-E54F-4C21-882C-AE2B742E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75A-BF0B-4138-99B8-2B97319F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49D-6A54-4365-B2D4-4ECCFF34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D0A-9A37-4A00-9CA3-6F32FB65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49F-EB92-4067-B25B-AEEE687B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188-2FBC-461C-A601-8C222905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2401-FDFA-4959-92EB-552771BE406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5A97-C925-4D19-8DB9-2393FC7079E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</a:t>
            </a: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ражданское общество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равовое государство»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6"/>
          <p:cNvSpPr/>
          <p:nvPr/>
        </p:nvSpPr>
        <p:spPr>
          <a:xfrm>
            <a:off x="2343240" y="0"/>
            <a:ext cx="4019400" cy="3809880"/>
          </a:xfrm>
          <a:prstGeom prst="ellipse">
            <a:avLst/>
          </a:prstGeom>
          <a:solidFill>
            <a:srgbClr val="33cccc">
              <a:alpha val="62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f70"/>
                </a:solidFill>
                <a:latin typeface="Times New Roman"/>
              </a:rPr>
              <a:t>ГРАЖДАНСКОЕ ОБЩЕСТВО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се социальные структур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отноше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торые не регулируют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ластью и государств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3505320" y="2565360"/>
            <a:ext cx="3886200" cy="3683160"/>
          </a:xfrm>
          <a:prstGeom prst="ellipse">
            <a:avLst/>
          </a:prstGeom>
          <a:solidFill>
            <a:srgbClr val="99ccff">
              <a:alpha val="33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f70"/>
                </a:solidFill>
                <a:latin typeface="Times New Roman"/>
                <a:ea typeface="Times New Roman"/>
              </a:rPr>
              <a:t>ГРАЖДАНСКОЕ ОБЩЕСТВО –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о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определенном этапе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 - экономического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ческого развития,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снова демократического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ого государства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Oval 27"/>
          <p:cNvSpPr/>
          <p:nvPr/>
        </p:nvSpPr>
        <p:spPr>
          <a:xfrm>
            <a:off x="152280" y="2565360"/>
            <a:ext cx="4381560" cy="4292640"/>
          </a:xfrm>
          <a:prstGeom prst="ellipse">
            <a:avLst/>
          </a:prstGeom>
          <a:solidFill>
            <a:srgbClr val="33ccff">
              <a:alpha val="47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70"/>
                </a:solidFill>
                <a:latin typeface="Times New Roman"/>
              </a:rPr>
              <a:t>ПРАВОВОЕ ГОСУДАРСТВО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сударств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граниченное в своих действиях прав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дчиненное воле суверенного народ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ражаемой в конституци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званное обеспечи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новополагающие пра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свободу ли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6362640" y="3762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962680" y="7462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образие форм собственности (частная и др.)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кратия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ая защищённость граждан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ая культу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457200" y="1116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0" y="476280"/>
            <a:ext cx="327672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ховенство закон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ьность прав и свобод личности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ая форма взаимоотношений индивида, общества и государств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разделения влас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4533840" y="288432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1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819520" y="292572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3619440" y="416880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3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5:08:22Z</dcterms:created>
  <dc:creator>user</dc:creator>
  <dc:description/>
  <dc:language>en-US</dc:language>
  <cp:lastModifiedBy>Ильясова Наталья Николаевна</cp:lastModifiedBy>
  <dcterms:modified xsi:type="dcterms:W3CDTF">2012-12-19T12:19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