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7CD2-06A3-41E7-8BEE-7034589B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F46-F10C-4DDB-A171-4DB47E07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1555-FFA2-445D-9BA7-A04CFEFF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08F-F038-49EC-831B-504FEE06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DBDC-1CD0-4D38-8ACB-93873953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707F-7152-446F-BD16-F2AB3D32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69F0-CB6F-4791-9659-AA7DBED3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ABEB-A7F3-4A69-95F4-8C2710D7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2C45-F684-492B-A946-507874EA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DD4D-B433-4296-A293-1FB2D4B1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3FD3-9B2F-4315-8FB9-0D0DD960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D03-B031-4205-AC9E-C25755FD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A733-927F-466D-AE6C-35217482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954C-5C6E-4ED2-BF5A-077FAEC0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C89A-098D-4E1B-9C01-09DBD920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7FB3-B199-4036-B74F-1A3C6C88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BEA6-CB6D-4DB5-8B18-9F0627FA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773-BAF2-4FC5-A194-0E183B9A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414-BC1C-4553-9175-4E0C4FB4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646D-9CE0-4E8B-B3A5-82624D76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225-20A1-4376-BF31-869911C8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70E-C2AC-4312-848A-9C894221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25C-79B3-48E6-92D8-133175C0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F8B8-045E-4756-A939-80C0119E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60E0-9687-4343-8A4C-0B1C1D1BFE5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ACD6-7CB8-40A3-B88B-5DDD79FB865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</a:t>
            </a:r>
            <a:r>
              <a:rPr b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Гражданское общество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равовое государство»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6"/>
          <p:cNvSpPr/>
          <p:nvPr/>
        </p:nvSpPr>
        <p:spPr>
          <a:xfrm>
            <a:off x="2343240" y="0"/>
            <a:ext cx="4019400" cy="3809880"/>
          </a:xfrm>
          <a:prstGeom prst="ellipse">
            <a:avLst/>
          </a:prstGeom>
          <a:solidFill>
            <a:srgbClr val="33cccc">
              <a:alpha val="62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f70"/>
                </a:solidFill>
                <a:latin typeface="Times New Roman"/>
              </a:rPr>
              <a:t>ГРАЖДАНСКОЕ ОБЩЕСТВО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се социальные структур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отношен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торые не регулируютс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ластью и государств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3505320" y="2565360"/>
            <a:ext cx="3886200" cy="3683160"/>
          </a:xfrm>
          <a:prstGeom prst="ellipse">
            <a:avLst/>
          </a:prstGeom>
          <a:solidFill>
            <a:srgbClr val="99ccff">
              <a:alpha val="33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f70"/>
                </a:solidFill>
                <a:latin typeface="Times New Roman"/>
                <a:ea typeface="Times New Roman"/>
              </a:rPr>
              <a:t>ГРАЖДАНСКОЕ ОБЩЕСТВО –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о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определенном этапе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о - экономического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ческого развития,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основа демократического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ого государства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Oval 27"/>
          <p:cNvSpPr/>
          <p:nvPr/>
        </p:nvSpPr>
        <p:spPr>
          <a:xfrm>
            <a:off x="152280" y="2565360"/>
            <a:ext cx="4381560" cy="4292640"/>
          </a:xfrm>
          <a:prstGeom prst="ellipse">
            <a:avLst/>
          </a:prstGeom>
          <a:solidFill>
            <a:srgbClr val="33ccff">
              <a:alpha val="47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70"/>
                </a:solidFill>
                <a:latin typeface="Times New Roman"/>
              </a:rPr>
              <a:t>ПРАВОВОЕ ГОСУДАРСТВО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сударство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граниченное в своих действиях прав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дчиненное воле суверенного народ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ыражаемой в конституци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званное обеспечи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сновополагающие пра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свободу лич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6362640" y="3762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962680" y="74628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ообразие форм собственности (частная и др.)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мократия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ая защищённость граждан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ая культу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457200" y="1116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0" y="476280"/>
            <a:ext cx="327672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ховенство закона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ьность прав и свобод личности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ая форма взаимоотношений индивида, общества и государства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разделения влас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4533840" y="2884320"/>
            <a:ext cx="91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ccc"/>
                </a:solidFill>
                <a:latin typeface="Tahoma"/>
              </a:rPr>
              <a:t>1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819520" y="2925720"/>
            <a:ext cx="91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ccc"/>
                </a:solidFill>
                <a:latin typeface="Tahoma"/>
              </a:rPr>
              <a:t>2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3619440" y="4168800"/>
            <a:ext cx="91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ccc"/>
                </a:solidFill>
                <a:latin typeface="Tahoma"/>
              </a:rPr>
              <a:t>3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5:08:22Z</dcterms:created>
  <dc:creator>user</dc:creator>
  <dc:description/>
  <dc:language>en-US</dc:language>
  <cp:lastModifiedBy>Ильясова Наталья Николаевна</cp:lastModifiedBy>
  <dcterms:modified xsi:type="dcterms:W3CDTF">2012-12-19T12:19:2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