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12E-F289-449A-99E1-2C222A6E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C1BE-4452-4E03-BB10-2249513A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867-9270-4FDC-8756-4312FFBF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2F37-2B15-4106-ABD0-27D335D9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E362-4ABD-4942-B757-9E5406FA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67F2-9FA3-42B8-BCA6-283F72CB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C11C-EA25-4969-9C5D-8395E9F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8998-4812-4C54-A87D-F5AC1563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2E15-B66D-4E3C-9BFA-0C08D5D5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1026-78E3-44DE-8210-ABABF22A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9C2-C966-4AF8-BED4-76F5DD79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9CEB-21C4-41F1-A0E5-DA931674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0DF9-D69F-44C5-A190-2C1BEDEB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A409-3217-4800-A065-5B763EBE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77DE-213C-4194-8315-027A30930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DBB2-A325-4159-B242-732E6A0FE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B4F8-898A-4317-9C67-409BC779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3BA2-D241-42E9-AEB7-AFC90C21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63C6-D65B-46E0-B5CE-E9CFBEFE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EEDC-E5A1-4D10-9424-16E670EA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B01-FB26-44DF-851B-E08CB113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C730-A286-4BDB-B597-9EE6454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B5A5-8A96-40E9-AF16-0E83F82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0D6-54A6-4F1B-87CA-EFE99C50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06D3-2193-4A90-9066-02F16AB3ADD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E041-19BE-4D4B-8EDF-FD49B7704948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2"/>
          <p:cNvSpPr/>
          <p:nvPr/>
        </p:nvSpPr>
        <p:spPr>
          <a:xfrm>
            <a:off x="1262160" y="476280"/>
            <a:ext cx="7197480" cy="59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«Расскажи мне, и я забуду,</a:t>
            </a:r>
            <a:r>
              <a:rPr b="0" lang="ru-RU" sz="54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покажи мне, и я запомню, </a:t>
            </a:r>
            <a:br>
              <a:rPr sz="5400"/>
            </a:br>
            <a:r>
              <a:rPr b="0" lang="ru-RU" sz="5400" spc="-1" strike="noStrike">
                <a:solidFill>
                  <a:srgbClr val="402000"/>
                </a:solidFill>
                <a:latin typeface="Times New Roman"/>
              </a:rPr>
              <a:t>вовлеки меня, и я научусь».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Китайская мудр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1386000" y="3110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Найдите квадрат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1619280" y="981000"/>
            <a:ext cx="228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3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5y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0,9a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Объект 5"/>
              <p:cNvSpPr txBox="1"/>
              <p:nvPr/>
            </p:nvSpPr>
            <p:spPr>
              <a:xfrm>
                <a:off x="7020000" y="3678120"/>
                <a:ext cx="8287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Объект 5"/>
              <p:cNvSpPr txBox="1"/>
              <p:nvPr/>
            </p:nvSpPr>
            <p:spPr>
              <a:xfrm>
                <a:off x="7020000" y="2316240"/>
                <a:ext cx="7920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Объект 5"/>
              <p:cNvSpPr txBox="1"/>
              <p:nvPr/>
            </p:nvSpPr>
            <p:spPr>
              <a:xfrm>
                <a:off x="7020000" y="990720"/>
                <a:ext cx="5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TextBox 4"/>
          <p:cNvSpPr/>
          <p:nvPr/>
        </p:nvSpPr>
        <p:spPr>
          <a:xfrm>
            <a:off x="3882960" y="981000"/>
            <a:ext cx="22892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40a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2xy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4800" spc="-1" strike="noStrike" baseline="30000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402000"/>
                </a:solidFill>
                <a:latin typeface="Times New Roman"/>
              </a:rPr>
              <a:t>z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4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едставьте в виде квадрата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76400" y="1609560"/>
            <a:ext cx="68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16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m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25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y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8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1,44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10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   49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6 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81a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Объект 7"/>
              <p:cNvSpPr txBox="1"/>
              <p:nvPr/>
            </p:nvSpPr>
            <p:spPr>
              <a:xfrm>
                <a:off x="2124000" y="2637000"/>
                <a:ext cx="67788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14440" y="83340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очитайте выражения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908000" y="1700280"/>
            <a:ext cx="25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(9 –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x + 4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5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b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7 + 3c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– (2a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(3a – b)</a:t>
            </a:r>
            <a:r>
              <a:rPr b="0" lang="en-US" sz="3600" spc="-1" strike="noStrike" baseline="30000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572000" y="1679400"/>
            <a:ext cx="273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81-18a+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+8x+16 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9+42c +9c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9a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–6ab+ b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1554120"/>
            <a:ext cx="7345440" cy="327996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2" descr=""/>
          <p:cNvPicPr/>
          <p:nvPr/>
        </p:nvPicPr>
        <p:blipFill>
          <a:blip r:embed="rId2"/>
          <a:stretch/>
        </p:blipFill>
        <p:spPr>
          <a:xfrm>
            <a:off x="2292480" y="4419720"/>
            <a:ext cx="4572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166760" y="907920"/>
            <a:ext cx="7345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очитать п.17, стр.67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Записать формулу разности квадратов и ее словесную формулировку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Разобрать примеры 2 и 3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457200" indent="-457200">
              <a:buClr>
                <a:srgbClr val="402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Приступить к самостоятельной работе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Прямоугольник 2" descr=""/>
          <p:cNvPicPr/>
          <p:nvPr/>
        </p:nvPicPr>
        <p:blipFill>
          <a:blip r:embed="rId1"/>
          <a:stretch/>
        </p:blipFill>
        <p:spPr>
          <a:xfrm>
            <a:off x="2305080" y="622440"/>
            <a:ext cx="4986360" cy="1822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912960" y="2349360"/>
          <a:ext cx="7772400" cy="2886120"/>
        </p:xfrm>
        <a:graphic>
          <a:graphicData uri="http://schemas.openxmlformats.org/drawingml/2006/table">
            <a:tbl>
              <a:tblPr/>
              <a:tblGrid>
                <a:gridCol w="1930320"/>
                <a:gridCol w="547560"/>
                <a:gridCol w="549360"/>
                <a:gridCol w="547560"/>
                <a:gridCol w="547920"/>
                <a:gridCol w="722160"/>
                <a:gridCol w="722160"/>
                <a:gridCol w="722520"/>
                <a:gridCol w="642960"/>
                <a:gridCol w="839880"/>
              </a:tblGrid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72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</a:tr>
              <a:tr h="28908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e8e7e7"/>
                    </a:solidFill>
                  </a:tcPr>
                </a:tc>
              </a:tr>
              <a:tr h="2887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gridSpan="4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3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4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Оценка «5»</a:t>
                      </a:r>
                      <a:endParaRPr b="0" lang="en-US" sz="16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solidFill>
                      <a:srgbClr val="ceccc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21:01:16Z</dcterms:created>
  <dc:creator>Чернов Алексей</dc:creator>
  <dc:description/>
  <dc:language>en-US</dc:language>
  <cp:lastModifiedBy>Костя</cp:lastModifiedBy>
  <dcterms:modified xsi:type="dcterms:W3CDTF">2012-12-25T13:31:51Z</dcterms:modified>
  <cp:revision>32</cp:revision>
  <dc:subject/>
  <dc:title>Что такое деятельность ?</dc:title>
</cp:coreProperties>
</file>