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18B-3194-426E-90CF-65066DB8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C54-A473-4027-9C25-3D6EECC0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D7D-F6E4-4A2A-9A08-5EA29D23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BE2-D29B-4DDA-984B-D1CF9739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FBB7-BDDD-4EFF-A365-85A940A8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D322-CD1B-43A7-912A-189A78C7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2089-3897-42BD-8852-DC4A7E29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F1CE-7FBD-4A1E-97F3-91462C70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3F7F-DC4F-4A20-8D64-97CBB85E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A2D7-6A33-433A-BEBA-BEFA2777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C710-4AD7-46B9-9433-22BE02F4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EC3-7B03-4DB0-AA96-4B6B397A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7A84-78E9-45E9-A2F7-5305EDCC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4961-5C70-409B-9169-F83F1B81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55CE-D395-444B-BFAE-A8AAF081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3C61-5A90-484A-85F9-88AABA8F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EF54-4B04-4EDD-90F9-5B6D6E04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BFA-E7E9-4B79-AFF6-1E41FB62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CD5-2F3E-44AE-B892-B52EA00F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835-3D66-43D7-97CD-C0BD3677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CA7-13B0-4EDC-AF32-2693316E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49F-EF86-41BF-A21B-3A91F8CD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D97-38FE-4A7A-983E-5DD4D669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FD7-39F8-4309-82EF-EE049433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BCDF-7169-46FF-8A1A-BD713D554BDE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6A9A-678A-43C0-BD5E-92D48149F6E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1262160" y="476280"/>
            <a:ext cx="719748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«Расскажи мне, и я забуду,</a:t>
            </a:r>
            <a:r>
              <a:rPr b="0" lang="ru-RU" sz="5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покажи мне, и я запомню, </a:t>
            </a:r>
            <a:br>
              <a:rPr sz="5400"/>
            </a:b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вовлеки меня, и я научусь».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итайская мудрос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1386000" y="31104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Найдите квадрат выражения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619280" y="981000"/>
            <a:ext cx="228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3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5y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0,9a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5"/>
              <p:cNvSpPr txBox="1"/>
              <p:nvPr/>
            </p:nvSpPr>
            <p:spPr>
              <a:xfrm>
                <a:off x="7020000" y="3678120"/>
                <a:ext cx="8287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5"/>
              <p:cNvSpPr txBox="1"/>
              <p:nvPr/>
            </p:nvSpPr>
            <p:spPr>
              <a:xfrm>
                <a:off x="7020000" y="2316240"/>
                <a:ext cx="79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5"/>
              <p:cNvSpPr txBox="1"/>
              <p:nvPr/>
            </p:nvSpPr>
            <p:spPr>
              <a:xfrm>
                <a:off x="7020000" y="990720"/>
                <a:ext cx="576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Box 4"/>
          <p:cNvSpPr/>
          <p:nvPr/>
        </p:nvSpPr>
        <p:spPr>
          <a:xfrm>
            <a:off x="3882960" y="981000"/>
            <a:ext cx="2289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40a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2xy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z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1414440" y="8334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едставьте в виде квадрата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1076400" y="1609560"/>
            <a:ext cx="68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16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25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1,44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49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6 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81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7"/>
              <p:cNvSpPr txBox="1"/>
              <p:nvPr/>
            </p:nvSpPr>
            <p:spPr>
              <a:xfrm>
                <a:off x="2124000" y="2637000"/>
                <a:ext cx="6778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14440" y="8334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очитайте выражения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908000" y="1700280"/>
            <a:ext cx="25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(9 –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x + 4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b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7 + 3c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(2a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3a – b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572000" y="1679400"/>
            <a:ext cx="273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1-18a+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+8x+16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9+42c +9c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9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–6ab+ b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1554120"/>
            <a:ext cx="7345440" cy="32799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" descr=""/>
          <p:cNvPicPr/>
          <p:nvPr/>
        </p:nvPicPr>
        <p:blipFill>
          <a:blip r:embed="rId2"/>
          <a:stretch/>
        </p:blipFill>
        <p:spPr>
          <a:xfrm>
            <a:off x="2292480" y="4419720"/>
            <a:ext cx="4572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166760" y="907920"/>
            <a:ext cx="734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Прочитать п.17, стр.67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Записать формулу разности квадратов и ее словесную формулировку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Разобрать примеры 2 и 3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Приступить к самостоятельной работе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2" descr=""/>
          <p:cNvPicPr/>
          <p:nvPr/>
        </p:nvPicPr>
        <p:blipFill>
          <a:blip r:embed="rId1"/>
          <a:stretch/>
        </p:blipFill>
        <p:spPr>
          <a:xfrm>
            <a:off x="2305080" y="622440"/>
            <a:ext cx="4986360" cy="18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912960" y="2349360"/>
          <a:ext cx="7772400" cy="2886120"/>
        </p:xfrm>
        <a:graphic>
          <a:graphicData uri="http://schemas.openxmlformats.org/drawingml/2006/table">
            <a:tbl>
              <a:tblPr/>
              <a:tblGrid>
                <a:gridCol w="1930320"/>
                <a:gridCol w="547560"/>
                <a:gridCol w="549360"/>
                <a:gridCol w="547560"/>
                <a:gridCol w="547920"/>
                <a:gridCol w="722160"/>
                <a:gridCol w="722160"/>
                <a:gridCol w="722520"/>
                <a:gridCol w="642960"/>
                <a:gridCol w="839880"/>
              </a:tblGrid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gridSpan="4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3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4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5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4T21:01:16Z</dcterms:created>
  <dc:creator>Чернов Алексей</dc:creator>
  <dc:description/>
  <dc:language>en-US</dc:language>
  <cp:lastModifiedBy>Костя</cp:lastModifiedBy>
  <dcterms:modified xsi:type="dcterms:W3CDTF">2012-12-25T13:31:51Z</dcterms:modified>
  <cp:revision>32</cp:revision>
  <dc:subject/>
  <dc:title>Что такое деятельность ?</dc:title>
</cp:coreProperties>
</file>