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1BE-82F3-4657-9F4A-1135811C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629-2AA6-4B3E-A6E6-8A38C135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8E9-90A4-4FE3-A59C-E48B78FD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8FC-52D6-476E-880E-901E4E97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6A8D-B088-48FB-AA73-3A244F30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399E-55CD-4F42-A9B6-374CB69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AE4B-F8A8-4025-B05B-32F1CD03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ABC3-2EA8-4C13-B071-5FDD08DB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6714-B7F1-4B72-9285-4E71DCB6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0E76-76B0-44E9-AD72-2907662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EC38-2410-434E-9DEC-0C36197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D99-A7AE-46DD-BA3B-6A95EAF2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6844-13C6-48FA-9AA9-21E9DA9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83B0-B5FE-4D67-A2A9-BD700F48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83D4-1381-4B41-ACBB-852EFA83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7BA2-3A2A-4F22-85BA-0F1A3A02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E2AA-AED3-47FF-ADF0-CD30A366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124-EA5D-4C48-A389-F816B198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982-9F01-469D-88E1-4F78B1BF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597-BF17-466F-965C-8801CBE0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1DC-93B9-4DDB-A32B-81C4E70C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D05-662F-44AA-83A4-949F8CB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A7A-8F63-487D-BAE7-CDF1EDD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0A1-9EC0-4698-AB0A-C14251AF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8DBA-A510-463D-9E53-E9046E8BDC4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1377-6109-41BD-905B-B3E9BD88DA0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1262160" y="476280"/>
            <a:ext cx="7197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«Расскажи мне, и я забуду,</a:t>
            </a:r>
            <a:r>
              <a:rPr b="0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покажи мне, и я запомню,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вовлеки меня, и я научусь»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итайская мудр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386000" y="3110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йдите квадрат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19280" y="981000"/>
            <a:ext cx="228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5y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0,9a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7020000" y="3678120"/>
                <a:ext cx="828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7020000" y="2316240"/>
                <a:ext cx="79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7020000" y="990720"/>
                <a:ext cx="5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4"/>
          <p:cNvSpPr/>
          <p:nvPr/>
        </p:nvSpPr>
        <p:spPr>
          <a:xfrm>
            <a:off x="3882960" y="981000"/>
            <a:ext cx="228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40a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2x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z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едставьте в виде квадрата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76400" y="1609560"/>
            <a:ext cx="68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16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25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1,44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49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6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81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7"/>
              <p:cNvSpPr txBox="1"/>
              <p:nvPr/>
            </p:nvSpPr>
            <p:spPr>
              <a:xfrm>
                <a:off x="2124000" y="2637000"/>
                <a:ext cx="677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читайте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08000" y="1700280"/>
            <a:ext cx="25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(9 –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x + 4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7 + 3c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(2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3a – b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572000" y="16794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1-18a+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+8x+16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9+42c +9c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–6ab+ 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1554120"/>
            <a:ext cx="7345440" cy="32799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292480" y="4419720"/>
            <a:ext cx="4572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66760" y="90792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очитать п.17, стр.67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Записать формулу разности квадратов и ее словесную формулировку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Разобрать примеры 2 и 3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иступить к самостоятельной работе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2" descr=""/>
          <p:cNvPicPr/>
          <p:nvPr/>
        </p:nvPicPr>
        <p:blipFill>
          <a:blip r:embed="rId1"/>
          <a:stretch/>
        </p:blipFill>
        <p:spPr>
          <a:xfrm>
            <a:off x="2305080" y="622440"/>
            <a:ext cx="49863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912960" y="2349360"/>
          <a:ext cx="7772400" cy="2886120"/>
        </p:xfrm>
        <a:graphic>
          <a:graphicData uri="http://schemas.openxmlformats.org/drawingml/2006/table">
            <a:tbl>
              <a:tblPr/>
              <a:tblGrid>
                <a:gridCol w="1930320"/>
                <a:gridCol w="547560"/>
                <a:gridCol w="549360"/>
                <a:gridCol w="547560"/>
                <a:gridCol w="547920"/>
                <a:gridCol w="722160"/>
                <a:gridCol w="722160"/>
                <a:gridCol w="722520"/>
                <a:gridCol w="642960"/>
                <a:gridCol w="839880"/>
              </a:tblGrid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gridSpan="4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3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4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5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21:01:16Z</dcterms:created>
  <dc:creator>Чернов Алексей</dc:creator>
  <dc:description/>
  <dc:language>en-US</dc:language>
  <cp:lastModifiedBy>Костя</cp:lastModifiedBy>
  <dcterms:modified xsi:type="dcterms:W3CDTF">2012-12-25T13:31:51Z</dcterms:modified>
  <cp:revision>32</cp:revision>
  <dc:subject/>
  <dc:title>Что такое деятельность ?</dc:title>
</cp:coreProperties>
</file>