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E09-E7DD-48A2-8C36-D26503AE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42D-53E1-4ECD-9499-12F11919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7A9-FF18-4789-A1EE-145E51CE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B0C-4A4A-47CA-81BD-B39ACD87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C02B-31B5-4EF5-B704-78643816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32D6-1F88-4E89-B1BE-158A90C0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19D7-6D17-4530-8323-3CA3B020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1E55-D04A-4817-91FE-EC0E692A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226F-F8CC-49A7-A306-9B6B4E43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B755-73EE-4533-B3C4-0AD5A14C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DA99-316F-4EFA-A023-A4CF1046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309-9EE2-4452-8311-683A55B5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CC79-24E9-4445-85E8-BFC853F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B9E6-A78B-4132-8ED2-37F53972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9B20-913B-4209-B703-51F9A4E1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D815-F638-4070-99C2-18E89A26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8D80-B138-44E5-B44D-028F42CF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888-090B-4D1B-B7C2-AAF4AB3B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FE0-B7DA-4902-A968-289190BD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F75-DD0C-4AFA-B728-95BECE08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8B1-8279-46AA-9C17-3A589F6C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037-6816-4BFE-ADD3-6A757FBF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8FD-0918-40C2-A132-F8F00C01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16E-D19A-462E-BEC0-BB21B4E1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2BE9-D712-4C5C-B16F-5B9268084F0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7023-B3A5-4D20-9B66-A617C056C07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1262160" y="476280"/>
            <a:ext cx="71974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«Расскажи мне, и я забуду,</a:t>
            </a:r>
            <a:r>
              <a:rPr b="0" lang="ru-RU" sz="5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покажи мне, и я запомню,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вовлеки меня, и я научусь».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итайская мудр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1386000" y="31104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Найдите квадрат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19280" y="981000"/>
            <a:ext cx="228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3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5y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0,9a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7020000" y="3678120"/>
                <a:ext cx="828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5"/>
              <p:cNvSpPr txBox="1"/>
              <p:nvPr/>
            </p:nvSpPr>
            <p:spPr>
              <a:xfrm>
                <a:off x="7020000" y="2316240"/>
                <a:ext cx="79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7020000" y="990720"/>
                <a:ext cx="576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Box 4"/>
          <p:cNvSpPr/>
          <p:nvPr/>
        </p:nvSpPr>
        <p:spPr>
          <a:xfrm>
            <a:off x="3882960" y="981000"/>
            <a:ext cx="2289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40a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2xy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z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едставьте в виде квадрата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076400" y="1609560"/>
            <a:ext cx="68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16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25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1,44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49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6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81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7"/>
              <p:cNvSpPr txBox="1"/>
              <p:nvPr/>
            </p:nvSpPr>
            <p:spPr>
              <a:xfrm>
                <a:off x="2124000" y="2637000"/>
                <a:ext cx="6778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очитайте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908000" y="1700280"/>
            <a:ext cx="25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(9 –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x + 4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7 + 3c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(2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3a – b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572000" y="1679400"/>
            <a:ext cx="27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1-18a+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+8x+16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9+42c +9c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–6ab+ 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1554120"/>
            <a:ext cx="7345440" cy="32799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292480" y="4419720"/>
            <a:ext cx="4572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166760" y="907920"/>
            <a:ext cx="73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очитать п.17, стр.67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Записать формулу разности квадратов и ее словесную формулировку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Разобрать примеры 2 и 3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иступить к самостоятельной работе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2" descr=""/>
          <p:cNvPicPr/>
          <p:nvPr/>
        </p:nvPicPr>
        <p:blipFill>
          <a:blip r:embed="rId1"/>
          <a:stretch/>
        </p:blipFill>
        <p:spPr>
          <a:xfrm>
            <a:off x="2305080" y="622440"/>
            <a:ext cx="4986360" cy="18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912960" y="2349360"/>
          <a:ext cx="7772400" cy="2886120"/>
        </p:xfrm>
        <a:graphic>
          <a:graphicData uri="http://schemas.openxmlformats.org/drawingml/2006/table">
            <a:tbl>
              <a:tblPr/>
              <a:tblGrid>
                <a:gridCol w="1930320"/>
                <a:gridCol w="547560"/>
                <a:gridCol w="549360"/>
                <a:gridCol w="547560"/>
                <a:gridCol w="547920"/>
                <a:gridCol w="722160"/>
                <a:gridCol w="722160"/>
                <a:gridCol w="722520"/>
                <a:gridCol w="642960"/>
                <a:gridCol w="839880"/>
              </a:tblGrid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gridSpan="4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3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4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5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21:01:16Z</dcterms:created>
  <dc:creator>Чернов Алексей</dc:creator>
  <dc:description/>
  <dc:language>en-US</dc:language>
  <cp:lastModifiedBy>Костя</cp:lastModifiedBy>
  <dcterms:modified xsi:type="dcterms:W3CDTF">2012-12-25T13:31:51Z</dcterms:modified>
  <cp:revision>32</cp:revision>
  <dc:subject/>
  <dc:title>Что такое деятельность ?</dc:title>
</cp:coreProperties>
</file>