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74F8-1E63-405B-8537-43310A793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430C-02CB-4221-AC92-FDEE93D0D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764E-2081-45D6-BADC-1EE921542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A5B5-FD35-49FA-A9B5-4197C0F52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B31B-470C-4769-B32E-F9FB8AA79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4A03-F607-4D5B-A1FE-E67764748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4A3F-8240-4E7E-AC15-2C75B95C1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9A6F-4D5A-4A52-B435-3699C031F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3C64-5173-407A-BE04-1445FA2F0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AE8F-96CC-4216-8F68-2C0ACE30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EF42-5372-4002-824C-1986B695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EF85-B5DF-4008-85D7-EFCC5A8B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B39D1-E9E8-4BF8-AF46-37CA5AB710C5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Фролова Ольга Ивановна  д/с № 1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3F238-807A-49F7-AC07-405BE3BBD91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404640"/>
            <a:ext cx="6769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км</a:t>
            </a: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әк һәм ботка, чәй һәм кофе турын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Икмәк  иң кадерле, иң кирәк, иң тәмле ризык. Башак ипи я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ботка     булып өстәлгә    килгәнче зур юл у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Ипи басуда үсә, ә аны үстерүдә күп кен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кешеләр зур хезмәт куял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Хәзер кешегә машиналар ярдәмгә килә. Барыб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икмәк  үстерү авыр эш булып ка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Икмәк – ил тотка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Ипи-тоз – якты йөз</a:t>
            </a: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Без икмәкне олыларга, кадерләргә тиеш. Икмәкне үстергә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пешергән кешеләрне хөрмәт  итәргә тиешбе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e46c0a"/>
                </a:solidFill>
                <a:latin typeface="Arial"/>
              </a:rPr>
              <a:t>Камыр әзер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Содержимое 8" descr="56.jpg"/>
          <p:cNvPicPr/>
          <p:nvPr/>
        </p:nvPicPr>
        <p:blipFill>
          <a:blip r:embed="rId1"/>
          <a:stretch/>
        </p:blipFill>
        <p:spPr>
          <a:xfrm>
            <a:off x="2336760" y="1600200"/>
            <a:ext cx="447048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06214-9C3A-45E0-A6B6-488CB73282D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e46c0a"/>
                </a:solidFill>
                <a:latin typeface="Arial"/>
              </a:rPr>
              <a:t>Камыр басалар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Содержимое 6" descr="58.jpg"/>
          <p:cNvPicPr/>
          <p:nvPr/>
        </p:nvPicPr>
        <p:blipFill>
          <a:blip r:embed="rId1"/>
          <a:stretch/>
        </p:blipFill>
        <p:spPr>
          <a:xfrm>
            <a:off x="682560" y="2421000"/>
            <a:ext cx="2881440" cy="2905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9" name="Содержимое 7" descr="64.jpg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0" name="Нижний колонтитул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607AB-B2C0-4510-883C-7AD24EBD2F6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e46c0a"/>
                </a:solidFill>
                <a:latin typeface="Arial"/>
              </a:rPr>
              <a:t>Икмәкне өйдә дә пешереп бул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Содержимое 3" descr="13.jpg"/>
          <p:cNvPicPr/>
          <p:nvPr/>
        </p:nvPicPr>
        <p:blipFill>
          <a:blip r:embed="rId1"/>
          <a:stretch/>
        </p:blipFill>
        <p:spPr>
          <a:xfrm>
            <a:off x="1830240" y="1600200"/>
            <a:ext cx="548352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4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0D906-88F1-4BD0-9DBE-CAF164BE686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e46c0a"/>
                </a:solidFill>
                <a:latin typeface="Arial"/>
              </a:rPr>
              <a:t>Икмәк әзер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Содержимое 6" descr="66.jpg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8" name="Содержимое 7" descr="67.jpg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9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ACA41-8C86-4FCC-A031-7D8E8D42548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e46c0a"/>
                </a:solidFill>
                <a:latin typeface="Arial"/>
              </a:rPr>
              <a:t>И</a:t>
            </a:r>
            <a:r>
              <a:rPr b="1" lang="tt-RU" sz="9600" spc="-1" strike="noStrike">
                <a:solidFill>
                  <a:srgbClr val="e46c0a"/>
                </a:solidFill>
                <a:latin typeface="Arial"/>
              </a:rPr>
              <a:t>кмәк кайдан килә?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74EF9-0AF9-49A8-B46B-E4105DF2548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30088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рлыкларны чәчәләр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Содержимое 6" descr="39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7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455D-CBF8-4795-B441-46DB6DD7B42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362800" cy="18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ашиналар ярдәмгә килә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3" descr="59.jpg"/>
          <p:cNvPicPr/>
          <p:nvPr/>
        </p:nvPicPr>
        <p:blipFill>
          <a:blip r:embed="rId1"/>
          <a:stretch/>
        </p:blipFill>
        <p:spPr>
          <a:xfrm>
            <a:off x="1752480" y="1747800"/>
            <a:ext cx="5639040" cy="422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1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033B0-9CD0-4D7C-8DCE-2D48B50819C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000000"/>
                </a:solidFill>
                <a:latin typeface="Arial"/>
              </a:rPr>
              <a:t>Шушындый башаклар үсеп чыг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3" descr="3.jpg"/>
          <p:cNvPicPr/>
          <p:nvPr/>
        </p:nvPicPr>
        <p:blipFill>
          <a:blip r:embed="rId1"/>
          <a:stretch/>
        </p:blipFill>
        <p:spPr>
          <a:xfrm>
            <a:off x="1320840" y="1684440"/>
            <a:ext cx="6502320" cy="435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5" name="Нижний колонтитул 5"/>
          <p:cNvSpPr/>
          <p:nvPr/>
        </p:nvSpPr>
        <p:spPr>
          <a:xfrm>
            <a:off x="3203640" y="62373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5AED6-52FC-4020-96EF-7C1C1E7292A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Arial"/>
              </a:rPr>
              <a:t>Башакларны </a:t>
            </a: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комбайн</a:t>
            </a:r>
            <a:r>
              <a:rPr b="1" lang="ru-RU" sz="4000" spc="-1" strike="noStrike">
                <a:solidFill>
                  <a:srgbClr val="e46c0a"/>
                </a:solidFill>
                <a:latin typeface="Arial"/>
              </a:rPr>
              <a:t>нар җыя.</a:t>
            </a: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3" descr="16.jpg"/>
          <p:cNvPicPr/>
          <p:nvPr/>
        </p:nvPicPr>
        <p:blipFill>
          <a:blip r:embed="rId1"/>
          <a:stretch/>
        </p:blipFill>
        <p:spPr>
          <a:xfrm>
            <a:off x="1523880" y="1862280"/>
            <a:ext cx="6096240" cy="4000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9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AB1DA-C728-4C21-ABCD-9A968E0C5DA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e46c0a"/>
                </a:solidFill>
                <a:latin typeface="Arial"/>
              </a:rPr>
              <a:t>Уңышны тегермәнгә илтәләр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3" descr="41.jpg"/>
          <p:cNvPicPr/>
          <p:nvPr/>
        </p:nvPicPr>
        <p:blipFill>
          <a:blip r:embed="rId1"/>
          <a:stretch/>
        </p:blipFill>
        <p:spPr>
          <a:xfrm>
            <a:off x="1155600" y="1600200"/>
            <a:ext cx="683280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3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1D868-7B94-4A70-A188-25BE07C0581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e46c0a"/>
                </a:solidFill>
                <a:latin typeface="Arial"/>
              </a:rPr>
              <a:t>Орлыклардан он ясыйлар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Содержимое 3" descr="40.jpg"/>
          <p:cNvPicPr/>
          <p:nvPr/>
        </p:nvPicPr>
        <p:blipFill>
          <a:blip r:embed="rId1"/>
          <a:stretch/>
        </p:blipFill>
        <p:spPr>
          <a:xfrm>
            <a:off x="973080" y="1979640"/>
            <a:ext cx="7197840" cy="3767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7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8C585-D9B2-4DFA-ADC2-01D715945BE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4456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Arial"/>
              </a:rPr>
              <a:t>Оннан икмәк пешерәләр</a:t>
            </a: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5" descr="9.jpg"/>
          <p:cNvPicPr/>
          <p:nvPr/>
        </p:nvPicPr>
        <p:blipFill>
          <a:blip r:embed="rId1"/>
          <a:stretch/>
        </p:blipFill>
        <p:spPr>
          <a:xfrm>
            <a:off x="2333520" y="2071800"/>
            <a:ext cx="4476960" cy="3581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04BC1-D05D-4B3D-B8EB-A7211134A3B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05:13:17Z</dcterms:created>
  <dc:creator>Ольга</dc:creator>
  <dc:description/>
  <dc:language>en-US</dc:language>
  <cp:lastModifiedBy>FuckYouBill</cp:lastModifiedBy>
  <dcterms:modified xsi:type="dcterms:W3CDTF">2013-01-13T06:58:39Z</dcterms:modified>
  <cp:revision>31</cp:revision>
  <dc:subject/>
  <dc:title>Откуда к нам хлеб пришёл</dc:title>
</cp:coreProperties>
</file>