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922F-3653-444B-9091-422964C7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2167-05A8-4D14-9825-D34C05F8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215B-9B2A-4DD2-BF22-C0B6ED81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B03E-4370-410A-BF95-A8F303F2F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5069-6491-4A37-8065-AB0FBF98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8D04-76D5-437C-8D25-E5C70724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C6A9-9A16-47CD-9B74-E18E7067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CE1A-67EF-4E7B-B77E-735592AF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42BA-BA42-4534-91B6-EBE680F0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763C-5095-422B-815A-D46D71E2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2441-0890-448E-824A-0C1BD8C2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D29A-0D6E-4609-ACC8-2567A007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0693-B7C3-4C53-BB25-9C5167D6CE79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23AB-65D1-4B00-865D-46393E78FCC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404640"/>
            <a:ext cx="6769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км</a:t>
            </a: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әк һәм ботка, чәй һәм кофе турын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Икмәк  иң кадерле, иң кирәк, иң тәмле ризык. Башак ипи я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ботка     булып өстәлгә    килгәнче зур юл у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Ипи басуда үсә, ә аны үстерүдә күп кен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кешеләр зур хезмәт куял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Хәзер кешегә машиналар ярдәмгә килә. Барыб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икмәк  үстерү авыр эш булып ка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Икмәк – ил тотка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Ипи-тоз – якты йөз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Без икмәкне олыларга, кадерләргә тиеш. Икмәкне үстергә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пешергән кешеләрне хөрмәт  итәргә тиешб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e46c0a"/>
                </a:solidFill>
                <a:latin typeface="Arial"/>
              </a:rPr>
              <a:t>Камыр әзе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8" descr="56.jpg"/>
          <p:cNvPicPr/>
          <p:nvPr/>
        </p:nvPicPr>
        <p:blipFill>
          <a:blip r:embed="rId1"/>
          <a:stretch/>
        </p:blipFill>
        <p:spPr>
          <a:xfrm>
            <a:off x="2336760" y="1600200"/>
            <a:ext cx="447048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D1F2-6D8E-47F8-B453-AA012BD4A57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e46c0a"/>
                </a:solidFill>
                <a:latin typeface="Arial"/>
              </a:rPr>
              <a:t>Камыр басалар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6" descr="58.jpg"/>
          <p:cNvPicPr/>
          <p:nvPr/>
        </p:nvPicPr>
        <p:blipFill>
          <a:blip r:embed="rId1"/>
          <a:stretch/>
        </p:blipFill>
        <p:spPr>
          <a:xfrm>
            <a:off x="682560" y="2421000"/>
            <a:ext cx="2881440" cy="2905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9" name="Содержимое 7" descr="64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0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19F9-9115-43B7-B9AD-E9B29CE9306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e46c0a"/>
                </a:solidFill>
                <a:latin typeface="Arial"/>
              </a:rPr>
              <a:t>Икмәкне өйдә дә пешереп бу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3" descr="13.jpg"/>
          <p:cNvPicPr/>
          <p:nvPr/>
        </p:nvPicPr>
        <p:blipFill>
          <a:blip r:embed="rId1"/>
          <a:stretch/>
        </p:blipFill>
        <p:spPr>
          <a:xfrm>
            <a:off x="1830240" y="1600200"/>
            <a:ext cx="548352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2189-5016-441A-BFE5-43B584CB495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e46c0a"/>
                </a:solidFill>
                <a:latin typeface="Arial"/>
              </a:rPr>
              <a:t>Икмәк әзе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6" descr="66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" name="Содержимое 7" descr="67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9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91E2-7504-419E-8DAF-A397B18F5BB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e46c0a"/>
                </a:solidFill>
                <a:latin typeface="Arial"/>
              </a:rPr>
              <a:t>И</a:t>
            </a:r>
            <a:r>
              <a:rPr b="1" lang="tt-RU" sz="9600" spc="-1" strike="noStrike">
                <a:solidFill>
                  <a:srgbClr val="e46c0a"/>
                </a:solidFill>
                <a:latin typeface="Arial"/>
              </a:rPr>
              <a:t>кмәк кайдан килә?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07E2-67C9-4693-9FCE-6619A53E8BD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30088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рлыкларны чәчәләр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6" descr="39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4C16-8B45-453F-A202-2E0CD5B8B19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362800" cy="18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шиналар ярдәмгә килә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59.jpg"/>
          <p:cNvPicPr/>
          <p:nvPr/>
        </p:nvPicPr>
        <p:blipFill>
          <a:blip r:embed="rId1"/>
          <a:stretch/>
        </p:blipFill>
        <p:spPr>
          <a:xfrm>
            <a:off x="1752480" y="1747800"/>
            <a:ext cx="5639040" cy="422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2B12-A28B-49A1-95F6-CBC8B3BC06E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Шушындый башаклар үсеп чыг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3.jpg"/>
          <p:cNvPicPr/>
          <p:nvPr/>
        </p:nvPicPr>
        <p:blipFill>
          <a:blip r:embed="rId1"/>
          <a:stretch/>
        </p:blipFill>
        <p:spPr>
          <a:xfrm>
            <a:off x="1320840" y="1684440"/>
            <a:ext cx="6502320" cy="43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5" name="Нижний колонтитул 5"/>
          <p:cNvSpPr/>
          <p:nvPr/>
        </p:nvSpPr>
        <p:spPr>
          <a:xfrm>
            <a:off x="3203640" y="62373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AFE0-F590-429D-A7F6-ABDB852ACF0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Arial"/>
              </a:rPr>
              <a:t>Башакларны </a:t>
            </a: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комбайн</a:t>
            </a:r>
            <a:r>
              <a:rPr b="1" lang="ru-RU" sz="4000" spc="-1" strike="noStrike">
                <a:solidFill>
                  <a:srgbClr val="e46c0a"/>
                </a:solidFill>
                <a:latin typeface="Arial"/>
              </a:rPr>
              <a:t>нар җыя.</a:t>
            </a: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16.jpg"/>
          <p:cNvPicPr/>
          <p:nvPr/>
        </p:nvPicPr>
        <p:blipFill>
          <a:blip r:embed="rId1"/>
          <a:stretch/>
        </p:blipFill>
        <p:spPr>
          <a:xfrm>
            <a:off x="1523880" y="1862280"/>
            <a:ext cx="6096240" cy="4000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FD31-99C0-4A51-99D7-54BBCE7F264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e46c0a"/>
                </a:solidFill>
                <a:latin typeface="Arial"/>
              </a:rPr>
              <a:t>Уңышны тегермәнгә илтәләр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41.jpg"/>
          <p:cNvPicPr/>
          <p:nvPr/>
        </p:nvPicPr>
        <p:blipFill>
          <a:blip r:embed="rId1"/>
          <a:stretch/>
        </p:blipFill>
        <p:spPr>
          <a:xfrm>
            <a:off x="1155600" y="1600200"/>
            <a:ext cx="683280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E3BD-A686-43A0-AA99-BC2E7B0975A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e46c0a"/>
                </a:solidFill>
                <a:latin typeface="Arial"/>
              </a:rPr>
              <a:t>Орлыклардан он ясыйла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40.jpg"/>
          <p:cNvPicPr/>
          <p:nvPr/>
        </p:nvPicPr>
        <p:blipFill>
          <a:blip r:embed="rId1"/>
          <a:stretch/>
        </p:blipFill>
        <p:spPr>
          <a:xfrm>
            <a:off x="973080" y="1979640"/>
            <a:ext cx="7197840" cy="3767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09D7-ED01-45C4-A6AD-F5FBD10B2EC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456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Arial"/>
              </a:rPr>
              <a:t>Оннан икмәк пешерәләр</a:t>
            </a: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5" descr="9.jpg"/>
          <p:cNvPicPr/>
          <p:nvPr/>
        </p:nvPicPr>
        <p:blipFill>
          <a:blip r:embed="rId1"/>
          <a:stretch/>
        </p:blipFill>
        <p:spPr>
          <a:xfrm>
            <a:off x="2333520" y="2071800"/>
            <a:ext cx="4476960" cy="358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82F3-8444-49EE-957A-2B9544530E3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05:13:17Z</dcterms:created>
  <dc:creator>Ольга</dc:creator>
  <dc:description/>
  <dc:language>en-US</dc:language>
  <cp:lastModifiedBy>FuckYouBill</cp:lastModifiedBy>
  <dcterms:modified xsi:type="dcterms:W3CDTF">2013-01-13T06:58:39Z</dcterms:modified>
  <cp:revision>31</cp:revision>
  <dc:subject/>
  <dc:title>Откуда к нам хлеб пришёл</dc:title>
</cp:coreProperties>
</file>