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19E-BB8A-490F-A2BC-1E3BCC3E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289-E858-48A2-B79B-A086F809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5F6-9554-4940-BE13-99BD70E4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7E3-2225-4AB8-89BA-AF11D885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F22-B887-493C-9848-F13D187D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9FF-8209-4887-B64A-AB931650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CBD-C439-4CCB-8164-11F2DDE7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F2B-4389-4AB3-A92C-397E3A8F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F07-1B7F-4F4D-A764-F5B4BE41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D00-0487-4920-8F6D-172CD87F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8E4-04EF-4380-847B-2B352BDC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338-397B-44E5-B09B-F1C9EA12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5080-DAA9-4845-BA90-7ECBD3CE8C5B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D930-886E-43CB-9C2E-6C3AD2D88B1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404640"/>
            <a:ext cx="67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м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әк һәм ботка, чәй һәм кофе туры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кмәк  иң кадерле, иң кирәк, иң тәмле ризык. Башак ипи я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отка     булып өстәлгә    килгәнче зур юл 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пи басуда үсә, ә аны үстерүдә күп ке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кешеләр зур хезмәт куя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Хәзер кешегә машиналар ярдәмгә килә. Барыб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кмәк  үстерү авыр эш булып к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Икмәк – ил тотк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Ипи-тоз – якты йөз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ез икмәкне олыларга, кадерләргә тиеш. Икмәкне үстергә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пешергән кешеләрне хөрмәт  итәргә тиешб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Камыр әз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8" descr="56.jpg"/>
          <p:cNvPicPr/>
          <p:nvPr/>
        </p:nvPicPr>
        <p:blipFill>
          <a:blip r:embed="rId1"/>
          <a:stretch/>
        </p:blipFill>
        <p:spPr>
          <a:xfrm>
            <a:off x="2336760" y="1600200"/>
            <a:ext cx="44704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7669-8609-4F49-8785-8AD85691086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Камыр басала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6" descr="58.jpg"/>
          <p:cNvPicPr/>
          <p:nvPr/>
        </p:nvPicPr>
        <p:blipFill>
          <a:blip r:embed="rId1"/>
          <a:stretch/>
        </p:blipFill>
        <p:spPr>
          <a:xfrm>
            <a:off x="682560" y="2421000"/>
            <a:ext cx="288144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Содержимое 7" descr="6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82A7-5656-489E-B5C9-C5C8BD11AA8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Икмәкне өйдә дә пешереп бу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13.jpg"/>
          <p:cNvPicPr/>
          <p:nvPr/>
        </p:nvPicPr>
        <p:blipFill>
          <a:blip r:embed="rId1"/>
          <a:stretch/>
        </p:blipFill>
        <p:spPr>
          <a:xfrm>
            <a:off x="1830240" y="1600200"/>
            <a:ext cx="54835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D050-F58E-4F5D-8627-137B847314B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Икмәк әз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6" descr="6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Содержимое 7" descr="6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6E8E-EFC8-44DE-9748-2E318F168B4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46c0a"/>
                </a:solidFill>
                <a:latin typeface="Arial"/>
              </a:rPr>
              <a:t>И</a:t>
            </a:r>
            <a:r>
              <a:rPr b="1" lang="tt-RU" sz="9600" spc="-1" strike="noStrike">
                <a:solidFill>
                  <a:srgbClr val="e46c0a"/>
                </a:solidFill>
                <a:latin typeface="Arial"/>
              </a:rPr>
              <a:t>кмәк кайдан килә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63AE-DDB0-4858-BF53-ECEC208D423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лыкларны чәчәләр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EE74-F5F4-46DF-A3F4-9CA841BC5A9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шиналар ярдәмгә килә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56DA-A99C-4124-AD84-792D8D50F01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Шушындый башаклар үсеп чы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Нижний колонтитул 5"/>
          <p:cNvSpPr/>
          <p:nvPr/>
        </p:nvSpPr>
        <p:spPr>
          <a:xfrm>
            <a:off x="3203640" y="62373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B73F-905E-4E5F-B47A-CC6B3734B5D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Башакларны 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мбайн</a:t>
            </a: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нар җыя.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3318-6024-4377-8EAF-916D165E351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Уңышны тегермәнгә илтәлә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41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F3E1-997C-4D86-9231-3E66AB73363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Орлыклардан он ясыйла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F9EE-96DF-4A11-BE20-37D2B96DEA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Оннан икмәк пешерәләр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FF75-45A3-4106-B539-A542D2A3D37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FuckYouBill</cp:lastModifiedBy>
  <dcterms:modified xsi:type="dcterms:W3CDTF">2013-01-13T06:58:39Z</dcterms:modified>
  <cp:revision>31</cp:revision>
  <dc:subject/>
  <dc:title>Откуда к нам хлеб пришёл</dc:title>
</cp:coreProperties>
</file>