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33D-7FFB-430C-A9E8-B8E36E44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F49-296C-46FB-90A9-074BB879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DE1-1199-46EB-8E8E-39F7D090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682F-74BF-4D9F-AA04-C983460B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3AFA-F4B5-4CCE-A571-D1A3CDAA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A38-F786-435B-ACB7-817050CE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0A8-4FA9-42BF-92FC-7CD8C551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C87-EE41-4340-8CCC-2F500268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810-7FFF-4F76-94A5-CD67E1BE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303A-3F50-4CEB-8082-252CE3A6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9D03-D379-4450-875C-47E9F081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870-5E36-44C2-95FA-41F2B7D9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B04B-9194-4ABF-8F69-7C60EE8517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5050"/>
                </a:solidFill>
                <a:latin typeface="Times New Roman"/>
              </a:rPr>
              <a:t>Тема: Преобразования графиков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31640" y="2058840"/>
            <a:ext cx="8893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68360" y="4795920"/>
            <a:ext cx="8893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550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551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552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59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64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67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68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9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70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71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78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2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83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84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89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95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597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598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605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609" name="Object 62"/>
          <p:cNvGraphicFramePr/>
          <p:nvPr/>
        </p:nvGraphicFramePr>
        <p:xfrm>
          <a:off x="404640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7702E-006 L -0.08663 -1.17702E-006 E">
                                      <p:cBhvr>
                                        <p:cTn id="95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3957480" cy="2428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5429160" y="3571920"/>
            <a:ext cx="2928960" cy="2662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3"/>
          <a:stretch/>
        </p:blipFill>
        <p:spPr>
          <a:xfrm>
            <a:off x="5286240" y="571680"/>
            <a:ext cx="3483000" cy="257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4"/>
          <a:stretch/>
        </p:blipFill>
        <p:spPr>
          <a:xfrm>
            <a:off x="642960" y="3220920"/>
            <a:ext cx="34527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5357880" y="357120"/>
            <a:ext cx="3181320" cy="25718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214200" y="571680"/>
            <a:ext cx="4572000" cy="1836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"/>
          <p:cNvPicPr/>
          <p:nvPr/>
        </p:nvPicPr>
        <p:blipFill>
          <a:blip r:embed="rId3"/>
          <a:stretch/>
        </p:blipFill>
        <p:spPr>
          <a:xfrm>
            <a:off x="5286240" y="3286080"/>
            <a:ext cx="3613320" cy="30272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4"/>
          <a:stretch/>
        </p:blipFill>
        <p:spPr>
          <a:xfrm>
            <a:off x="357120" y="3643200"/>
            <a:ext cx="45007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5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6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7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4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9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62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63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65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66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73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7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78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79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84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0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92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93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00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04" name="Object 62"/>
          <p:cNvGraphicFramePr/>
          <p:nvPr/>
        </p:nvGraphicFramePr>
        <p:xfrm>
          <a:off x="4029120" y="1951200"/>
          <a:ext cx="141912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1951200"/>
                    <a:ext cx="141912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63"/>
          <p:cNvSpPr/>
          <p:nvPr/>
        </p:nvSpPr>
        <p:spPr>
          <a:xfrm>
            <a:off x="2833560" y="1455840"/>
            <a:ext cx="1162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08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09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10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17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22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25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26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28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29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136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0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141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142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147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3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155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156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63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67" name="Object 62"/>
          <p:cNvGraphicFramePr/>
          <p:nvPr/>
        </p:nvGraphicFramePr>
        <p:xfrm>
          <a:off x="4368960" y="981000"/>
          <a:ext cx="75852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981000"/>
                    <a:ext cx="7585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63"/>
          <p:cNvSpPr/>
          <p:nvPr/>
        </p:nvSpPr>
        <p:spPr>
          <a:xfrm>
            <a:off x="1835280" y="69228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k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71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72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73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80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85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88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89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91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92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199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3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04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05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10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6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18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19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26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30" name="Object 62"/>
          <p:cNvGraphicFramePr/>
          <p:nvPr/>
        </p:nvGraphicFramePr>
        <p:xfrm>
          <a:off x="3000240" y="2433600"/>
          <a:ext cx="34434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2433600"/>
                    <a:ext cx="34434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63"/>
          <p:cNvSpPr/>
          <p:nvPr/>
        </p:nvSpPr>
        <p:spPr>
          <a:xfrm>
            <a:off x="611280" y="195912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0&lt;k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23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23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23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24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24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25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25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25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26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6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6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7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8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8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8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93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63"/>
          <p:cNvSpPr/>
          <p:nvPr/>
        </p:nvSpPr>
        <p:spPr>
          <a:xfrm>
            <a:off x="2125800" y="152712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500040" y="21420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аллельный перенос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298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299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00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07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12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15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16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18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19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26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0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331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332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337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43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345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346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353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357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63"/>
          <p:cNvSpPr/>
          <p:nvPr/>
        </p:nvSpPr>
        <p:spPr>
          <a:xfrm>
            <a:off x="1547640" y="119700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-0.09452 E">
                                      <p:cBhvr>
                                        <p:cTn id="54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361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362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63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70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75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78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79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0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81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82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89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3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394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395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00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06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08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09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16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20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63"/>
          <p:cNvSpPr/>
          <p:nvPr/>
        </p:nvSpPr>
        <p:spPr>
          <a:xfrm>
            <a:off x="1763640" y="249228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0.14714 E">
                                      <p:cBhvr>
                                        <p:cTn id="64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2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2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2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43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43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44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44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44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44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45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45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45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6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7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7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7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83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833560" y="1455480"/>
            <a:ext cx="1162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87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88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89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496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01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04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05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07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08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15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20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21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26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32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534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535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542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546" name="Object 62"/>
          <p:cNvGraphicFramePr/>
          <p:nvPr/>
        </p:nvGraphicFramePr>
        <p:xfrm>
          <a:off x="4029120" y="1941480"/>
          <a:ext cx="141912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1941480"/>
                    <a:ext cx="1419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3531E-006 L 0.09444 -1.3531E-006 E">
                                      <p:cBhvr>
                                        <p:cTn id="85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5:00:52Z</dcterms:created>
  <dc:creator>Artem</dc:creator>
  <dc:description/>
  <dc:language>en-US</dc:language>
  <cp:lastModifiedBy>1</cp:lastModifiedBy>
  <dcterms:modified xsi:type="dcterms:W3CDTF">2013-01-09T06:09:52Z</dcterms:modified>
  <cp:revision>22</cp:revision>
  <dc:subject/>
  <dc:title>Слайд 1</dc:title>
</cp:coreProperties>
</file>