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C3C-CD0B-4FC0-BA60-9FAAEB2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152-0075-4CB6-939B-3176D67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EB2-F6FC-468B-AD34-63B65F66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A43-83E1-48F7-885E-AD7E4894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BDF-B567-47A6-807C-6DF70A4F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608-C3C1-4B50-9124-6D95F147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D69-BC51-4133-83AB-82CFDFD6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218-F57B-49AB-9730-4B2C83B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B35-DC1A-49EE-82D5-16FE6ED6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89C-63B7-419D-BAD7-1D2DCA5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1AF-3DB3-4182-8DE9-5EEDC1A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D9C-381E-40AF-A4C4-4721928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9C94-450F-4520-A817-16EFC9E29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Тема: Преобразования графиков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31640" y="2058840"/>
            <a:ext cx="8893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8360" y="4795920"/>
            <a:ext cx="8893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550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551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552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59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64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67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68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70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71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78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2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83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84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89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95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97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98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605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609" name="Object 62"/>
          <p:cNvGraphicFramePr/>
          <p:nvPr/>
        </p:nvGraphicFramePr>
        <p:xfrm>
          <a:off x="404640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7702E-006 L -0.08663 -1.17702E-006 E">
                                      <p:cBhvr>
                                        <p:cTn id="9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57480" cy="2428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429160" y="3571920"/>
            <a:ext cx="2928960" cy="266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483000" cy="257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4"/>
          <a:stretch/>
        </p:blipFill>
        <p:spPr>
          <a:xfrm>
            <a:off x="642960" y="3220920"/>
            <a:ext cx="34527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5357880" y="357120"/>
            <a:ext cx="3181320" cy="2571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"/>
          <p:cNvPicPr/>
          <p:nvPr/>
        </p:nvPicPr>
        <p:blipFill>
          <a:blip r:embed="rId3"/>
          <a:stretch/>
        </p:blipFill>
        <p:spPr>
          <a:xfrm>
            <a:off x="5286240" y="3286080"/>
            <a:ext cx="3613320" cy="3027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45007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5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6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7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4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9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62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63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65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66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3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78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79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84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0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92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93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00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4" name="Object 62"/>
          <p:cNvGraphicFramePr/>
          <p:nvPr/>
        </p:nvGraphicFramePr>
        <p:xfrm>
          <a:off x="4029120" y="1951200"/>
          <a:ext cx="141912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5120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0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0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1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1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2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2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2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2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2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3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14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14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14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15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15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6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67" name="Object 62"/>
          <p:cNvGraphicFramePr/>
          <p:nvPr/>
        </p:nvGraphicFramePr>
        <p:xfrm>
          <a:off x="4368960" y="981000"/>
          <a:ext cx="75852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981000"/>
                    <a:ext cx="7585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3"/>
          <p:cNvSpPr/>
          <p:nvPr/>
        </p:nvSpPr>
        <p:spPr>
          <a:xfrm>
            <a:off x="1835280" y="69228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k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7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7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7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8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8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8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8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9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9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9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0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0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1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1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1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2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0" name="Object 62"/>
          <p:cNvGraphicFramePr/>
          <p:nvPr/>
        </p:nvGraphicFramePr>
        <p:xfrm>
          <a:off x="3000240" y="2433600"/>
          <a:ext cx="34434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433600"/>
                    <a:ext cx="3443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3"/>
          <p:cNvSpPr/>
          <p:nvPr/>
        </p:nvSpPr>
        <p:spPr>
          <a:xfrm>
            <a:off x="611280" y="195912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0&lt;k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3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3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23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24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24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25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25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25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26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6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6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7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8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8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8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9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3"/>
          <p:cNvSpPr/>
          <p:nvPr/>
        </p:nvSpPr>
        <p:spPr>
          <a:xfrm>
            <a:off x="2125800" y="152712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500040" y="2142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аллельный перенос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9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0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0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1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1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1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1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1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2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3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3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33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34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34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35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57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63"/>
          <p:cNvSpPr/>
          <p:nvPr/>
        </p:nvSpPr>
        <p:spPr>
          <a:xfrm>
            <a:off x="1547640" y="119700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-0.09452 E">
                                      <p:cBhvr>
                                        <p:cTn id="5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36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36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6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7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7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7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7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8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8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8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9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9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0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0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0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1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20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63"/>
          <p:cNvSpPr/>
          <p:nvPr/>
        </p:nvSpPr>
        <p:spPr>
          <a:xfrm>
            <a:off x="1763640" y="249228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0.14714 E">
                                      <p:cBhvr>
                                        <p:cTn id="6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2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2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3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43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44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44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44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44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45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45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45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6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7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7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7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8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833560" y="1455480"/>
            <a:ext cx="1162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87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88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89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96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01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04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05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07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08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15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20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21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26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32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34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35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542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46" name="Object 62"/>
          <p:cNvGraphicFramePr/>
          <p:nvPr/>
        </p:nvGraphicFramePr>
        <p:xfrm>
          <a:off x="4029120" y="1941480"/>
          <a:ext cx="141912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41480"/>
                    <a:ext cx="1419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31E-006 L 0.09444 -1.3531E-006 E">
                                      <p:cBhvr>
                                        <p:cTn id="85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0:52Z</dcterms:created>
  <dc:creator>Artem</dc:creator>
  <dc:description/>
  <dc:language>en-US</dc:language>
  <cp:lastModifiedBy>1</cp:lastModifiedBy>
  <dcterms:modified xsi:type="dcterms:W3CDTF">2013-01-09T06:09:52Z</dcterms:modified>
  <cp:revision>22</cp:revision>
  <dc:subject/>
  <dc:title>Слайд 1</dc:title>
</cp:coreProperties>
</file>