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F9B-4574-4B68-8663-4BA8AF56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79C-F2A1-4602-B910-CEE34C4B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675-C0E3-4CC9-9447-ECB7D329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1E7-AF02-49C5-B82C-57EBCD30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7263-9506-4339-8092-E0724ED0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1D30-9F0D-4920-9131-211D7BDA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7236-CDE2-4695-B53C-EC19D6BB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57E5-1048-44CC-A4E5-8837B347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251C-26DD-4517-A353-31517CB4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6459-B7B4-44B1-BDCC-7EE0B807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30F1-E846-4B14-86C6-5F36DC51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BB1-C298-4123-AB09-9360920D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AE5D-39B1-4DB8-A31C-264E85BF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C984-E93D-4F0E-A183-C5E13B5C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693C-6450-4368-BDF8-BCA72A0F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FAC4-9E6F-4B94-8D8D-0D13C3B4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B107-16D1-40AF-A3B4-2EDE936A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5D4-CCA7-42AE-8BE7-78F37E87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AD3-905B-4F26-A6A1-8A3975EA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C24-BFA7-43C2-AFEE-ED3CA580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200-8879-4504-90C7-D40E35D2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733-08E8-4F06-8CF4-C82F6865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936-EC68-43AC-9384-718F8952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88B-D307-480D-8AC5-36C02A46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FC35-527B-4287-8570-18461763CE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DF8C-3F37-4CA4-9D98-89FAF47123F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Garamond"/>
              </a:rPr>
              <a:t>18 январ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развивалась жизнь на Зем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18108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15228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«3» Ответьте на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Когда и где началось развитие жизни на Земл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акие живые существа обитали в древнем океан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Что представляли собой леса каменноугольного пери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акие вымершие пресмыкающиеся вам извест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огда на Земле появились разнообразные цветковые растения, птицы и млекопитающие?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ка «4». Расположите группы животных  (млекопитающие, птицы, пресмыкающиеся, земноводные, рыбы) в порядке их происхождения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ямоугольниках напиши названия груп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. Оценка «5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утверждать, что батареи в  домах нагреваются за счет энергии Солнца? Ответ обосн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685800" y="4800600"/>
            <a:ext cx="1447920" cy="6094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5"/>
          <p:cNvCxnSpPr/>
          <p:nvPr/>
        </p:nvCxnSpPr>
        <p:spPr>
          <a:xfrm>
            <a:off x="2133720" y="5028840"/>
            <a:ext cx="91512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2" name="Прямоугольник 6"/>
          <p:cNvSpPr/>
          <p:nvPr/>
        </p:nvSpPr>
        <p:spPr>
          <a:xfrm>
            <a:off x="3048120" y="4762440"/>
            <a:ext cx="149544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8"/>
          <p:cNvCxnSpPr/>
          <p:nvPr/>
        </p:nvCxnSpPr>
        <p:spPr>
          <a:xfrm>
            <a:off x="4676400" y="509544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4" name="Прямоугольник 9"/>
          <p:cNvSpPr/>
          <p:nvPr/>
        </p:nvSpPr>
        <p:spPr>
          <a:xfrm>
            <a:off x="5334120" y="4791240"/>
            <a:ext cx="121896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1"/>
          <p:cNvCxnSpPr/>
          <p:nvPr/>
        </p:nvCxnSpPr>
        <p:spPr>
          <a:xfrm>
            <a:off x="6629040" y="495252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96" name="Прямая со стрелкой 13"/>
          <p:cNvCxnSpPr/>
          <p:nvPr/>
        </p:nvCxnSpPr>
        <p:spPr>
          <a:xfrm>
            <a:off x="6629040" y="526680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7" name="Прямоугольник 14"/>
          <p:cNvSpPr/>
          <p:nvPr/>
        </p:nvSpPr>
        <p:spPr>
          <a:xfrm>
            <a:off x="7458120" y="472428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7467480" y="513396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вхадиева</cp:lastModifiedBy>
  <dcterms:modified xsi:type="dcterms:W3CDTF">2013-01-18T07:11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