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971-2D02-4156-849B-7F9534B7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A56-004C-4625-9A85-F4CD6E37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543-482D-4EDF-9C8A-B285BCA5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CA2-A58D-4515-976B-5F5C8D89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8C92-A851-43A2-8691-2E9DE25D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04EF-299C-4BA6-B351-557DC5A5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C505-60FD-4491-9C43-3C67DE0D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8D1A-150A-4554-8622-9BA3DEB7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EC0B-7E4E-40E3-AFA6-D1B96B7E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01AF-62AF-46C4-BCE4-9D6335CF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9E2E-98BF-4FA1-B236-83242D7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B83-7AC1-4240-86A2-2C8FFAD8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543E-2D28-4982-ABC3-2F5E779E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A485-5689-4F25-B0F0-707AF0CD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5017-CE18-4A2B-8F43-07354E50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2195-A344-4EFE-BB4B-11BE7A75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DE08-7812-460F-BC62-89CB1245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7F3-0A39-4385-B9E5-5184E400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DB1-2C4C-4E68-897A-8444FED9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0FD-F30D-4515-A9D2-873370AF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B9B-C3C3-42C2-9D37-181E379C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AB5-5CD5-45BD-AEA7-6B868F4D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CF9-395E-43ED-8F68-739E243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495-6E5A-478B-A528-FF05F4E2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2C1A-B31B-485D-B367-AEE3840B915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C73E-1129-419A-9C78-F109FD392D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Garamond"/>
              </a:rPr>
              <a:t>18 январ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8108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15228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«3» Ответьте на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ка «4». Расположите группы животных  (млекопитающие, птицы, пресмыкающиеся, земноводные, рыбы) в порядке их происхождения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ямоугольниках напиши названия груп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. Оценка «5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685800" y="4800600"/>
            <a:ext cx="1447920" cy="6094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5"/>
          <p:cNvCxnSpPr/>
          <p:nvPr/>
        </p:nvCxnSpPr>
        <p:spPr>
          <a:xfrm>
            <a:off x="2133720" y="5028840"/>
            <a:ext cx="91512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2" name="Прямоугольник 6"/>
          <p:cNvSpPr/>
          <p:nvPr/>
        </p:nvSpPr>
        <p:spPr>
          <a:xfrm>
            <a:off x="3048120" y="4762440"/>
            <a:ext cx="149544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8"/>
          <p:cNvCxnSpPr/>
          <p:nvPr/>
        </p:nvCxnSpPr>
        <p:spPr>
          <a:xfrm>
            <a:off x="4676400" y="509544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4" name="Прямоугольник 9"/>
          <p:cNvSpPr/>
          <p:nvPr/>
        </p:nvSpPr>
        <p:spPr>
          <a:xfrm>
            <a:off x="5334120" y="4791240"/>
            <a:ext cx="121896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1"/>
          <p:cNvCxnSpPr/>
          <p:nvPr/>
        </p:nvCxnSpPr>
        <p:spPr>
          <a:xfrm>
            <a:off x="6629040" y="495252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96" name="Прямая со стрелкой 13"/>
          <p:cNvCxnSpPr/>
          <p:nvPr/>
        </p:nvCxnSpPr>
        <p:spPr>
          <a:xfrm>
            <a:off x="6629040" y="526680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7" name="Прямоугольник 14"/>
          <p:cNvSpPr/>
          <p:nvPr/>
        </p:nvSpPr>
        <p:spPr>
          <a:xfrm>
            <a:off x="7458120" y="472428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7467480" y="513396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вхадиева</cp:lastModifiedBy>
  <dcterms:modified xsi:type="dcterms:W3CDTF">2013-01-18T07:11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