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86C5-AF96-4D2D-B036-DD924A59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275B-9B66-46EF-B7D6-1AFA8DA4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02C6-9421-4EA8-AF78-93E972A8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BC51-D89F-4BCB-A1DB-D85BFAB4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DE9E-CF18-4F5F-ADEB-ADFB20FD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6777-4812-400F-AED7-83CA79E6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2C1C-0D0C-4E35-81E2-C81B98AF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D30A-50B4-4B27-BE47-B90513C6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5F12-417C-4787-AC65-F19F4EBA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C08A-257D-463B-8957-01EAD654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288C-E252-4EBA-A098-A5800F9F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360C-F63E-4457-936F-2A95F775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4B8A-05CC-4E98-B059-FA177A4A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34D9-86D3-4A4E-9DEB-04EB62E6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CB65-A75C-488E-B36F-7C6D1A8F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ABE3-C0E2-4683-9C6D-2E667003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3B3D-0EAA-415B-831F-FB1D684A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5EFF-4732-465F-BBD6-51C974CA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1A9C-8DFF-4EA1-953A-5923B65B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5693-0969-4FB7-A30F-8DBD0064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076D-5F9D-43BF-AD03-2ACB0227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6373-B402-4E9E-BB5E-C7205B72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536C-30F6-4244-A5DB-B4330044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191-2E37-4EF2-818E-F24BBD27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BFCC-E68E-453C-9132-E2A89D05AE6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A940-7040-4435-8D18-B8CE05DC5BA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Garamond"/>
              </a:rPr>
              <a:t>18 января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развивалась жизнь на Зем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18108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57200" y="152280"/>
            <a:ext cx="8458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ценка «3» Ответьте на вопрос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Когда и где началось развитие жизни на Земле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Какие живые существа обитали в древнем океане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Что представляли собой леса каменноугольного периода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Какие вымершие пресмыкающиеся вам известны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Когда на Земле появились разнообразные цветковые растения, птицы и млекопитающие?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ценка «4». Расположите группы животных  (млекопитающие, птицы, пресмыкающиеся, земноводные, рыбы) в порядке их происхождения друг от д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ямоугольниках напиши названия груп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. Оценка «5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утверждать, что батареи в  домах нагреваются за счет энергии Солнца? Ответ обосну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685800" y="4800600"/>
            <a:ext cx="1447920" cy="60948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Прямая со стрелкой 5"/>
          <p:cNvCxnSpPr/>
          <p:nvPr/>
        </p:nvCxnSpPr>
        <p:spPr>
          <a:xfrm>
            <a:off x="2133720" y="5028840"/>
            <a:ext cx="915120" cy="1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92" name="Прямоугольник 6"/>
          <p:cNvSpPr/>
          <p:nvPr/>
        </p:nvSpPr>
        <p:spPr>
          <a:xfrm>
            <a:off x="3048120" y="4762440"/>
            <a:ext cx="1495440" cy="6858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8"/>
          <p:cNvCxnSpPr/>
          <p:nvPr/>
        </p:nvCxnSpPr>
        <p:spPr>
          <a:xfrm>
            <a:off x="4676400" y="5095440"/>
            <a:ext cx="610200" cy="1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94" name="Прямоугольник 9"/>
          <p:cNvSpPr/>
          <p:nvPr/>
        </p:nvSpPr>
        <p:spPr>
          <a:xfrm>
            <a:off x="5334120" y="4791240"/>
            <a:ext cx="1218960" cy="6858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Прямая со стрелкой 11"/>
          <p:cNvCxnSpPr/>
          <p:nvPr/>
        </p:nvCxnSpPr>
        <p:spPr>
          <a:xfrm>
            <a:off x="6629040" y="4952520"/>
            <a:ext cx="610200" cy="1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96" name="Прямая со стрелкой 13"/>
          <p:cNvCxnSpPr/>
          <p:nvPr/>
        </p:nvCxnSpPr>
        <p:spPr>
          <a:xfrm>
            <a:off x="6629040" y="5266800"/>
            <a:ext cx="610200" cy="1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97" name="Прямоугольник 14"/>
          <p:cNvSpPr/>
          <p:nvPr/>
        </p:nvSpPr>
        <p:spPr>
          <a:xfrm>
            <a:off x="7458120" y="4724280"/>
            <a:ext cx="914400" cy="30492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5"/>
          <p:cNvSpPr/>
          <p:nvPr/>
        </p:nvSpPr>
        <p:spPr>
          <a:xfrm>
            <a:off x="7467480" y="5133960"/>
            <a:ext cx="914400" cy="30492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вхадиева</cp:lastModifiedBy>
  <dcterms:modified xsi:type="dcterms:W3CDTF">2013-01-18T07:11:0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