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558-4353-4B63-A888-B2278384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DFA-6A97-49F3-AC0A-A728D068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3CA-5D63-43E4-9A8E-DC946920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0A4-35BD-4223-B982-34C67581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258C-7D0E-4B99-9B2F-29534249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40F2-EFED-4891-8C03-E8CCDBD0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1498-8FD2-456E-8544-8F1F996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B7DC-F17D-45E2-AFFC-55BA719D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B30B-87F6-4D2B-927E-30156C06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B7FE-6820-423A-B564-859334B4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600-D06A-48C7-906A-37548CFD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7F5-EB89-4712-A98B-A328DDAF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856E-5397-4835-B648-ADAA68CD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79F7-6444-4B31-B041-A1CD8D1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9656-EDC3-4A3D-8357-53DECFB5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8A2D-EFE8-49D5-8516-5A99129A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7BD5-B2AE-46ED-818D-AB2D3091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F28-B716-42E7-92EE-CFEB2734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344-11C7-488A-9D45-3A641743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C73-C500-4F26-B767-B3340F25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2E3-EF58-4316-9C18-A86ACDF7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F9F-9CF2-41D4-8AEA-C14C940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BF2-68A2-45E5-8657-02112ED6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F54-E6F1-483A-AC99-85DC48D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A5E-9DA2-4B1C-B44A-8EFF31C27D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4920-931F-463D-8F8F-54DA1300C83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Garamond"/>
              </a:rPr>
              <a:t>18 январ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8108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15228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«3» Ответьте на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ка «4». Расположите группы животных  (млекопитающие, птицы, пресмыкающиеся, земноводные, рыбы) в порядке их происхождения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ямоугольниках напиши названия груп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. Оценка «5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685800" y="4800600"/>
            <a:ext cx="1447920" cy="6094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"/>
          <p:cNvCxnSpPr/>
          <p:nvPr/>
        </p:nvCxnSpPr>
        <p:spPr>
          <a:xfrm>
            <a:off x="2133720" y="5028840"/>
            <a:ext cx="91512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2" name="Прямоугольник 6"/>
          <p:cNvSpPr/>
          <p:nvPr/>
        </p:nvSpPr>
        <p:spPr>
          <a:xfrm>
            <a:off x="3048120" y="4762440"/>
            <a:ext cx="149544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8"/>
          <p:cNvCxnSpPr/>
          <p:nvPr/>
        </p:nvCxnSpPr>
        <p:spPr>
          <a:xfrm>
            <a:off x="4676400" y="509544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4" name="Прямоугольник 9"/>
          <p:cNvSpPr/>
          <p:nvPr/>
        </p:nvSpPr>
        <p:spPr>
          <a:xfrm>
            <a:off x="5334120" y="4791240"/>
            <a:ext cx="121896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1"/>
          <p:cNvCxnSpPr/>
          <p:nvPr/>
        </p:nvCxnSpPr>
        <p:spPr>
          <a:xfrm>
            <a:off x="6629040" y="495252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6629040" y="526680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7" name="Прямоугольник 14"/>
          <p:cNvSpPr/>
          <p:nvPr/>
        </p:nvSpPr>
        <p:spPr>
          <a:xfrm>
            <a:off x="7458120" y="472428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7467480" y="513396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хадиева</cp:lastModifiedBy>
  <dcterms:modified xsi:type="dcterms:W3CDTF">2013-01-18T07:11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