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AD0-809A-41DA-B25A-415D398F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9AD-DE5F-4E9A-B04C-1E1A189F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324-E698-4543-93A0-E55ABE69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B29-A86D-4B93-A529-16A5BBE5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465C-9BF0-4F9E-BD11-D955436A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3ED5-142F-41B5-91FF-57DF0B32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B10F-605F-40D5-9439-B7B58AD8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B2A2-7AE4-44C8-86ED-4901D999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4804-A2D9-45F9-BF14-755E4744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3732-AB84-48FA-A4C8-BF6E2453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ABED-C645-4447-8841-CBC956A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329-6127-455C-A2B9-717BECCA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B48D-B1CF-405F-A345-350AB13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87E9-18DE-4627-9771-13FD6AD6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4655-4DDC-413B-9E03-4BEFA172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3FB3-0238-4686-BA7F-9981ACCF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8502-4F16-471C-9F41-75159C4E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BB8-C8EC-4D62-905E-891962DA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8A5-EF09-4385-9D7E-D113E04C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D9F-F44C-4C4D-80AE-CC7268E9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3FB-9935-459A-83DB-7638E41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C16-07CD-4D75-B5C2-7BB7B995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483-C3D6-403E-9EA6-79A9F013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643-8831-4884-943D-DFE1E6D2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2388-D9A1-4499-BBAA-2D6CD5A30A74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20CE-FE44-4381-B777-C05704A23CB2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520" y="1785600"/>
            <a:ext cx="80010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100"/>
            </a:br>
            <a:br>
              <a:rPr sz="1100"/>
            </a:br>
            <a:br>
              <a:rPr sz="8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«Правда всегда поднимается над ложью, как масло над водой».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Мигель Сервантес</a:t>
            </a:r>
            <a:endParaRPr b="0" lang="en-US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3429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глаз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медлен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лу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с утвердительной интонаци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выразительн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данного высказывания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Работа с тексто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2920" y="1642680"/>
            <a:ext cx="8786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однажды услышал Денис от мамы, и как мама объяснила свои слов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«Тайное становится явным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к мама уговаривала Дениску есть кашу? Что она ему предложи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Сходить в Кремл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испытывал Дениска, когда экспериментировал с каш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Чувство обиды, досады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да ли Дениска «потерял сознание» и поэтому выплеснул кашу на улицу?  Почему автор использует это выраж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Чтение - разведка</a:t>
            </a:r>
            <a:br>
              <a:rPr sz="4500"/>
            </a:b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делал Дениска, чтобы каша была вкуснее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шлёпал ложко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олил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ыпал сахар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олил кипятк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ылил в кашу всю баночку хр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Выборочное чте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1935000"/>
            <a:ext cx="8715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Как выглядел дяденьк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 какой примете Денис понял, что мама очень рассердилась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Практическая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1643040"/>
            <a:ext cx="8400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пределите последовательность происходящих в тексте действий, расставив их по поряд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1000080" y="592920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1000080" y="335772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286640" y="335772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идеть не могу манную каш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4"/>
          <p:cNvSpPr/>
          <p:nvPr/>
        </p:nvSpPr>
        <p:spPr>
          <a:xfrm>
            <a:off x="1000080" y="400068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1236960" y="40006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ы выливаете разную гадость за ок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1000080" y="4643280"/>
            <a:ext cx="561960" cy="50040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1359720" y="4643280"/>
            <a:ext cx="55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это запомнил на всю жизн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1000080" y="528624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369080" y="528624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должен съесть всё до дн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1414440" y="60008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А я остался с кашей наед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2588760" y="2571840"/>
            <a:ext cx="335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2f74"/>
                </a:solidFill>
                <a:latin typeface="Calibri"/>
              </a:rPr>
              <a:t>Проверь  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Какой фрагмент проиллюстрировал художник? 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0280" y="2285640"/>
            <a:ext cx="4857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тут я вспомнил, что у нас есть хрен. С хреном, кажется, почти всё можно съесть! Я взял и вылил в кашу всю баночку, а когда немножко попробовал, у меня сразу глаза на лоб полезли и остановилось дыхание»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Рисунок 3" descr="http://festival.1september.ru/files/articles/50/5026/502610/3.jpg"/>
          <p:cNvPicPr/>
          <p:nvPr/>
        </p:nvPicPr>
        <p:blipFill>
          <a:blip r:embed="rId1"/>
          <a:stretch/>
        </p:blipFill>
        <p:spPr>
          <a:xfrm>
            <a:off x="285840" y="2214720"/>
            <a:ext cx="3143160" cy="4143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99680" y="5357520"/>
            <a:ext cx="818676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Я взял тарелку, быстро подбежал к окну и выплеснул кашу на улицу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Рисунок 3" descr="http://www.planetaskazok.ru/images/stories/dragunsky/deniskini_rasskazy/img_20.jpg"/>
          <p:cNvPicPr/>
          <p:nvPr/>
        </p:nvPicPr>
        <p:blipFill>
          <a:blip r:embed="rId1"/>
          <a:stretch/>
        </p:blipFill>
        <p:spPr>
          <a:xfrm>
            <a:off x="2357280" y="1143000"/>
            <a:ext cx="4856400" cy="378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550044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звините, пожалуйста», - сказала она тихо, - разрешите я вас почищу, пройдите сюда»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Рисунок 3" descr="Картинка 56 из 27546"/>
          <p:cNvPicPr/>
          <p:nvPr/>
        </p:nvPicPr>
        <p:blipFill>
          <a:blip r:embed="rId1"/>
          <a:stretch/>
        </p:blipFill>
        <p:spPr>
          <a:xfrm>
            <a:off x="2071800" y="1285920"/>
            <a:ext cx="4857480" cy="378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5285880"/>
            <a:ext cx="82296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к нам вошёл какой-то дяденька. Я как на него взглянул, так сразу понял, что в Кремль я не пойду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Рисунок 3" descr="http://festival.1september.ru/files/articles/51/5145/514503/5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760" y="4786200"/>
            <a:ext cx="8229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Ну ещё бы… Я не знаю ничего красивее Кремля. Я там был в Грановитой палате и в Оружейной, стоял возле Царь – пушки и знаю, где сидел Иван Грозны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Рисунок 3" descr="http://www.planetaskazok.ru/images/stories/dragunsky/deniskini_rasskazy/img_23.jpg"/>
          <p:cNvPicPr/>
          <p:nvPr/>
        </p:nvPicPr>
        <p:blipFill>
          <a:blip r:embed="rId1"/>
          <a:stretch/>
        </p:blipFill>
        <p:spPr>
          <a:xfrm>
            <a:off x="2428920" y="928800"/>
            <a:ext cx="485604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сказ рассказ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желанию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исовать иллюстрацию к любому понравившемуся отрыв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Рисунок 3" descr="http://900igr.net/datai/literatura/Oster-Vrednye-sovety/0029-047--Pochemu-sovety-nazyvajutsja-vrednymi.png"/>
          <p:cNvPicPr/>
          <p:nvPr/>
        </p:nvPicPr>
        <p:blipFill>
          <a:blip r:embed="rId1"/>
          <a:stretch/>
        </p:blipFill>
        <p:spPr>
          <a:xfrm>
            <a:off x="5572080" y="378612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авайте   повтори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20920"/>
            <a:ext cx="8242200" cy="484020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право 8"/>
          <p:cNvSpPr/>
          <p:nvPr/>
        </p:nvSpPr>
        <p:spPr>
          <a:xfrm>
            <a:off x="7715160" y="578628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http://cs4308.vkontakte.ru/u36597158/-1/x_47e5a3a9.jpg"/>
          <p:cNvPicPr/>
          <p:nvPr/>
        </p:nvPicPr>
        <p:blipFill>
          <a:blip r:embed="rId2"/>
          <a:stretch/>
        </p:blipFill>
        <p:spPr>
          <a:xfrm>
            <a:off x="642960" y="27860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http://st.kinopoisk.ru/im/poster/8/8/4/kinopoisk.ru-Cheburashka-884874.jpg"/>
          <p:cNvPicPr/>
          <p:nvPr/>
        </p:nvPicPr>
        <p:blipFill>
          <a:blip r:embed="rId3"/>
          <a:stretch/>
        </p:blipFill>
        <p:spPr>
          <a:xfrm>
            <a:off x="6715080" y="278604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Картинка 1 из 606"/>
          <p:cNvPicPr/>
          <p:nvPr/>
        </p:nvPicPr>
        <p:blipFill>
          <a:blip r:embed="rId4"/>
          <a:stretch/>
        </p:blipFill>
        <p:spPr>
          <a:xfrm>
            <a:off x="3643200" y="300024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http://viki.rdf.ru/media/upload/preview/uspenskiy.jpg"/>
          <p:cNvPicPr/>
          <p:nvPr/>
        </p:nvPicPr>
        <p:blipFill>
          <a:blip r:embed="rId1"/>
          <a:stretch/>
        </p:blipFill>
        <p:spPr>
          <a:xfrm>
            <a:off x="3286080" y="785880"/>
            <a:ext cx="2070000" cy="2220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Картинка 56 из 27546"/>
          <p:cNvPicPr/>
          <p:nvPr/>
        </p:nvPicPr>
        <p:blipFill>
          <a:blip r:embed="rId2"/>
          <a:stretch/>
        </p:blipFill>
        <p:spPr>
          <a:xfrm>
            <a:off x="3357720" y="4429080"/>
            <a:ext cx="2071440" cy="2149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kmrz.ru/catimg/38/380163.jpg"/>
          <p:cNvPicPr/>
          <p:nvPr/>
        </p:nvPicPr>
        <p:blipFill>
          <a:blip r:embed="rId3"/>
          <a:stretch/>
        </p:blipFill>
        <p:spPr>
          <a:xfrm>
            <a:off x="642960" y="4429080"/>
            <a:ext cx="1928880" cy="214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578205_Budem_znakomy_hud_SHvarcman_L.jpg (224×301)"/>
          <p:cNvPicPr/>
          <p:nvPr/>
        </p:nvPicPr>
        <p:blipFill>
          <a:blip r:embed="rId4"/>
          <a:stretch/>
        </p:blipFill>
        <p:spPr>
          <a:xfrm>
            <a:off x="6215040" y="4429080"/>
            <a:ext cx="217800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ig.jpg (220×340)"/>
          <p:cNvPicPr/>
          <p:nvPr/>
        </p:nvPicPr>
        <p:blipFill>
          <a:blip r:embed="rId5"/>
          <a:stretch/>
        </p:blipFill>
        <p:spPr>
          <a:xfrm>
            <a:off x="6215040" y="857160"/>
            <a:ext cx="2143080" cy="214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4a3c7a8265f579cb5a593b4e8d.jpg (400×520)"/>
          <p:cNvPicPr/>
          <p:nvPr/>
        </p:nvPicPr>
        <p:blipFill>
          <a:blip r:embed="rId6"/>
          <a:stretch/>
        </p:blipFill>
        <p:spPr>
          <a:xfrm>
            <a:off x="571680" y="857160"/>
            <a:ext cx="2000160" cy="2149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5"/>
          <p:cNvSpPr/>
          <p:nvPr/>
        </p:nvSpPr>
        <p:spPr>
          <a:xfrm>
            <a:off x="1190520" y="37861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. Усп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51200" y="37872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alibri"/>
              </a:rPr>
              <a:t>Э. Усп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78700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9"/>
          <p:cNvSpPr/>
          <p:nvPr/>
        </p:nvSpPr>
        <p:spPr>
          <a:xfrm>
            <a:off x="3814920" y="33577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О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0"/>
          <p:cNvSpPr/>
          <p:nvPr/>
        </p:nvSpPr>
        <p:spPr>
          <a:xfrm>
            <a:off x="157212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1"/>
          <p:cNvSpPr/>
          <p:nvPr/>
        </p:nvSpPr>
        <p:spPr>
          <a:xfrm>
            <a:off x="4132080" y="3571920"/>
            <a:ext cx="5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319560" y="3787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Calibri"/>
              </a:rPr>
              <a:t>И. Токма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7031 -0.11713 E">
                                      <p:cBhvr>
                                        <p:cTn id="5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2599 -0.11551 E">
                                      <p:cBhvr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53143 -0.05463 E">
                                      <p:cBhvr>
                                        <p:cTn id="6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1.85185E-006 L -0.53629 0.08194 E">
                                      <p:cBhvr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66667E-006 L 0.29931 0.08402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Найдите неповторяющиеся буквы и сложите фамилию писателя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6120000" cy="26398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5218200"/>
            <a:ext cx="5937480" cy="146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оставь пословицу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0" name="Содержимое 2" descr=""/>
          <p:cNvPicPr/>
          <p:nvPr/>
        </p:nvPicPr>
        <p:blipFill>
          <a:blip r:embed="rId1"/>
          <a:stretch/>
        </p:blipFill>
        <p:spPr>
          <a:xfrm>
            <a:off x="298440" y="1847880"/>
            <a:ext cx="8364600" cy="4838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alibri"/>
              </a:rPr>
              <a:t>Хотим  узнать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785600"/>
            <a:ext cx="4186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 чём может идти речь в произведении, судя по названию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значит тайное становится явным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ем закончится рассказ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Рисунок 3" descr="http://www.kmrz.ru/catimg/31/31221.jpg"/>
          <p:cNvPicPr/>
          <p:nvPr/>
        </p:nvPicPr>
        <p:blipFill>
          <a:blip r:embed="rId1"/>
          <a:stretch/>
        </p:blipFill>
        <p:spPr>
          <a:xfrm>
            <a:off x="714240" y="1928880"/>
            <a:ext cx="350064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а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скрываемое от других, известное не вс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неразгаданное, ещё не познанно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крытая причина чего-нибуд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зовите синоним к слову тайна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Секр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кретный, потайной, скрытый, затаённы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в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крытое, откровенно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ловарная 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429000" y="857160"/>
            <a:ext cx="55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34b73"/>
                </a:solidFill>
                <a:latin typeface="Calibri"/>
              </a:rPr>
              <a:t>Грановитая пала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мятник архитектуры в Московском Кремле, одно из древнейших гражданских зданий Москв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Грановитой палате на протяжении столетий отмечались многие крупные события в жизни Русского государства, она являлась парадным тронным зал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ей принимались иностранные послы, торжественно объявляли наследников русского престола, заседали Земские собо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Рисунок 3" descr="http://dic.academic.ru/pictures/wiki/files/71/Granovitaya_palata_01.JPG"/>
          <p:cNvPicPr/>
          <p:nvPr/>
        </p:nvPicPr>
        <p:blipFill>
          <a:blip r:embed="rId1"/>
          <a:stretch/>
        </p:blipFill>
        <p:spPr>
          <a:xfrm>
            <a:off x="214200" y="1071720"/>
            <a:ext cx="314352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7120" y="71388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Интеллигентны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еловек, обладающий большой внутренней культур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Клевет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очащая информация или распространение заведомо ложных сведений, порочащих честь и достоинство другого лица или подрывающих его репутаци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Синонимы:</a:t>
            </a:r>
            <a:r>
              <a:rPr b="1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жь, враньё, выдумка, нагово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звительный?</a:t>
            </a:r>
            <a:r>
              <a:rPr b="0" lang="en-US" sz="3000" spc="-1" strike="noStrike" u="sng">
                <a:solidFill>
                  <a:srgbClr val="852f74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мящийся досадить, злобно-насмешливы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4:11:27Z</dcterms:created>
  <dc:creator>Admin</dc:creator>
  <dc:description/>
  <dc:language>en-US</dc:language>
  <cp:lastModifiedBy>Sergey</cp:lastModifiedBy>
  <dcterms:modified xsi:type="dcterms:W3CDTF">2013-01-20T13:11:38Z</dcterms:modified>
  <cp:revision>290</cp:revision>
  <dc:subject/>
  <dc:title>Слайд 1</dc:title>
</cp:coreProperties>
</file>