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FCF2-BB7C-43DE-8896-E8E4FCF3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BCA7-7957-412D-8762-DB0757B0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00E0-D04B-4EB3-8AD3-99A990DE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CFC4-F64C-465E-939D-84A0192BE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B2A9-7D34-446D-8175-7F1FFC33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99E1-27E3-4600-B725-F0E07C08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7F5C-7021-472D-9629-BF63D52D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4E3A-A410-4696-87F0-5C17D6D7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0A96-8C01-4C95-BDBA-AA69FE86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770B-CDD4-4D22-AF55-FF2EF185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EB4E-D11B-4A81-8CF7-ED35CFA4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2A9E-0912-4973-BE01-0AE5465C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BFCE-4B82-49A6-B562-0ACD877A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DAAE-53E7-4863-8337-46F2E592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BD7B-D0AC-4940-A55E-F82DC38A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7313-E8B3-49CA-B611-5EBC61372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EBB5-47DA-40EA-B776-F6A9A7730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C4FE-C360-41A8-AB33-97E7CC78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B89C-1E7A-4190-9E8C-3B40AD05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D5D1-3DCB-46BA-AE79-66FF7CB2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E930-DD94-4326-8DBA-8AA702CF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44F2-D4A0-4524-9F68-5155745A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F7F0-4C81-4D27-A69A-1CD06161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2C43-4986-4DBF-AD79-675C5B9E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5034-630C-40FB-BE39-E90B66738929}" type="slidenum">
              <a:rPr b="0" lang="en-US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5153-6BAA-4C5E-AA3C-0D60A4A8ADA1}" type="slidenum">
              <a:rPr b="0" lang="en-US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5520" y="1785600"/>
            <a:ext cx="80010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1100"/>
            </a:br>
            <a:br>
              <a:rPr sz="1100"/>
            </a:br>
            <a:br>
              <a:rPr sz="800"/>
            </a:b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«Правда всегда поднимается над ложью, как масло над водой».          </a:t>
            </a:r>
            <a:br>
              <a:rPr sz="2800"/>
            </a:br>
            <a:r>
              <a:rPr b="0" lang="en-US" sz="2800" spc="-1" strike="noStrike">
                <a:solidFill>
                  <a:srgbClr val="b13f9a"/>
                </a:solidFill>
                <a:latin typeface="Calibri"/>
              </a:rPr>
              <a:t>                                                               </a:t>
            </a:r>
            <a:br>
              <a:rPr sz="2800"/>
            </a:br>
            <a:r>
              <a:rPr b="0" lang="en-US" sz="2800" spc="-1" strike="noStrike">
                <a:solidFill>
                  <a:srgbClr val="b13f9a"/>
                </a:solidFill>
                <a:latin typeface="Calibri"/>
              </a:rPr>
              <a:t>                                                               Мигель Сервантес</a:t>
            </a:r>
            <a:endParaRPr b="0" lang="en-US" sz="28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57120" y="342900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читайте глазам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читайте медленн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лух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читайте с утвердительной интонацией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читайте выразительно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 вы понимаете смысл данного высказывания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Работа с текстом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42920" y="1642680"/>
            <a:ext cx="8786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Что однажды услышал Денис от мамы, и как мама объяснила свои слов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52f74"/>
                </a:solidFill>
                <a:latin typeface="Constantia"/>
              </a:rPr>
              <a:t>(«Тайное становится явным»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Как мама уговаривала Дениску есть кашу? Что она ему предложил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52f74"/>
                </a:solidFill>
                <a:latin typeface="Constantia"/>
              </a:rPr>
              <a:t>(Сходить в Кремль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Что испытывал Дениска, когда экспериментировал с кашей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52f74"/>
                </a:solidFill>
                <a:latin typeface="Constantia"/>
              </a:rPr>
              <a:t>(Чувство обиды, досады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Правда ли Дениска «потерял сознание» и поэтому выплеснул кашу на улицу?  Почему автор использует это выражен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128592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Чтение - разведка</a:t>
            </a:r>
            <a:br>
              <a:rPr sz="4500"/>
            </a:b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4997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Что делал Дениска, чтобы каша была вкуснее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пошлёпал ложкой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посолил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посыпал сахару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долил кипятку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вылил в кашу всю баночку хрен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Выборочное чтение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4200" y="1935000"/>
            <a:ext cx="8715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e6c36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Как выглядел дяденька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de6c36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По какой примете Денис понял, что мама очень рассердилась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Практическая работа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85840" y="1643040"/>
            <a:ext cx="8400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Определите последовательность происходящих в тексте действий, расставив их по поряд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Овал 7"/>
          <p:cNvSpPr/>
          <p:nvPr/>
        </p:nvSpPr>
        <p:spPr>
          <a:xfrm>
            <a:off x="1000080" y="5929200"/>
            <a:ext cx="561960" cy="500040"/>
          </a:xfrm>
          <a:prstGeom prst="ellips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5"/>
          <p:cNvSpPr/>
          <p:nvPr/>
        </p:nvSpPr>
        <p:spPr>
          <a:xfrm>
            <a:off x="1000080" y="3357720"/>
            <a:ext cx="561960" cy="500040"/>
          </a:xfrm>
          <a:prstGeom prst="ellips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1286640" y="3357720"/>
            <a:ext cx="51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«Видеть не могу манную кашу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4"/>
          <p:cNvSpPr/>
          <p:nvPr/>
        </p:nvSpPr>
        <p:spPr>
          <a:xfrm>
            <a:off x="1000080" y="4000680"/>
            <a:ext cx="561960" cy="500040"/>
          </a:xfrm>
          <a:prstGeom prst="ellips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0"/>
          <p:cNvSpPr/>
          <p:nvPr/>
        </p:nvSpPr>
        <p:spPr>
          <a:xfrm>
            <a:off x="1236960" y="4000680"/>
            <a:ext cx="649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«Вы выливаете разную гадость за окно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3"/>
          <p:cNvSpPr/>
          <p:nvPr/>
        </p:nvSpPr>
        <p:spPr>
          <a:xfrm>
            <a:off x="1000080" y="4643280"/>
            <a:ext cx="561960" cy="500400"/>
          </a:xfrm>
          <a:prstGeom prst="ellips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2"/>
          <p:cNvSpPr/>
          <p:nvPr/>
        </p:nvSpPr>
        <p:spPr>
          <a:xfrm>
            <a:off x="1359720" y="4643280"/>
            <a:ext cx="550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«Ты это запомнил на всю жизнь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6"/>
          <p:cNvSpPr/>
          <p:nvPr/>
        </p:nvSpPr>
        <p:spPr>
          <a:xfrm>
            <a:off x="1000080" y="5286240"/>
            <a:ext cx="561960" cy="500040"/>
          </a:xfrm>
          <a:prstGeom prst="ellips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4"/>
          <p:cNvSpPr/>
          <p:nvPr/>
        </p:nvSpPr>
        <p:spPr>
          <a:xfrm>
            <a:off x="1369080" y="5286240"/>
            <a:ext cx="50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«Ты должен съесть всё до дна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6"/>
          <p:cNvSpPr/>
          <p:nvPr/>
        </p:nvSpPr>
        <p:spPr>
          <a:xfrm>
            <a:off x="1414440" y="6000840"/>
            <a:ext cx="50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«А я остался с кашей наедин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7"/>
          <p:cNvSpPr/>
          <p:nvPr/>
        </p:nvSpPr>
        <p:spPr>
          <a:xfrm>
            <a:off x="2588760" y="2571840"/>
            <a:ext cx="335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2f74"/>
                </a:solidFill>
                <a:latin typeface="Calibri"/>
              </a:rPr>
              <a:t>Проверь   себ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Какой фрагмент проиллюстрировал художник? 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500280" y="2285640"/>
            <a:ext cx="48578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«И тут я вспомнил, что у нас есть хрен. С хреном, кажется, почти всё можно съесть! Я взял и вылил в кашу всю баночку, а когда немножко попробовал, у меня сразу глаза на лоб полезли и остановилось дыхание»…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0" name="Рисунок 3" descr="http://festival.1september.ru/files/articles/50/5026/502610/3.jpg"/>
          <p:cNvPicPr/>
          <p:nvPr/>
        </p:nvPicPr>
        <p:blipFill>
          <a:blip r:embed="rId1"/>
          <a:stretch/>
        </p:blipFill>
        <p:spPr>
          <a:xfrm>
            <a:off x="285840" y="2214720"/>
            <a:ext cx="3143160" cy="4143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99680" y="5357520"/>
            <a:ext cx="8186760" cy="11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«Я взял тарелку, быстро подбежал к окну и выплеснул кашу на улицу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2" name="Рисунок 3" descr="http://www.planetaskazok.ru/images/stories/dragunsky/deniskini_rasskazy/img_20.jpg"/>
          <p:cNvPicPr/>
          <p:nvPr/>
        </p:nvPicPr>
        <p:blipFill>
          <a:blip r:embed="rId1"/>
          <a:stretch/>
        </p:blipFill>
        <p:spPr>
          <a:xfrm>
            <a:off x="2357280" y="1143000"/>
            <a:ext cx="4856400" cy="3787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00040" y="550044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«Извините, пожалуйста», - сказала она тихо, - разрешите я вас почищу, пройдите сюда»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4" name="Рисунок 3" descr="Картинка 56 из 27546"/>
          <p:cNvPicPr/>
          <p:nvPr/>
        </p:nvPicPr>
        <p:blipFill>
          <a:blip r:embed="rId1"/>
          <a:stretch/>
        </p:blipFill>
        <p:spPr>
          <a:xfrm>
            <a:off x="2071800" y="1285920"/>
            <a:ext cx="4857480" cy="3786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28760" y="5285880"/>
            <a:ext cx="8229600" cy="12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«И к нам вошёл какой-то дяденька. Я как на него взглянул, так сразу понял, что в Кремль я не пойду»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6" name="Рисунок 3" descr="http://festival.1september.ru/files/articles/51/5145/514503/5.jpg"/>
          <p:cNvPicPr/>
          <p:nvPr/>
        </p:nvPicPr>
        <p:blipFill>
          <a:blip r:embed="rId1"/>
          <a:stretch/>
        </p:blipFill>
        <p:spPr>
          <a:xfrm>
            <a:off x="1785960" y="1285920"/>
            <a:ext cx="5572080" cy="3787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28760" y="4786200"/>
            <a:ext cx="82296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«Ну ещё бы… Я не знаю ничего красивее Кремля. Я там был в Грановитой палате и в Оружейной, стоял возле Царь – пушки и знаю, где сидел Иван Грозный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8" name="Рисунок 3" descr="http://www.planetaskazok.ru/images/stories/dragunsky/deniskini_rasskazy/img_23.jpg"/>
          <p:cNvPicPr/>
          <p:nvPr/>
        </p:nvPicPr>
        <p:blipFill>
          <a:blip r:embed="rId1"/>
          <a:stretch/>
        </p:blipFill>
        <p:spPr>
          <a:xfrm>
            <a:off x="2428920" y="928800"/>
            <a:ext cx="4856040" cy="3787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1934640"/>
            <a:ext cx="91440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ересказ рассказа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 желанию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арисовать иллюстрацию к любому понравившемуся отрывк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1" name="Рисунок 3" descr="http://900igr.net/datai/literatura/Oster-Vrednye-sovety/0029-047--Pochemu-sovety-nazyvajutsja-vrednymi.png"/>
          <p:cNvPicPr/>
          <p:nvPr/>
        </p:nvPicPr>
        <p:blipFill>
          <a:blip r:embed="rId1"/>
          <a:stretch/>
        </p:blipFill>
        <p:spPr>
          <a:xfrm>
            <a:off x="5572080" y="3786120"/>
            <a:ext cx="2786040" cy="2643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680" y="7138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Давайте   повторим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98" name="Содержимое 2" descr=""/>
          <p:cNvPicPr/>
          <p:nvPr/>
        </p:nvPicPr>
        <p:blipFill>
          <a:blip r:embed="rId1"/>
          <a:stretch/>
        </p:blipFill>
        <p:spPr>
          <a:xfrm>
            <a:off x="420840" y="1420920"/>
            <a:ext cx="8242200" cy="4840200"/>
          </a:xfrm>
          <a:prstGeom prst="rect">
            <a:avLst/>
          </a:prstGeom>
          <a:ln w="0">
            <a:noFill/>
          </a:ln>
        </p:spPr>
      </p:pic>
      <p:sp>
        <p:nvSpPr>
          <p:cNvPr id="99" name="Стрелка вправо 8"/>
          <p:cNvSpPr/>
          <p:nvPr/>
        </p:nvSpPr>
        <p:spPr>
          <a:xfrm>
            <a:off x="7715160" y="578628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9" descr="http://cs4308.vkontakte.ru/u36597158/-1/x_47e5a3a9.jpg"/>
          <p:cNvPicPr/>
          <p:nvPr/>
        </p:nvPicPr>
        <p:blipFill>
          <a:blip r:embed="rId2"/>
          <a:stretch/>
        </p:blipFill>
        <p:spPr>
          <a:xfrm>
            <a:off x="642960" y="2786040"/>
            <a:ext cx="1857240" cy="19288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0" descr="http://st.kinopoisk.ru/im/poster/8/8/4/kinopoisk.ru-Cheburashka-884874.jpg"/>
          <p:cNvPicPr/>
          <p:nvPr/>
        </p:nvPicPr>
        <p:blipFill>
          <a:blip r:embed="rId3"/>
          <a:stretch/>
        </p:blipFill>
        <p:spPr>
          <a:xfrm>
            <a:off x="6715080" y="2786040"/>
            <a:ext cx="1785960" cy="19288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1" descr="Картинка 1 из 606"/>
          <p:cNvPicPr/>
          <p:nvPr/>
        </p:nvPicPr>
        <p:blipFill>
          <a:blip r:embed="rId4"/>
          <a:stretch/>
        </p:blipFill>
        <p:spPr>
          <a:xfrm>
            <a:off x="3643200" y="3000240"/>
            <a:ext cx="2000520" cy="2071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5" descr="http://viki.rdf.ru/media/upload/preview/uspenskiy.jpg"/>
          <p:cNvPicPr/>
          <p:nvPr/>
        </p:nvPicPr>
        <p:blipFill>
          <a:blip r:embed="rId1"/>
          <a:stretch/>
        </p:blipFill>
        <p:spPr>
          <a:xfrm>
            <a:off x="3286080" y="785880"/>
            <a:ext cx="2070000" cy="22208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0" descr="Картинка 56 из 27546"/>
          <p:cNvPicPr/>
          <p:nvPr/>
        </p:nvPicPr>
        <p:blipFill>
          <a:blip r:embed="rId2"/>
          <a:stretch/>
        </p:blipFill>
        <p:spPr>
          <a:xfrm>
            <a:off x="3357720" y="4429080"/>
            <a:ext cx="2071440" cy="2149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www.kmrz.ru/catimg/38/380163.jpg"/>
          <p:cNvPicPr/>
          <p:nvPr/>
        </p:nvPicPr>
        <p:blipFill>
          <a:blip r:embed="rId3"/>
          <a:stretch/>
        </p:blipFill>
        <p:spPr>
          <a:xfrm>
            <a:off x="642960" y="4429080"/>
            <a:ext cx="1928880" cy="2149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1578205_Budem_znakomy_hud_SHvarcman_L.jpg (224×301)"/>
          <p:cNvPicPr/>
          <p:nvPr/>
        </p:nvPicPr>
        <p:blipFill>
          <a:blip r:embed="rId4"/>
          <a:stretch/>
        </p:blipFill>
        <p:spPr>
          <a:xfrm>
            <a:off x="6215040" y="4429080"/>
            <a:ext cx="2178000" cy="2149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big.jpg (220×340)"/>
          <p:cNvPicPr/>
          <p:nvPr/>
        </p:nvPicPr>
        <p:blipFill>
          <a:blip r:embed="rId5"/>
          <a:stretch/>
        </p:blipFill>
        <p:spPr>
          <a:xfrm>
            <a:off x="6215040" y="857160"/>
            <a:ext cx="2143080" cy="2149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e4a3c7a8265f579cb5a593b4e8d.jpg (400×520)"/>
          <p:cNvPicPr/>
          <p:nvPr/>
        </p:nvPicPr>
        <p:blipFill>
          <a:blip r:embed="rId6"/>
          <a:stretch/>
        </p:blipFill>
        <p:spPr>
          <a:xfrm>
            <a:off x="571680" y="857160"/>
            <a:ext cx="2000160" cy="214956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5"/>
          <p:cNvSpPr/>
          <p:nvPr/>
        </p:nvSpPr>
        <p:spPr>
          <a:xfrm>
            <a:off x="1190520" y="3786120"/>
            <a:ext cx="22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Э. Успе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5551200" y="378720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Calibri"/>
              </a:rPr>
              <a:t>Э. Усп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7"/>
          <p:cNvSpPr/>
          <p:nvPr/>
        </p:nvSpPr>
        <p:spPr>
          <a:xfrm>
            <a:off x="5787000" y="33577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Б. Заход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9"/>
          <p:cNvSpPr/>
          <p:nvPr/>
        </p:nvSpPr>
        <p:spPr>
          <a:xfrm>
            <a:off x="3814920" y="33577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Г. Ост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0"/>
          <p:cNvSpPr/>
          <p:nvPr/>
        </p:nvSpPr>
        <p:spPr>
          <a:xfrm>
            <a:off x="1572120" y="33577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Б. Заход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21"/>
          <p:cNvSpPr/>
          <p:nvPr/>
        </p:nvSpPr>
        <p:spPr>
          <a:xfrm>
            <a:off x="4132080" y="3571920"/>
            <a:ext cx="54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3319560" y="378720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Calibri"/>
              </a:rPr>
              <a:t>И. Токмак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85185E-006 L -0.07031 -0.11713 E">
                                      <p:cBhvr>
                                        <p:cTn id="52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22222E-006 L -0.2599 -0.11551 E">
                                      <p:cBhvr>
                                        <p:cTn id="5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85185E-006 L 0.53143 -0.05463 E">
                                      <p:cBhvr>
                                        <p:cTn id="60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6 1.85185E-006 L -0.53629 0.08194 E">
                                      <p:cBhvr>
                                        <p:cTn id="6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6.66667E-006 L 0.29931 0.08402 E">
                                      <p:cBhvr>
                                        <p:cTn id="68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0040" y="1356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Найдите неповторяющиеся буквы и сложите фамилию писателя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117" name="Содержимое 3" descr=""/>
          <p:cNvPicPr/>
          <p:nvPr/>
        </p:nvPicPr>
        <p:blipFill>
          <a:blip r:embed="rId1"/>
          <a:stretch/>
        </p:blipFill>
        <p:spPr>
          <a:xfrm>
            <a:off x="1500120" y="2286000"/>
            <a:ext cx="6120000" cy="263988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5" descr=""/>
          <p:cNvPicPr/>
          <p:nvPr/>
        </p:nvPicPr>
        <p:blipFill>
          <a:blip r:embed="rId2"/>
          <a:stretch/>
        </p:blipFill>
        <p:spPr>
          <a:xfrm>
            <a:off x="1566720" y="5218200"/>
            <a:ext cx="5937480" cy="1468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Составь пословицу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120" name="Содержимое 2" descr=""/>
          <p:cNvPicPr/>
          <p:nvPr/>
        </p:nvPicPr>
        <p:blipFill>
          <a:blip r:embed="rId1"/>
          <a:stretch/>
        </p:blipFill>
        <p:spPr>
          <a:xfrm>
            <a:off x="298440" y="1847880"/>
            <a:ext cx="8364600" cy="4838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13f9a"/>
                </a:solidFill>
                <a:latin typeface="Calibri"/>
              </a:rPr>
              <a:t>Хотим  узнать</a:t>
            </a:r>
            <a:endParaRPr b="0" lang="en-US" sz="48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00720" y="1785600"/>
            <a:ext cx="41860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de6c36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О чём может идти речь в произведении, судя по названию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de6c36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Что значит тайное становится явным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de6c36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Чем закончится рассказ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3" name="Рисунок 3" descr="http://www.kmrz.ru/catimg/31/31221.jpg"/>
          <p:cNvPicPr/>
          <p:nvPr/>
        </p:nvPicPr>
        <p:blipFill>
          <a:blip r:embed="rId1"/>
          <a:stretch/>
        </p:blipFill>
        <p:spPr>
          <a:xfrm>
            <a:off x="714240" y="1928880"/>
            <a:ext cx="350064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2876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Тайна?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что скрываемое от других, известное не всем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что неразгаданное, ещё не познанно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крытая причина чего-нибудь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Назовите синоним к слову тайна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2f74"/>
                </a:solidFill>
                <a:latin typeface="Calibri"/>
              </a:rPr>
              <a:t>Секрет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2f74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Тайное?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екретный, потайной, скрытый, затаённый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01"/>
              </a:spcBef>
              <a:buClr>
                <a:srgbClr val="de6c3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Явное?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ткрытое, откровенно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Словарная  работа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</p:spTree>
  </p:cSld>
  <p:transition>
    <p:split dir="out" orient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429000" y="857160"/>
            <a:ext cx="5500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a34b73"/>
                </a:solidFill>
                <a:latin typeface="Calibri"/>
              </a:rPr>
              <a:t>Грановитая палат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амятник архитектуры в Московском Кремле, одно из древнейших гражданских зданий Москвы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Грановитой палате на протяжении столетий отмечались многие крупные события в жизни Русского государства, она являлась парадным тронным зало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ней принимались иностранные послы, торжественно объявляли наследников русского престола, заседали Земские собор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7" name="Рисунок 3" descr="http://dic.academic.ru/pictures/wiki/files/71/Granovitaya_palata_01.JPG"/>
          <p:cNvPicPr/>
          <p:nvPr/>
        </p:nvPicPr>
        <p:blipFill>
          <a:blip r:embed="rId1"/>
          <a:stretch/>
        </p:blipFill>
        <p:spPr>
          <a:xfrm>
            <a:off x="214200" y="1071720"/>
            <a:ext cx="3143520" cy="4429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8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8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8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57120" y="713880"/>
            <a:ext cx="85010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Интеллигентный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Человек, обладающий большой внутренней культурой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Клевета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рочащая информация или распространение заведомо ложных сведений, порочащих честь и достоинство другого лица или подрывающих его репутацию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Синонимы:</a:t>
            </a:r>
            <a:r>
              <a:rPr b="1" lang="en-US" sz="3000" spc="-1" strike="noStrike">
                <a:solidFill>
                  <a:srgbClr val="852f74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Ложь, враньё, выдумка, наговор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Язвительный?</a:t>
            </a:r>
            <a:r>
              <a:rPr b="0" lang="en-US" sz="3000" spc="-1" strike="noStrike" u="sng">
                <a:solidFill>
                  <a:srgbClr val="852f74"/>
                </a:solidFill>
                <a:uFillTx/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ремящийся досадить, злобно-насмешливы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1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7T14:11:27Z</dcterms:created>
  <dc:creator>Admin</dc:creator>
  <dc:description/>
  <dc:language>en-US</dc:language>
  <cp:lastModifiedBy>Sergey</cp:lastModifiedBy>
  <dcterms:modified xsi:type="dcterms:W3CDTF">2013-01-20T13:11:38Z</dcterms:modified>
  <cp:revision>290</cp:revision>
  <dc:subject/>
  <dc:title>Слайд 1</dc:title>
</cp:coreProperties>
</file>