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B62-5A8B-4986-AE34-80988E56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E40-B6FA-4300-B867-9E0CC29D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E48-111B-4387-BE20-A188E6FC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FE56-98CD-47CD-A6B6-5222032B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C704-28D5-4537-9C9E-0FA88891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4379-BAE8-497F-9BE8-F7788E99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463E-1767-4EF7-8EF7-9742290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446-A7E4-46E0-84B9-15EE1A4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FBC-9D32-4D70-A2AA-11A4566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0CD2-7D3B-47FF-A7F4-66CA7AF0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FB9B-4D99-4D7C-BE29-2790D79B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C34-1458-49BC-8435-8A614ABA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5BD-8677-49D6-B14E-D9B86C7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089E-86F4-4192-A027-49A42A15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5DD4-5542-4C80-8A81-DE49DDF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CD86-51F3-4527-951C-E5D0782B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06A2-6CC4-4B4F-86EF-A14842C1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C04-E59E-4A45-B2A0-F99C9E47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F83-7534-4F38-8BD6-6B482253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CCF-DE32-41BC-91B9-94B53EF2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4E4-B5EB-481F-9DDA-7D626BA6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1EF6-550F-4FC9-BEF0-F5E0D7EF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36B-28B4-4DB1-A038-B9FDEA8A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9D7-577D-4AFF-8B49-D67F5776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486-9A74-4846-BFD7-86DC15CCB34D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1E2-F8F6-4431-982F-F665AE1904FC}" type="slidenum">
              <a:rPr b="0" lang="en-US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5520" y="1785600"/>
            <a:ext cx="80010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1100"/>
            </a:br>
            <a:br>
              <a:rPr sz="1100"/>
            </a:br>
            <a:br>
              <a:rPr sz="800"/>
            </a:b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«Правда всегда поднимается над ложью, как масло над водой».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</a:t>
            </a:r>
            <a:br>
              <a:rPr sz="2800"/>
            </a:br>
            <a:r>
              <a:rPr b="0" lang="en-US" sz="2800" spc="-1" strike="noStrike">
                <a:solidFill>
                  <a:srgbClr val="b13f9a"/>
                </a:solidFill>
                <a:latin typeface="Calibri"/>
              </a:rPr>
              <a:t>                                                               Мигель Сервантес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120" y="3429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глазам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медлен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лух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с утвердительной интонаци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читайте выразительн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ы понимаете смысл данного высказывания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b83d68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Работа с тексто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642680"/>
            <a:ext cx="8786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однажды услышал Денис от мамы, и как мама объяснила свои слов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«Тайное становится явным»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ак мама уговаривала Дениску есть кашу? Что она ему предложил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Сходить в Кремл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то испытывал Дениска, когда экспериментировал с кашей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52f74"/>
                </a:solidFill>
                <a:latin typeface="Constantia"/>
              </a:rPr>
              <a:t>(Чувство обиды, досады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равда ли Дениска «потерял сознание» и поэтому выплеснул кашу на улицу?  Почему автор использует это выраже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Чтение - разведка</a:t>
            </a:r>
            <a:br>
              <a:rPr sz="4500"/>
            </a:b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делал Дениска, чтобы каша была вкуснее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шлёпал ложкой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олил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сыпал сахар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долил кипятку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вылил в кашу всю баночку хре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Выборочное чте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4200" y="1935000"/>
            <a:ext cx="8715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Как выглядел дяденька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По какой примете Денис понял, что мама очень рассердилась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Практическая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5840" y="1643040"/>
            <a:ext cx="8400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пределите последовательность происходящих в тексте действий, расставив их по поряд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Овал 7"/>
          <p:cNvSpPr/>
          <p:nvPr/>
        </p:nvSpPr>
        <p:spPr>
          <a:xfrm>
            <a:off x="1000080" y="592920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1000080" y="335772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286640" y="335772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идеть не могу манную каш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000080" y="400068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1236960" y="4000680"/>
            <a:ext cx="64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Вы выливаете разную гадость за окн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3"/>
          <p:cNvSpPr/>
          <p:nvPr/>
        </p:nvSpPr>
        <p:spPr>
          <a:xfrm>
            <a:off x="1000080" y="4643280"/>
            <a:ext cx="561960" cy="50040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2"/>
          <p:cNvSpPr/>
          <p:nvPr/>
        </p:nvSpPr>
        <p:spPr>
          <a:xfrm>
            <a:off x="1359720" y="4643280"/>
            <a:ext cx="55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это запомнил на всю жизн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6"/>
          <p:cNvSpPr/>
          <p:nvPr/>
        </p:nvSpPr>
        <p:spPr>
          <a:xfrm>
            <a:off x="1000080" y="5286240"/>
            <a:ext cx="561960" cy="500040"/>
          </a:xfrm>
          <a:prstGeom prst="ellipse">
            <a:avLst/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1369080" y="5286240"/>
            <a:ext cx="50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Ты должен съесть всё до дна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6"/>
          <p:cNvSpPr/>
          <p:nvPr/>
        </p:nvSpPr>
        <p:spPr>
          <a:xfrm>
            <a:off x="1414440" y="60008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А я остался с кашей наеди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2588760" y="2571840"/>
            <a:ext cx="335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2f74"/>
                </a:solidFill>
                <a:latin typeface="Calibri"/>
              </a:rPr>
              <a:t>Проверь  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Какой фрагмент проиллюстрировал художник? 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0280" y="228564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тут я вспомнил, что у нас есть хрен. С хреном, кажется, почти всё можно съесть! Я взял и вылил в кашу всю баночку, а когда немножко попробовал, у меня сразу глаза на лоб полезли и остановилось дыхание»…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Рисунок 3" descr="http://festival.1september.ru/files/articles/50/5026/502610/3.jpg"/>
          <p:cNvPicPr/>
          <p:nvPr/>
        </p:nvPicPr>
        <p:blipFill>
          <a:blip r:embed="rId1"/>
          <a:stretch/>
        </p:blipFill>
        <p:spPr>
          <a:xfrm>
            <a:off x="285840" y="2214720"/>
            <a:ext cx="3143160" cy="4143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99680" y="5357520"/>
            <a:ext cx="818676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Я взял тарелку, быстро подбежал к окну и выплеснул кашу на улицу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Рисунок 3" descr="http://www.planetaskazok.ru/images/stories/dragunsky/deniskini_rasskazy/img_20.jpg"/>
          <p:cNvPicPr/>
          <p:nvPr/>
        </p:nvPicPr>
        <p:blipFill>
          <a:blip r:embed="rId1"/>
          <a:stretch/>
        </p:blipFill>
        <p:spPr>
          <a:xfrm>
            <a:off x="2357280" y="1143000"/>
            <a:ext cx="4856400" cy="37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55004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звините, пожалуйста», - сказала она тихо, - разрешите я вас почищу, пройдите сюда»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Рисунок 3" descr="Картинка 56 из 27546"/>
          <p:cNvPicPr/>
          <p:nvPr/>
        </p:nvPicPr>
        <p:blipFill>
          <a:blip r:embed="rId1"/>
          <a:stretch/>
        </p:blipFill>
        <p:spPr>
          <a:xfrm>
            <a:off x="2071800" y="1285920"/>
            <a:ext cx="4857480" cy="378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28760" y="5285880"/>
            <a:ext cx="82296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«И к нам вошёл какой-то дяденька. Я как на него взглянул, так сразу понял, что в Кремль я не пойду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Рисунок 3" descr="http://festival.1september.ru/files/articles/51/5145/514503/5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28760" y="4786200"/>
            <a:ext cx="8229600" cy="18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«Ну ещё бы… Я не знаю ничего красивее Кремля. Я там был в Грановитой палате и в Оружейной, стоял возле Царь – пушки и знаю, где сидел Иван Грозный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Рисунок 3" descr="http://www.planetaskazok.ru/images/stories/dragunsky/deniskini_rasskazy/img_23.jpg"/>
          <p:cNvPicPr/>
          <p:nvPr/>
        </p:nvPicPr>
        <p:blipFill>
          <a:blip r:embed="rId1"/>
          <a:stretch/>
        </p:blipFill>
        <p:spPr>
          <a:xfrm>
            <a:off x="2428920" y="928800"/>
            <a:ext cx="4856040" cy="3787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сказ рассказа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желан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рисовать иллюстрацию к любому понравившемуся отрывк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Рисунок 3" descr="http://900igr.net/datai/literatura/Oster-Vrednye-sovety/0029-047--Pochemu-sovety-nazyvajutsja-vrednymi.png"/>
          <p:cNvPicPr/>
          <p:nvPr/>
        </p:nvPicPr>
        <p:blipFill>
          <a:blip r:embed="rId1"/>
          <a:stretch/>
        </p:blipFill>
        <p:spPr>
          <a:xfrm>
            <a:off x="5572080" y="378612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Давайте   повторим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98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20920"/>
            <a:ext cx="8242200" cy="484020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право 8"/>
          <p:cNvSpPr/>
          <p:nvPr/>
        </p:nvSpPr>
        <p:spPr>
          <a:xfrm>
            <a:off x="7715160" y="578628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http://cs4308.vkontakte.ru/u36597158/-1/x_47e5a3a9.jpg"/>
          <p:cNvPicPr/>
          <p:nvPr/>
        </p:nvPicPr>
        <p:blipFill>
          <a:blip r:embed="rId2"/>
          <a:stretch/>
        </p:blipFill>
        <p:spPr>
          <a:xfrm>
            <a:off x="642960" y="278604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0" descr="http://st.kinopoisk.ru/im/poster/8/8/4/kinopoisk.ru-Cheburashka-884874.jpg"/>
          <p:cNvPicPr/>
          <p:nvPr/>
        </p:nvPicPr>
        <p:blipFill>
          <a:blip r:embed="rId3"/>
          <a:stretch/>
        </p:blipFill>
        <p:spPr>
          <a:xfrm>
            <a:off x="6715080" y="2786040"/>
            <a:ext cx="1785960" cy="1928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1" descr="Картинка 1 из 606"/>
          <p:cNvPicPr/>
          <p:nvPr/>
        </p:nvPicPr>
        <p:blipFill>
          <a:blip r:embed="rId4"/>
          <a:stretch/>
        </p:blipFill>
        <p:spPr>
          <a:xfrm>
            <a:off x="3643200" y="300024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5" descr="http://viki.rdf.ru/media/upload/preview/uspenskiy.jpg"/>
          <p:cNvPicPr/>
          <p:nvPr/>
        </p:nvPicPr>
        <p:blipFill>
          <a:blip r:embed="rId1"/>
          <a:stretch/>
        </p:blipFill>
        <p:spPr>
          <a:xfrm>
            <a:off x="3286080" y="785880"/>
            <a:ext cx="2070000" cy="2220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0" descr="Картинка 56 из 27546"/>
          <p:cNvPicPr/>
          <p:nvPr/>
        </p:nvPicPr>
        <p:blipFill>
          <a:blip r:embed="rId2"/>
          <a:stretch/>
        </p:blipFill>
        <p:spPr>
          <a:xfrm>
            <a:off x="3357720" y="4429080"/>
            <a:ext cx="2071440" cy="2149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kmrz.ru/catimg/38/380163.jpg"/>
          <p:cNvPicPr/>
          <p:nvPr/>
        </p:nvPicPr>
        <p:blipFill>
          <a:blip r:embed="rId3"/>
          <a:stretch/>
        </p:blipFill>
        <p:spPr>
          <a:xfrm>
            <a:off x="642960" y="4429080"/>
            <a:ext cx="1928880" cy="2149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78205_Budem_znakomy_hud_SHvarcman_L.jpg (224×301)"/>
          <p:cNvPicPr/>
          <p:nvPr/>
        </p:nvPicPr>
        <p:blipFill>
          <a:blip r:embed="rId4"/>
          <a:stretch/>
        </p:blipFill>
        <p:spPr>
          <a:xfrm>
            <a:off x="6215040" y="4429080"/>
            <a:ext cx="2178000" cy="2149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big.jpg (220×340)"/>
          <p:cNvPicPr/>
          <p:nvPr/>
        </p:nvPicPr>
        <p:blipFill>
          <a:blip r:embed="rId5"/>
          <a:stretch/>
        </p:blipFill>
        <p:spPr>
          <a:xfrm>
            <a:off x="6215040" y="857160"/>
            <a:ext cx="2143080" cy="214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4a3c7a8265f579cb5a593b4e8d.jpg (400×520)"/>
          <p:cNvPicPr/>
          <p:nvPr/>
        </p:nvPicPr>
        <p:blipFill>
          <a:blip r:embed="rId6"/>
          <a:stretch/>
        </p:blipFill>
        <p:spPr>
          <a:xfrm>
            <a:off x="571680" y="857160"/>
            <a:ext cx="2000160" cy="2149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5"/>
          <p:cNvSpPr/>
          <p:nvPr/>
        </p:nvSpPr>
        <p:spPr>
          <a:xfrm>
            <a:off x="1190520" y="37861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Э. Усп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551200" y="378720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Calibri"/>
              </a:rPr>
              <a:t>Э. Усп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578700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9"/>
          <p:cNvSpPr/>
          <p:nvPr/>
        </p:nvSpPr>
        <p:spPr>
          <a:xfrm>
            <a:off x="3814920" y="33577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. Ос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0"/>
          <p:cNvSpPr/>
          <p:nvPr/>
        </p:nvSpPr>
        <p:spPr>
          <a:xfrm>
            <a:off x="1572120" y="33577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Б. Захо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1"/>
          <p:cNvSpPr/>
          <p:nvPr/>
        </p:nvSpPr>
        <p:spPr>
          <a:xfrm>
            <a:off x="4132080" y="3571920"/>
            <a:ext cx="54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3319560" y="37872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Calibri"/>
              </a:rPr>
              <a:t>И. Токма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-0.07031 -0.11713 E">
                                      <p:cBhvr>
                                        <p:cTn id="5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22222E-006 L -0.2599 -0.11551 E">
                                      <p:cBhvr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53143 -0.05463 E">
                                      <p:cBhvr>
                                        <p:cTn id="6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1.85185E-006 L -0.53629 0.08194 E">
                                      <p:cBhvr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66667E-006 L 0.29931 0.08402 E">
                                      <p:cBhvr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1356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Найдите неповторяющиеся буквы и сложите фамилию писател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Содержимое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6120000" cy="2639880"/>
          </a:xfrm>
          <a:prstGeom prst="rect">
            <a:avLst/>
          </a:prstGeom>
          <a:ln w="0">
            <a:noFill/>
          </a:ln>
        </p:spPr>
      </p:pic>
      <p:pic>
        <p:nvPicPr>
          <p:cNvPr id="118" name="Прямоугольник 5" descr=""/>
          <p:cNvPicPr/>
          <p:nvPr/>
        </p:nvPicPr>
        <p:blipFill>
          <a:blip r:embed="rId2"/>
          <a:stretch/>
        </p:blipFill>
        <p:spPr>
          <a:xfrm>
            <a:off x="1566720" y="5218200"/>
            <a:ext cx="5937480" cy="1468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оставь пословицу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0" name="Содержимое 2" descr=""/>
          <p:cNvPicPr/>
          <p:nvPr/>
        </p:nvPicPr>
        <p:blipFill>
          <a:blip r:embed="rId1"/>
          <a:stretch/>
        </p:blipFill>
        <p:spPr>
          <a:xfrm>
            <a:off x="298440" y="1847880"/>
            <a:ext cx="8364600" cy="4838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alibri"/>
              </a:rPr>
              <a:t>Хотим  узнать</a:t>
            </a:r>
            <a:endParaRPr b="0" lang="en-US" sz="4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00720" y="1785600"/>
            <a:ext cx="4186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 чём может идти речь в произведении, судя по названию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то значит тайное становится явным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de6c3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Чем закончится рассказ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Рисунок 3" descr="http://www.kmrz.ru/catimg/31/31221.jpg"/>
          <p:cNvPicPr/>
          <p:nvPr/>
        </p:nvPicPr>
        <p:blipFill>
          <a:blip r:embed="rId1"/>
          <a:stretch/>
        </p:blipFill>
        <p:spPr>
          <a:xfrm>
            <a:off x="714240" y="1928880"/>
            <a:ext cx="35006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а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скрываемое от других, известное не все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что неразгаданное, ещё не познанно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крытая причина чего-нибуд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зовите синоним к слову тайна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Секр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Тай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кретный, потайной, скрытый, затаённы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вное?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крытое, откровенно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Словарная  работа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429000" y="857160"/>
            <a:ext cx="55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34b73"/>
                </a:solidFill>
                <a:latin typeface="Calibri"/>
              </a:rPr>
              <a:t>Грановитая пала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мятник архитектуры в Московском Кремле, одно из древнейших гражданских зданий Москв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Грановитой палате на протяжении столетий отмечались многие крупные события в жизни Русского государства, она являлась парадным тронным зало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й принимались иностранные послы, торжественно объявляли наследников русского престола, заседали Земские собор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Рисунок 3" descr="http://dic.academic.ru/pictures/wiki/files/71/Granovitaya_palata_01.JPG"/>
          <p:cNvPicPr/>
          <p:nvPr/>
        </p:nvPicPr>
        <p:blipFill>
          <a:blip r:embed="rId1"/>
          <a:stretch/>
        </p:blipFill>
        <p:spPr>
          <a:xfrm>
            <a:off x="214200" y="1071720"/>
            <a:ext cx="314352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8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8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8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713880"/>
            <a:ext cx="85010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Интеллигентны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Человек, обладающий большой внутренней культур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очащая информация или распространение заведомо ложных сведений, порочащих честь и достоинство другого лица или подрывающих его репутацию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Синонимы:</a:t>
            </a:r>
            <a:r>
              <a:rPr b="1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ожь, враньё, выдумка, наговор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52f74"/>
                </a:solidFill>
                <a:latin typeface="Calibri"/>
              </a:rPr>
              <a:t>Язвительный?</a:t>
            </a:r>
            <a:r>
              <a:rPr b="0" lang="en-US" sz="3000" spc="-1" strike="noStrike" u="sng">
                <a:solidFill>
                  <a:srgbClr val="852f74"/>
                </a:solidFill>
                <a:uFillTx/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емящийся досадить, злобно-насмешливы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4:11:27Z</dcterms:created>
  <dc:creator>Admin</dc:creator>
  <dc:description/>
  <dc:language>en-US</dc:language>
  <cp:lastModifiedBy>Sergey</cp:lastModifiedBy>
  <dcterms:modified xsi:type="dcterms:W3CDTF">2013-01-20T13:11:38Z</dcterms:modified>
  <cp:revision>290</cp:revision>
  <dc:subject/>
  <dc:title>Слайд 1</dc:title>
</cp:coreProperties>
</file>