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A78-B847-4D9C-A61D-15AF20AB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3AC9-33CF-4415-B9E4-75640039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B10-8AED-4AFF-A31B-2E27A737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7D5-B659-4CE2-BE0D-DCA5D2B4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99B8-4CEC-4E51-8240-558184DD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866F-9DF4-45FC-96DB-4862E651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9534-C04F-4FBE-9B40-98F468B0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CB54-0AD2-479A-9A8A-715D3E81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CDB7-76BA-4A1D-8CCE-F75972FD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3035-B009-467B-8B9D-6F5E861C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0782-6A5A-4CCB-B000-E4DB6A94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103-336D-4503-BD96-4E97FCEA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C9ED-DE29-4D10-AF43-960B2D4B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6D8E-ED99-4EA7-A567-54ACB63B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8326-BF31-4080-BD0D-9991E2A4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A74C-50FD-4E04-BEEB-4926BE9E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DB76-0DA0-493A-AF2A-D1F47593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037-A854-4B30-94A0-C2D61C4F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DF7-9027-4F83-A43B-ABDBF7F5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E44-ED4C-45A3-A2A2-8FA252BB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381-8245-4919-AAE0-9AED8475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08D-D10A-4323-BA34-D83F49C5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C4B-00F2-46B4-899E-C1B85964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015-D69C-4F4A-B453-09A08C45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5C6B-E4E0-4D08-B125-17DD08EEDCFE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1E54-129F-4CB9-A46A-97B3976A2B0D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520" y="1785600"/>
            <a:ext cx="80010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1100"/>
            </a:br>
            <a:br>
              <a:rPr sz="1100"/>
            </a:br>
            <a:br>
              <a:rPr sz="8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«Правда всегда поднимается над ложью, как масло над водой».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Мигель Сервантес</a:t>
            </a:r>
            <a:endParaRPr b="0" lang="en-US" sz="2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120" y="3429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глаз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медлен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лух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с утвердительной интонаци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выразительно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данного высказывания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Работа с тексто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2920" y="1642680"/>
            <a:ext cx="8786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однажды услышал Денис от мамы, и как мама объяснила свои слов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«Тайное становится явным»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ак мама уговаривала Дениску есть кашу? Что она ему предложил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Сходить в Кремль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испытывал Дениска, когда экспериментировал с каш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Чувство обиды, досады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равда ли Дениска «потерял сознание» и поэтому выплеснул кашу на улицу?  Почему автор использует это выраж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Чтение - разведка</a:t>
            </a:r>
            <a:br>
              <a:rPr sz="4500"/>
            </a:b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делал Дениска, чтобы каша была вкуснее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шлёпал ложкой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олил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ыпал сахар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олил кипятк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ылил в кашу всю баночку хре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Выборочное чте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4200" y="1935000"/>
            <a:ext cx="8715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Как выглядел дяденька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 какой примете Денис понял, что мама очень рассердилась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Практическая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5840" y="1643040"/>
            <a:ext cx="8400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пределите последовательность происходящих в тексте действий, расставив их по поряд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Овал 7"/>
          <p:cNvSpPr/>
          <p:nvPr/>
        </p:nvSpPr>
        <p:spPr>
          <a:xfrm>
            <a:off x="1000080" y="592920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1000080" y="335772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286640" y="335772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идеть не могу манную каш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4"/>
          <p:cNvSpPr/>
          <p:nvPr/>
        </p:nvSpPr>
        <p:spPr>
          <a:xfrm>
            <a:off x="1000080" y="400068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0"/>
          <p:cNvSpPr/>
          <p:nvPr/>
        </p:nvSpPr>
        <p:spPr>
          <a:xfrm>
            <a:off x="1236960" y="40006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ы выливаете разную гадость за окн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1000080" y="4643280"/>
            <a:ext cx="561960" cy="50040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1359720" y="4643280"/>
            <a:ext cx="55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это запомнил на всю жизн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6"/>
          <p:cNvSpPr/>
          <p:nvPr/>
        </p:nvSpPr>
        <p:spPr>
          <a:xfrm>
            <a:off x="1000080" y="528624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1369080" y="528624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должен съесть всё до дн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1414440" y="60008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А я остался с кашей наеди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2588760" y="2571840"/>
            <a:ext cx="335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2f74"/>
                </a:solidFill>
                <a:latin typeface="Calibri"/>
              </a:rPr>
              <a:t>Проверь  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Какой фрагмент проиллюстрировал художник? 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00280" y="2285640"/>
            <a:ext cx="4857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тут я вспомнил, что у нас есть хрен. С хреном, кажется, почти всё можно съесть! Я взял и вылил в кашу всю баночку, а когда немножко попробовал, у меня сразу глаза на лоб полезли и остановилось дыхание»…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Рисунок 3" descr="http://festival.1september.ru/files/articles/50/5026/502610/3.jpg"/>
          <p:cNvPicPr/>
          <p:nvPr/>
        </p:nvPicPr>
        <p:blipFill>
          <a:blip r:embed="rId1"/>
          <a:stretch/>
        </p:blipFill>
        <p:spPr>
          <a:xfrm>
            <a:off x="285840" y="2214720"/>
            <a:ext cx="3143160" cy="4143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99680" y="5357520"/>
            <a:ext cx="818676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Я взял тарелку, быстро подбежал к окну и выплеснул кашу на улицу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Рисунок 3" descr="http://www.planetaskazok.ru/images/stories/dragunsky/deniskini_rasskazy/img_20.jpg"/>
          <p:cNvPicPr/>
          <p:nvPr/>
        </p:nvPicPr>
        <p:blipFill>
          <a:blip r:embed="rId1"/>
          <a:stretch/>
        </p:blipFill>
        <p:spPr>
          <a:xfrm>
            <a:off x="2357280" y="1143000"/>
            <a:ext cx="4856400" cy="378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550044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звините, пожалуйста», - сказала она тихо, - разрешите я вас почищу, пройдите сюда»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Рисунок 3" descr="Картинка 56 из 27546"/>
          <p:cNvPicPr/>
          <p:nvPr/>
        </p:nvPicPr>
        <p:blipFill>
          <a:blip r:embed="rId1"/>
          <a:stretch/>
        </p:blipFill>
        <p:spPr>
          <a:xfrm>
            <a:off x="2071800" y="1285920"/>
            <a:ext cx="4857480" cy="3786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28760" y="5285880"/>
            <a:ext cx="82296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к нам вошёл какой-то дяденька. Я как на него взглянул, так сразу понял, что в Кремль я не пойду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Рисунок 3" descr="http://festival.1september.ru/files/articles/51/5145/514503/5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760" y="4786200"/>
            <a:ext cx="8229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Ну ещё бы… Я не знаю ничего красивее Кремля. Я там был в Грановитой палате и в Оружейной, стоял возле Царь – пушки и знаю, где сидел Иван Грозный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Рисунок 3" descr="http://www.planetaskazok.ru/images/stories/dragunsky/deniskini_rasskazy/img_23.jpg"/>
          <p:cNvPicPr/>
          <p:nvPr/>
        </p:nvPicPr>
        <p:blipFill>
          <a:blip r:embed="rId1"/>
          <a:stretch/>
        </p:blipFill>
        <p:spPr>
          <a:xfrm>
            <a:off x="2428920" y="928800"/>
            <a:ext cx="485604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есказ рассказ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желанию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исовать иллюстрацию к любому понравившемуся отрыв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Рисунок 3" descr="http://900igr.net/datai/literatura/Oster-Vrednye-sovety/0029-047--Pochemu-sovety-nazyvajutsja-vrednymi.png"/>
          <p:cNvPicPr/>
          <p:nvPr/>
        </p:nvPicPr>
        <p:blipFill>
          <a:blip r:embed="rId1"/>
          <a:stretch/>
        </p:blipFill>
        <p:spPr>
          <a:xfrm>
            <a:off x="5572080" y="378612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авайте   повтори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98" name="Содержимое 2" descr=""/>
          <p:cNvPicPr/>
          <p:nvPr/>
        </p:nvPicPr>
        <p:blipFill>
          <a:blip r:embed="rId1"/>
          <a:stretch/>
        </p:blipFill>
        <p:spPr>
          <a:xfrm>
            <a:off x="420840" y="1420920"/>
            <a:ext cx="8242200" cy="484020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право 8"/>
          <p:cNvSpPr/>
          <p:nvPr/>
        </p:nvSpPr>
        <p:spPr>
          <a:xfrm>
            <a:off x="7715160" y="578628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9" descr="http://cs4308.vkontakte.ru/u36597158/-1/x_47e5a3a9.jpg"/>
          <p:cNvPicPr/>
          <p:nvPr/>
        </p:nvPicPr>
        <p:blipFill>
          <a:blip r:embed="rId2"/>
          <a:stretch/>
        </p:blipFill>
        <p:spPr>
          <a:xfrm>
            <a:off x="642960" y="278604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http://st.kinopoisk.ru/im/poster/8/8/4/kinopoisk.ru-Cheburashka-884874.jpg"/>
          <p:cNvPicPr/>
          <p:nvPr/>
        </p:nvPicPr>
        <p:blipFill>
          <a:blip r:embed="rId3"/>
          <a:stretch/>
        </p:blipFill>
        <p:spPr>
          <a:xfrm>
            <a:off x="6715080" y="2786040"/>
            <a:ext cx="178596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Картинка 1 из 606"/>
          <p:cNvPicPr/>
          <p:nvPr/>
        </p:nvPicPr>
        <p:blipFill>
          <a:blip r:embed="rId4"/>
          <a:stretch/>
        </p:blipFill>
        <p:spPr>
          <a:xfrm>
            <a:off x="3643200" y="3000240"/>
            <a:ext cx="2000520" cy="2071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http://viki.rdf.ru/media/upload/preview/uspenskiy.jpg"/>
          <p:cNvPicPr/>
          <p:nvPr/>
        </p:nvPicPr>
        <p:blipFill>
          <a:blip r:embed="rId1"/>
          <a:stretch/>
        </p:blipFill>
        <p:spPr>
          <a:xfrm>
            <a:off x="3286080" y="785880"/>
            <a:ext cx="2070000" cy="2220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Картинка 56 из 27546"/>
          <p:cNvPicPr/>
          <p:nvPr/>
        </p:nvPicPr>
        <p:blipFill>
          <a:blip r:embed="rId2"/>
          <a:stretch/>
        </p:blipFill>
        <p:spPr>
          <a:xfrm>
            <a:off x="3357720" y="4429080"/>
            <a:ext cx="2071440" cy="2149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kmrz.ru/catimg/38/380163.jpg"/>
          <p:cNvPicPr/>
          <p:nvPr/>
        </p:nvPicPr>
        <p:blipFill>
          <a:blip r:embed="rId3"/>
          <a:stretch/>
        </p:blipFill>
        <p:spPr>
          <a:xfrm>
            <a:off x="642960" y="4429080"/>
            <a:ext cx="1928880" cy="2149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1578205_Budem_znakomy_hud_SHvarcman_L.jpg (224×301)"/>
          <p:cNvPicPr/>
          <p:nvPr/>
        </p:nvPicPr>
        <p:blipFill>
          <a:blip r:embed="rId4"/>
          <a:stretch/>
        </p:blipFill>
        <p:spPr>
          <a:xfrm>
            <a:off x="6215040" y="4429080"/>
            <a:ext cx="2178000" cy="214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big.jpg (220×340)"/>
          <p:cNvPicPr/>
          <p:nvPr/>
        </p:nvPicPr>
        <p:blipFill>
          <a:blip r:embed="rId5"/>
          <a:stretch/>
        </p:blipFill>
        <p:spPr>
          <a:xfrm>
            <a:off x="6215040" y="857160"/>
            <a:ext cx="2143080" cy="2149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e4a3c7a8265f579cb5a593b4e8d.jpg (400×520)"/>
          <p:cNvPicPr/>
          <p:nvPr/>
        </p:nvPicPr>
        <p:blipFill>
          <a:blip r:embed="rId6"/>
          <a:stretch/>
        </p:blipFill>
        <p:spPr>
          <a:xfrm>
            <a:off x="571680" y="857160"/>
            <a:ext cx="2000160" cy="21495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5"/>
          <p:cNvSpPr/>
          <p:nvPr/>
        </p:nvSpPr>
        <p:spPr>
          <a:xfrm>
            <a:off x="1190520" y="378612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Э. Усп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551200" y="37872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alibri"/>
              </a:rPr>
              <a:t>Э. Усп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578700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9"/>
          <p:cNvSpPr/>
          <p:nvPr/>
        </p:nvSpPr>
        <p:spPr>
          <a:xfrm>
            <a:off x="3814920" y="33577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. Ос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0"/>
          <p:cNvSpPr/>
          <p:nvPr/>
        </p:nvSpPr>
        <p:spPr>
          <a:xfrm>
            <a:off x="157212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1"/>
          <p:cNvSpPr/>
          <p:nvPr/>
        </p:nvSpPr>
        <p:spPr>
          <a:xfrm>
            <a:off x="4132080" y="3571920"/>
            <a:ext cx="5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3319560" y="3787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Calibri"/>
              </a:rPr>
              <a:t>И. Токма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07031 -0.11713 E">
                                      <p:cBhvr>
                                        <p:cTn id="5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2599 -0.11551 E">
                                      <p:cBhvr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53143 -0.05463 E">
                                      <p:cBhvr>
                                        <p:cTn id="6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6 1.85185E-006 L -0.53629 0.08194 E">
                                      <p:cBhvr>
                                        <p:cTn id="6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66667E-006 L 0.29931 0.08402 E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1356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Найдите неповторяющиеся буквы и сложите фамилию писателя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6120000" cy="26398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5" descr=""/>
          <p:cNvPicPr/>
          <p:nvPr/>
        </p:nvPicPr>
        <p:blipFill>
          <a:blip r:embed="rId2"/>
          <a:stretch/>
        </p:blipFill>
        <p:spPr>
          <a:xfrm>
            <a:off x="1566720" y="5218200"/>
            <a:ext cx="5937480" cy="1468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оставь пословицу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20" name="Содержимое 2" descr=""/>
          <p:cNvPicPr/>
          <p:nvPr/>
        </p:nvPicPr>
        <p:blipFill>
          <a:blip r:embed="rId1"/>
          <a:stretch/>
        </p:blipFill>
        <p:spPr>
          <a:xfrm>
            <a:off x="298440" y="1847880"/>
            <a:ext cx="8364600" cy="4838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alibri"/>
              </a:rPr>
              <a:t>Хотим  узнать</a:t>
            </a:r>
            <a:endParaRPr b="0" lang="en-US" sz="4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00720" y="1785600"/>
            <a:ext cx="4186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 чём может идти речь в произведении, судя по названию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значит тайное становится явным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ем закончится рассказ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Рисунок 3" descr="http://www.kmrz.ru/catimg/31/31221.jpg"/>
          <p:cNvPicPr/>
          <p:nvPr/>
        </p:nvPicPr>
        <p:blipFill>
          <a:blip r:embed="rId1"/>
          <a:stretch/>
        </p:blipFill>
        <p:spPr>
          <a:xfrm>
            <a:off x="714240" y="1928880"/>
            <a:ext cx="350064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а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скрываемое от других, известное не вс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неразгаданное, ещё не познанно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крытая причина чего-нибуд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азовите синоним к слову тайна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Секре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кретный, потайной, скрытый, затаённы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в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ткрытое, откровенно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ловарная 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429000" y="857160"/>
            <a:ext cx="5500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34b73"/>
                </a:solidFill>
                <a:latin typeface="Calibri"/>
              </a:rPr>
              <a:t>Грановитая пала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мятник архитектуры в Московском Кремле, одно из древнейших гражданских зданий Москв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Грановитой палате на протяжении столетий отмечались многие крупные события в жизни Русского государства, она являлась парадным тронным зал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ей принимались иностранные послы, торжественно объявляли наследников русского престола, заседали Земские собо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Рисунок 3" descr="http://dic.academic.ru/pictures/wiki/files/71/Granovitaya_palata_01.JPG"/>
          <p:cNvPicPr/>
          <p:nvPr/>
        </p:nvPicPr>
        <p:blipFill>
          <a:blip r:embed="rId1"/>
          <a:stretch/>
        </p:blipFill>
        <p:spPr>
          <a:xfrm>
            <a:off x="214200" y="1071720"/>
            <a:ext cx="3143520" cy="442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8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7120" y="713880"/>
            <a:ext cx="85010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Интеллигентный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еловек, обладающий большой внутренней культур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Клевет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рочащая информация или распространение заведомо ложных сведений, порочащих честь и достоинство другого лица или подрывающих его репутацию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Синонимы:</a:t>
            </a:r>
            <a:r>
              <a:rPr b="1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ожь, враньё, выдумка, нагово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звительный?</a:t>
            </a:r>
            <a:r>
              <a:rPr b="0" lang="en-US" sz="3000" spc="-1" strike="noStrike" u="sng">
                <a:solidFill>
                  <a:srgbClr val="852f74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емящийся досадить, злобно-насмешливы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14:11:27Z</dcterms:created>
  <dc:creator>Admin</dc:creator>
  <dc:description/>
  <dc:language>en-US</dc:language>
  <cp:lastModifiedBy>Sergey</cp:lastModifiedBy>
  <dcterms:modified xsi:type="dcterms:W3CDTF">2013-01-20T13:11:38Z</dcterms:modified>
  <cp:revision>290</cp:revision>
  <dc:subject/>
  <dc:title>Слайд 1</dc:title>
</cp:coreProperties>
</file>