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3.gif" ContentType="image/gif"/>
  <Override PartName="/ppt/media/image22.jpeg" ContentType="image/jpeg"/>
  <Override PartName="/ppt/media/image39.png" ContentType="image/png"/>
  <Override PartName="/ppt/media/image13.jpeg" ContentType="image/jpeg"/>
  <Override PartName="/ppt/media/image31.gif" ContentType="image/gif"/>
  <Override PartName="/ppt/media/image44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28.gif" ContentType="image/gif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37.jpeg" ContentType="image/jpeg"/>
  <Override PartName="/ppt/media/image45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43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D82C9-DFFB-40E9-A1DD-77D7896303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8B440-5164-4076-A32B-88F42B8FD5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F7FE1-4CD6-405A-A2B3-97AAC951A1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77E22-15CC-48D5-A26C-4C8AC464C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EF983-BCA5-46A7-8CE0-46823DCCF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FA4AF-5C85-46AD-81C6-76C878F063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27CA7-588D-4509-B7E9-78086A441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84CD-9E5D-4901-ACA0-54AF0A780C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64CBD-5518-408A-AAA5-AF0A0C5A62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CE20D-D865-4988-9F50-A35A7920E0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1CF0F-46C0-494F-9B34-EDFA0A0BE4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4B8E0-E44E-4AF5-9D8B-2A5238F7C6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060C2-6359-440C-B01F-F1D2F10AA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3F612-88CB-4490-A49A-1E90CD968A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A368-7BDC-4CE3-BE51-5D9986D51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29DBC-9132-47A3-9F1B-1A10D5356A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E5A63-881F-4D9D-91A5-423217AD8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71555-D3FB-4EF8-AFC9-401635B89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E670D-C88D-4E0D-A928-1B2AD29AE7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36D91-5D37-4002-A8C3-A73D107593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5DAA-6345-4DF7-9A85-7C405CECC6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CDCAA-A676-4D35-8EA8-CE9E058F09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FB6C7-1549-4477-861A-5334F85CA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CD3C-B9E1-410E-96AE-F5E0EFADB6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DBAD-E450-4237-8AF4-EAEA26C4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3ACA-E304-43F8-89CE-2D4DE17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B2EA-FEE2-48E6-A3F0-3916C3B78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B061-38B0-432A-A844-1383428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21F0-DF13-46C6-9FA0-CDA5174F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B51A-2384-4341-9DF3-6907C0E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D62C-3340-4C67-B93D-E969746D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13B9-A659-4693-AB80-2EBF0C4B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2368-56D9-4177-9933-F9A77D18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0805-0678-4B83-8083-78A4DC55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A568-C9A7-467D-956F-D265158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40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860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7840" indent="-18108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39720" indent="-17928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797C0-9004-4ADA-8ABB-A1F465879646}" type="slidenum">
              <a:rPr b="0" lang="et-E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880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3881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hyperlink" Target="http://smiles.33b.ru/smile.60753.html" TargetMode="External"/><Relationship Id="rId17" Type="http://schemas.openxmlformats.org/officeDocument/2006/relationships/image" Target="../media/image4.gif"/><Relationship Id="rId18" Type="http://schemas.openxmlformats.org/officeDocument/2006/relationships/hyperlink" Target="http://smiles.33b.ru/smile.60753.html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smiles.33b.ru/smile.60753.html" TargetMode="External"/><Relationship Id="rId21" Type="http://schemas.openxmlformats.org/officeDocument/2006/relationships/image" Target="../media/image4.gif"/><Relationship Id="rId22" Type="http://schemas.openxmlformats.org/officeDocument/2006/relationships/hyperlink" Target="http://smiles.33b.ru/smile.60753.html" TargetMode="External"/><Relationship Id="rId23" Type="http://schemas.openxmlformats.org/officeDocument/2006/relationships/image" Target="../media/image4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hyperlink" Target="http://smiles.33b.ru/smile.60753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smiles.rc-mir.com/smile.46009.html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ke.skyper.ru/photoplace/foto.php?id=44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smiles.rc-mir.com/smile.103894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103894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103894.html" TargetMode="External"/><Relationship Id="rId9" Type="http://schemas.openxmlformats.org/officeDocument/2006/relationships/image" Target="../media/image30.gif"/><Relationship Id="rId10" Type="http://schemas.openxmlformats.org/officeDocument/2006/relationships/hyperlink" Target="http://smiles.rc-mir.com/smile.103894.html" TargetMode="External"/><Relationship Id="rId11" Type="http://schemas.openxmlformats.org/officeDocument/2006/relationships/image" Target="../media/image30.gif"/><Relationship Id="rId12" Type="http://schemas.openxmlformats.org/officeDocument/2006/relationships/hyperlink" Target="http://smiles.rc-mir.com/smile.103894.html" TargetMode="External"/><Relationship Id="rId13" Type="http://schemas.openxmlformats.org/officeDocument/2006/relationships/image" Target="../media/image30.gif"/><Relationship Id="rId14" Type="http://schemas.openxmlformats.org/officeDocument/2006/relationships/hyperlink" Target="http://smiles.rc-mir.com/smile.103894.html" TargetMode="External"/><Relationship Id="rId15" Type="http://schemas.openxmlformats.org/officeDocument/2006/relationships/image" Target="../media/image30.gif"/><Relationship Id="rId16" Type="http://schemas.openxmlformats.org/officeDocument/2006/relationships/hyperlink" Target="http://smiles.rc-mir.com/smile.103894.html" TargetMode="External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smiles.33b.ru/smile.103887.html" TargetMode="Externa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32000" y="4724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t-EE" sz="8000" spc="-1" strike="noStrike">
                <a:solidFill>
                  <a:srgbClr val="ffff00"/>
                </a:solidFill>
                <a:latin typeface="Times New Roman"/>
              </a:rPr>
              <a:t>Птицы  зимо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3880" y="64296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4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5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26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27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8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29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2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33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00484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348000" y="1268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4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5120" y="357120"/>
            <a:ext cx="85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ра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1337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9640" y="2205000"/>
            <a:ext cx="4680000" cy="42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4969080" cy="350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732720" y="537372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859280" y="62064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тичка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 невел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ожки и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Хочет сделать шажок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лучается пры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72040" y="4643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5128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18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9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0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4071600" y="98100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4868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220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58944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5500800" y="6146640"/>
            <a:ext cx="52380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0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1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21440" cy="2776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24000" y="3716640"/>
            <a:ext cx="84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Действительно, зима – очень трудное время для птиц, особенно, если она морозная и снежная. Не найти птицам под снегом корма. Голодная птица сильно страдает от холода. Зимой день короткий, а чтобы выжить, не замерзнуть, пищи нужно съесть больше, чем летом. </a:t>
            </a:r>
            <a:r>
              <a:rPr b="1" i="1" lang="et-EE" sz="1600" spc="-1" strike="noStrike">
                <a:solidFill>
                  <a:srgbClr val="0000ff"/>
                </a:solidFill>
                <a:latin typeface="Arial"/>
              </a:rPr>
              <a:t>                             </a:t>
            </a:r>
            <a:r>
              <a:rPr b="0" lang="et-EE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1838160" y="18900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66"/>
                </a:solidFill>
                <a:latin typeface="Times New Roman"/>
              </a:rPr>
              <a:t>Нужно поддержать птиц!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50920" y="76500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 нужно позаботиться о синицах – верных друзьях леса и сада. Не только летом, но и зимой  они целыми днями прыгают с ветки на ветку, ищут щели и трещинки в коре, где  спрятались насекомые. Если же ветки покрылись ледяной корочкой после оттепели или был сильный снегопад, их поиски бесполезны. Нужно поддержать птиц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5148360" y="426096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205160" y="5929200"/>
            <a:ext cx="384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93800" y="549360"/>
            <a:ext cx="233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890720" y="4653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290680" y="60721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еред стайкою син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79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00720" y="692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 опушки в старых ёл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 зари и до з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говор ведут чечё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6680" y="60721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ромко вторят снеги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42960" y="21420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440" y="557208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ёстрый дятел крикнет гром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огнав лесную тиш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075040" y="2142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на вырубках, на лип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зовётся бойкий чи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3</dc:creator>
  <dc:description/>
  <dc:language>en-US</dc:language>
  <cp:lastModifiedBy>Admin</cp:lastModifiedBy>
  <dcterms:modified xsi:type="dcterms:W3CDTF">2013-01-24T17:08:26Z</dcterms:modified>
  <cp:revision>3</cp:revision>
  <dc:subject/>
  <dc:title>Слайд 1</dc:title>
</cp:coreProperties>
</file>