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.png" ContentType="image/png"/>
  <Override PartName="/ppt/media/image3.gif" ContentType="image/gif"/>
  <Override PartName="/ppt/media/image22.jpeg" ContentType="image/jpeg"/>
  <Override PartName="/ppt/media/image39.png" ContentType="image/png"/>
  <Override PartName="/ppt/media/image13.jpeg" ContentType="image/jpeg"/>
  <Override PartName="/ppt/media/image31.gif" ContentType="image/gif"/>
  <Override PartName="/ppt/media/image44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0.gif" ContentType="image/gif"/>
  <Override PartName="/ppt/media/image38.jpeg" ContentType="image/jpeg"/>
  <Override PartName="/ppt/media/image5.gif" ContentType="image/gif"/>
  <Override PartName="/ppt/media/image28.gif" ContentType="image/gif"/>
  <Override PartName="/ppt/media/image35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36.jpeg" ContentType="image/jpeg"/>
  <Override PartName="/ppt/media/image40.png" ContentType="image/png"/>
  <Override PartName="/ppt/media/image9.jpeg" ContentType="image/jpeg"/>
  <Override PartName="/ppt/media/image37.jpeg" ContentType="image/jpeg"/>
  <Override PartName="/ppt/media/image45.gif" ContentType="image/gif"/>
  <Override PartName="/ppt/media/image11.gif" ContentType="image/gif"/>
  <Override PartName="/ppt/media/image2.gif" ContentType="image/gif"/>
  <Override PartName="/ppt/media/image42.jpeg" ContentType="image/jpeg"/>
  <Override PartName="/ppt/media/image43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3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CAD5E-BB7E-4E33-94BD-BD1CAAFBF5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76328-4F52-447F-8D43-FC166D61C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78F71-3847-47BD-A270-6BF23DEF61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1B0C7-811E-4FD6-8F04-A65DFBF99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0C72B-1C28-4073-B2FB-B671601DDF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E543A-1BF1-4924-A942-B3B35FDFC1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A3D94-1435-4139-99D0-78A5924602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6C7A0-4391-4EF9-BD25-35E35887A5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269E0-3EB6-425B-AEEC-9A13D03B86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11AF4-4D07-46BA-BF3B-1BD5924003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BF3F0-AA0E-48D3-892A-71CB1C108C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DC427-6EB7-4AF3-B8C1-67469828C5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035D-D28F-4545-B50B-F4AF256BB3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525A5-4841-42ED-BEEB-805F0F471E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E9A38-FEBB-4C59-8AF7-2BF061AFDA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3D8C-5A1F-43A9-B068-5433C209A6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903A3-B5AF-4D38-8DB8-B86E650CE5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CB287-BA5B-4408-9172-15812A354C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D6DAD-A065-4101-820B-F758A58325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4EFE7-2C72-449E-A5C8-FC69A4F2DC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ED621-504E-4731-B3A0-C044DA12F9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98888-1D97-4E06-BC2D-2D39055DD9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C0B7B-60FD-4852-B7ED-5D168352CD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30E1-D17A-4FEC-ABB2-266D98A841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3AC5-7CB9-49C5-98D7-4BEF281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8C54-C58D-41AA-BEEC-C9FF7B20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25AF-D016-4277-8D84-984A2A5C9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3A40-B440-45BD-8D43-68A80501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9161-9A05-4121-8B14-6306D446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E8FC-9FA4-4612-A7EB-5A62F9D3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F3F47-3928-43CC-980D-31C6CB6E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B3FB-DF29-4067-87F7-58829656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D263-43F2-4FF6-912E-965BF1FD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AD75-D1A0-4A29-A026-73789E5C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DE67-C1CE-4B5C-8E46-21AD772B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40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2860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7840" indent="-18108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39720" indent="-17928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39720" indent="-17928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28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2160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680" y="641628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t-EE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ED709-CEA9-4762-861D-9481A463547A}" type="slidenum">
              <a:rPr b="0" lang="et-EE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miles.33b.ru/smile.103880.html" TargetMode="External"/><Relationship Id="rId3" Type="http://schemas.openxmlformats.org/officeDocument/2006/relationships/image" Target="../media/image2.gif"/><Relationship Id="rId4" Type="http://schemas.openxmlformats.org/officeDocument/2006/relationships/hyperlink" Target="http://smiles.33b.ru/smile.103881.html" TargetMode="External"/><Relationship Id="rId5" Type="http://schemas.openxmlformats.org/officeDocument/2006/relationships/image" Target="../media/image3.gif"/><Relationship Id="rId6" Type="http://schemas.openxmlformats.org/officeDocument/2006/relationships/hyperlink" Target="http://smiles.33b.ru/smile.60753.html" TargetMode="External"/><Relationship Id="rId7" Type="http://schemas.openxmlformats.org/officeDocument/2006/relationships/image" Target="../media/image4.gif"/><Relationship Id="rId8" Type="http://schemas.openxmlformats.org/officeDocument/2006/relationships/hyperlink" Target="http://smiles.33b.ru/smile.60753.html" TargetMode="External"/><Relationship Id="rId9" Type="http://schemas.openxmlformats.org/officeDocument/2006/relationships/image" Target="../media/image4.gif"/><Relationship Id="rId10" Type="http://schemas.openxmlformats.org/officeDocument/2006/relationships/hyperlink" Target="http://smiles.33b.ru/smile.60753.html" TargetMode="External"/><Relationship Id="rId11" Type="http://schemas.openxmlformats.org/officeDocument/2006/relationships/image" Target="../media/image4.gif"/><Relationship Id="rId12" Type="http://schemas.openxmlformats.org/officeDocument/2006/relationships/hyperlink" Target="http://smiles.33b.ru/smile.60753.html" TargetMode="External"/><Relationship Id="rId13" Type="http://schemas.openxmlformats.org/officeDocument/2006/relationships/image" Target="../media/image4.gif"/><Relationship Id="rId14" Type="http://schemas.openxmlformats.org/officeDocument/2006/relationships/hyperlink" Target="http://smiles.33b.ru/smile.60753.html" TargetMode="External"/><Relationship Id="rId15" Type="http://schemas.openxmlformats.org/officeDocument/2006/relationships/image" Target="../media/image4.gif"/><Relationship Id="rId16" Type="http://schemas.openxmlformats.org/officeDocument/2006/relationships/hyperlink" Target="http://smiles.33b.ru/smile.60753.html" TargetMode="External"/><Relationship Id="rId17" Type="http://schemas.openxmlformats.org/officeDocument/2006/relationships/image" Target="../media/image4.gif"/><Relationship Id="rId18" Type="http://schemas.openxmlformats.org/officeDocument/2006/relationships/hyperlink" Target="http://smiles.33b.ru/smile.60753.html" TargetMode="External"/><Relationship Id="rId19" Type="http://schemas.openxmlformats.org/officeDocument/2006/relationships/image" Target="../media/image4.gif"/><Relationship Id="rId20" Type="http://schemas.openxmlformats.org/officeDocument/2006/relationships/hyperlink" Target="http://smiles.33b.ru/smile.60753.html" TargetMode="External"/><Relationship Id="rId21" Type="http://schemas.openxmlformats.org/officeDocument/2006/relationships/image" Target="../media/image4.gif"/><Relationship Id="rId22" Type="http://schemas.openxmlformats.org/officeDocument/2006/relationships/hyperlink" Target="http://smiles.33b.ru/smile.60753.html" TargetMode="External"/><Relationship Id="rId23" Type="http://schemas.openxmlformats.org/officeDocument/2006/relationships/image" Target="../media/image4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hyperlink" Target="http://smiles.33b.ru/smile.60753.html" TargetMode="External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smiles.rc-mir.com/smile.46009.html" TargetMode="External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ke.skyper.ru/photoplace/foto.php?id=44" TargetMode="External"/><Relationship Id="rId3" Type="http://schemas.openxmlformats.org/officeDocument/2006/relationships/image" Target="../media/image29.jpeg"/><Relationship Id="rId4" Type="http://schemas.openxmlformats.org/officeDocument/2006/relationships/hyperlink" Target="http://smiles.rc-mir.com/smile.103894.html" TargetMode="External"/><Relationship Id="rId5" Type="http://schemas.openxmlformats.org/officeDocument/2006/relationships/image" Target="../media/image30.gif"/><Relationship Id="rId6" Type="http://schemas.openxmlformats.org/officeDocument/2006/relationships/hyperlink" Target="http://smiles.rc-mir.com/smile.103894.html" TargetMode="External"/><Relationship Id="rId7" Type="http://schemas.openxmlformats.org/officeDocument/2006/relationships/image" Target="../media/image30.gif"/><Relationship Id="rId8" Type="http://schemas.openxmlformats.org/officeDocument/2006/relationships/hyperlink" Target="http://smiles.rc-mir.com/smile.103894.html" TargetMode="External"/><Relationship Id="rId9" Type="http://schemas.openxmlformats.org/officeDocument/2006/relationships/image" Target="../media/image30.gif"/><Relationship Id="rId10" Type="http://schemas.openxmlformats.org/officeDocument/2006/relationships/hyperlink" Target="http://smiles.rc-mir.com/smile.103894.html" TargetMode="External"/><Relationship Id="rId11" Type="http://schemas.openxmlformats.org/officeDocument/2006/relationships/image" Target="../media/image30.gif"/><Relationship Id="rId12" Type="http://schemas.openxmlformats.org/officeDocument/2006/relationships/hyperlink" Target="http://smiles.rc-mir.com/smile.103894.html" TargetMode="External"/><Relationship Id="rId13" Type="http://schemas.openxmlformats.org/officeDocument/2006/relationships/image" Target="../media/image30.gif"/><Relationship Id="rId14" Type="http://schemas.openxmlformats.org/officeDocument/2006/relationships/hyperlink" Target="http://smiles.rc-mir.com/smile.103894.html" TargetMode="External"/><Relationship Id="rId15" Type="http://schemas.openxmlformats.org/officeDocument/2006/relationships/image" Target="../media/image30.gif"/><Relationship Id="rId16" Type="http://schemas.openxmlformats.org/officeDocument/2006/relationships/hyperlink" Target="http://smiles.rc-mir.com/smile.103894.html" TargetMode="External"/><Relationship Id="rId17" Type="http://schemas.openxmlformats.org/officeDocument/2006/relationships/image" Target="../media/image30.gif"/><Relationship Id="rId18" Type="http://schemas.openxmlformats.org/officeDocument/2006/relationships/image" Target="../media/image31.gif"/><Relationship Id="rId19" Type="http://schemas.openxmlformats.org/officeDocument/2006/relationships/image" Target="../media/image31.gif"/><Relationship Id="rId20" Type="http://schemas.openxmlformats.org/officeDocument/2006/relationships/image" Target="../media/image31.gi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7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8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hyperlink" Target="http://smiles.33b.ru/smile.103887.html" TargetMode="External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332000" y="472428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t-EE" sz="8000" spc="-1" strike="noStrike">
                <a:solidFill>
                  <a:srgbClr val="ffff00"/>
                </a:solidFill>
                <a:latin typeface="Times New Roman"/>
              </a:rPr>
              <a:t>Птицы  зимой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43880" y="64296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357120" y="4429080"/>
            <a:ext cx="1809720" cy="1362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5000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2920" y="24289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929720" y="207180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001000" y="40719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0040" y="607212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000160" y="6324480"/>
            <a:ext cx="571680" cy="53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5357880" y="632448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8429760" y="50007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4"/>
          <a:stretch/>
        </p:blipFill>
        <p:spPr>
          <a:xfrm>
            <a:off x="8143920" y="31431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"/>
          <p:cNvPicPr/>
          <p:nvPr/>
        </p:nvPicPr>
        <p:blipFill>
          <a:blip r:embed="rId25"/>
          <a:stretch/>
        </p:blipFill>
        <p:spPr>
          <a:xfrm>
            <a:off x="3786120" y="60008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26"/>
          <a:stretch/>
        </p:blipFill>
        <p:spPr>
          <a:xfrm>
            <a:off x="7929720" y="1429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27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28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"/>
          <p:cNvPicPr/>
          <p:nvPr/>
        </p:nvPicPr>
        <p:blipFill>
          <a:blip r:embed="rId29"/>
          <a:stretch/>
        </p:blipFill>
        <p:spPr>
          <a:xfrm>
            <a:off x="714240" y="3500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2"/>
          <a:stretch/>
        </p:blipFill>
        <p:spPr>
          <a:xfrm>
            <a:off x="4786200" y="4000680"/>
            <a:ext cx="638280" cy="47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33"/>
          <a:stretch/>
        </p:blipFill>
        <p:spPr>
          <a:xfrm>
            <a:off x="1979640" y="260280"/>
            <a:ext cx="514188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004840" y="4795920"/>
            <a:ext cx="471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б могла ещё так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о лесных сказать певц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редь стужи и мороз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ывел клёст своих птен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571760" y="2142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3348000" y="12682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400" spc="-1" strike="noStrike">
                <a:solidFill>
                  <a:srgbClr val="ffff00"/>
                </a:solidFill>
                <a:latin typeface="Times New Roman"/>
              </a:rPr>
              <a:t>Отгадай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5120" y="357120"/>
            <a:ext cx="852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акие ещё птицы зимуют в наш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кра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2133720"/>
            <a:ext cx="464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ерый, маленьк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меш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ачет рядышк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о м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Я ему насыплю крош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гоню подаль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ш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Ты чирикай вес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Мой хороший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627280" y="60930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4319640" y="2205000"/>
            <a:ext cx="4680000" cy="4213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428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4969080" cy="3502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717720" y="500040"/>
            <a:ext cx="355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ажа чер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ак сметана б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юблю всем в ле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ссказать где бы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732720" y="5373720"/>
            <a:ext cx="143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сор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250920" y="3911760"/>
            <a:ext cx="4249800" cy="2732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4859280" y="62064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тичка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 невели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ожки имее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ходить не ум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Хочет сделать шажок</a:t>
            </a:r>
            <a:r>
              <a:rPr b="1" lang="et-E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лучается прыж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72040" y="46432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00"/>
                </a:solidFill>
                <a:latin typeface="Times New Roman"/>
              </a:rPr>
              <a:t>вор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5905440" cy="551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3851280" y="5973840"/>
            <a:ext cx="12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а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4360" y="5300640"/>
            <a:ext cx="1843200" cy="13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3708360" y="602136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200" spc="-1" strike="noStrike">
                <a:solidFill>
                  <a:srgbClr val="ffff66"/>
                </a:solidFill>
                <a:latin typeface="Times New Roman"/>
              </a:rPr>
              <a:t>голуб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16720" y="40464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356000" y="4437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24000" y="765000"/>
            <a:ext cx="1276560" cy="943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9280" y="566100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116000" y="206064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796000" y="3789360"/>
            <a:ext cx="1276200" cy="94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524720" y="501336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18"/>
          <a:stretch/>
        </p:blipFill>
        <p:spPr>
          <a:xfrm>
            <a:off x="6877080" y="2492280"/>
            <a:ext cx="1276200" cy="9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19"/>
          <a:stretch/>
        </p:blipFill>
        <p:spPr>
          <a:xfrm>
            <a:off x="1763640" y="4508640"/>
            <a:ext cx="1276560" cy="94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20"/>
          <a:stretch/>
        </p:blipFill>
        <p:spPr>
          <a:xfrm>
            <a:off x="4211640" y="549360"/>
            <a:ext cx="127620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1357200" y="142920"/>
            <a:ext cx="6096240" cy="4214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"/>
          <p:cNvSpPr/>
          <p:nvPr/>
        </p:nvSpPr>
        <p:spPr>
          <a:xfrm>
            <a:off x="0" y="4292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тицам трудно приходится зимой. Нередко они голодают. Во время метелей и сильных морозов много птиц погибает от голода . Особенно часто птицы  погибают в конце зимы, когда почти весь корм повсюду съед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2409840" cy="219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4071600" y="981000"/>
            <a:ext cx="4617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окормите птиц зим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усть со всех конц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вам слетятся, как дом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тайки на крыльц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богаты их корм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зерна нуж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орсть одна – и не страш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Будет им з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2597040" cy="374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2990880" cy="318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48360" y="3814920"/>
            <a:ext cx="3670200" cy="2849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4143600" cy="286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3641760" y="836640"/>
            <a:ext cx="518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колько  гибнет их-  не сч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идеть тяж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ведь в нашем сердце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И для птиц теп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4648680" y="620640"/>
            <a:ext cx="40442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ве можно забыв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ть могл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остались зимов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Заодно с люд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риучите птиц в мороз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 своему ок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Чтоб без песе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е приш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м встречать вес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t-EE" sz="3600" spc="-1" strike="noStrike">
                <a:solidFill>
                  <a:srgbClr val="ffffff"/>
                </a:solidFill>
                <a:latin typeface="Times New Roman"/>
              </a:rPr>
              <a:t>А. Яш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600720" cy="291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3"/>
          <a:stretch/>
        </p:blipFill>
        <p:spPr>
          <a:xfrm>
            <a:off x="324000" y="3846600"/>
            <a:ext cx="4248000" cy="266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002200" y="500040"/>
            <a:ext cx="315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Снег на поля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ёд на рек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ьюга гул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огда это быва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6589440" y="2349360"/>
            <a:ext cx="157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4000" spc="-1" strike="noStrike">
                <a:solidFill>
                  <a:srgbClr val="ffff00"/>
                </a:solidFill>
                <a:latin typeface="Times New Roman"/>
              </a:rPr>
              <a:t>зим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072040" y="36432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8358120" y="285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6300720" y="3645000"/>
            <a:ext cx="2643120" cy="3047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5572080" y="4643280"/>
            <a:ext cx="523800" cy="63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8215200" y="2928960"/>
            <a:ext cx="524160" cy="533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5500800" y="6146640"/>
            <a:ext cx="523800" cy="50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7143840" y="314316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9"/>
          <a:stretch/>
        </p:blipFill>
        <p:spPr>
          <a:xfrm>
            <a:off x="8143920" y="1500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0"/>
          <a:stretch/>
        </p:blipFill>
        <p:spPr>
          <a:xfrm>
            <a:off x="5000760" y="535788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11"/>
          <a:stretch/>
        </p:blipFill>
        <p:spPr>
          <a:xfrm>
            <a:off x="250920" y="6922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21440" cy="2776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324000" y="3716640"/>
            <a:ext cx="845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Действительно, зима – очень трудное время для птиц, особенно, если она морозная и снежная. Не найти птицам под снегом корма. Голодная птица сильно страдает от холода. Зимой день короткий, а чтобы выжить, не замерзнуть, пищи нужно съесть больше, чем летом. </a:t>
            </a:r>
            <a:r>
              <a:rPr b="1" i="1" lang="et-EE" sz="1600" spc="-1" strike="noStrike">
                <a:solidFill>
                  <a:srgbClr val="0000ff"/>
                </a:solidFill>
                <a:latin typeface="Arial"/>
              </a:rPr>
              <a:t>                             </a:t>
            </a:r>
            <a:r>
              <a:rPr b="0" lang="et-EE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6496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1838160" y="189000"/>
            <a:ext cx="43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66"/>
                </a:solidFill>
                <a:latin typeface="Times New Roman"/>
              </a:rPr>
              <a:t>Нужно поддержать птиц!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250920" y="765000"/>
            <a:ext cx="87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ервую очередь нужно позаботиться о синицах – верных друзьях леса и сада. Не только летом, но и зимой  они целыми днями прыгают с ветки на ветку, ищут щели и трещинки в коре, где  спрятались насекомые. Если же ветки покрылись ледяной корочкой после оттепели или был сильный снегопад, их поиски бесполезны. Нужно поддержать птиц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5148360" y="4260960"/>
            <a:ext cx="3384360" cy="2597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3743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1357200" y="500040"/>
            <a:ext cx="6286680" cy="3929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4205160" y="5929200"/>
            <a:ext cx="384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493800" y="549360"/>
            <a:ext cx="233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6000" spc="-1" strike="noStrike">
                <a:solidFill>
                  <a:srgbClr val="ffff00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7093080" y="5373720"/>
            <a:ext cx="1590480" cy="1000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890720" y="465300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932040" y="4795920"/>
            <a:ext cx="45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летели птичьи ста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ес в сугробах до ветв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Вот тогда мы и дожд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Наших северных г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6096240" cy="44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572160" y="357192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5"/>
          <a:stretch/>
        </p:blipFill>
        <p:spPr>
          <a:xfrm>
            <a:off x="5500800" y="492912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214200" y="492912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7"/>
          <a:stretch/>
        </p:blipFill>
        <p:spPr>
          <a:xfrm>
            <a:off x="214200" y="5857920"/>
            <a:ext cx="638280" cy="4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861920" y="5143680"/>
            <a:ext cx="484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Кто там ловко и упор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Лазит острым клювом вниз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Это поползень провор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000080" y="214200"/>
            <a:ext cx="7143840" cy="492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290680" y="60721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еред стайкою син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79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00720" y="692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У опушки в старых ёл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 зари и до за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говор ведут чечё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4248000" cy="339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572000" y="3068640"/>
            <a:ext cx="4392720" cy="3660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6680" y="60721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Громко вторят снеги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642960" y="214200"/>
            <a:ext cx="7929720" cy="5786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7199280" cy="5343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1792440" y="5572080"/>
            <a:ext cx="538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Пёстрый дятел крикнет гром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Разогнав лесную тиш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56720" y="189000"/>
            <a:ext cx="1000080" cy="1123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2075040" y="214200"/>
            <a:ext cx="42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А на вырубках, на липа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t-EE" sz="2800" spc="-1" strike="noStrike">
                <a:solidFill>
                  <a:srgbClr val="ffffff"/>
                </a:solidFill>
                <a:latin typeface="Times New Roman"/>
              </a:rPr>
              <a:t>Отзовётся бойкий чи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7000920" cy="50720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3</dc:creator>
  <dc:description/>
  <dc:language>en-US</dc:language>
  <cp:lastModifiedBy>Admin</cp:lastModifiedBy>
  <dcterms:modified xsi:type="dcterms:W3CDTF">2013-01-24T17:08:26Z</dcterms:modified>
  <cp:revision>3</cp:revision>
  <dc:subject/>
  <dc:title>Слайд 1</dc:title>
</cp:coreProperties>
</file>