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3.gif" ContentType="image/gif"/>
  <Override PartName="/ppt/media/image22.jpeg" ContentType="image/jpeg"/>
  <Override PartName="/ppt/media/image39.png" ContentType="image/png"/>
  <Override PartName="/ppt/media/image13.jpeg" ContentType="image/jpeg"/>
  <Override PartName="/ppt/media/image31.gif" ContentType="image/gif"/>
  <Override PartName="/ppt/media/image44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28.gif" ContentType="image/gif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37.jpeg" ContentType="image/jpeg"/>
  <Override PartName="/ppt/media/image45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43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59461-7FF0-4D62-941D-9B64C2A5F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C30D-D3BC-420E-940E-397347893B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D8E9D-73F9-42D1-A453-B1EC3AABC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069DF-AB32-4DF2-8AFD-0179446A8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5E380-149D-4032-9A24-0E9228FC0B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CE530-D043-4E76-946B-8DD1D0FB49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E2CB6-9A31-42DF-8699-C2FF167FA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690B3-A257-4934-8FE5-D242905F7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4FFBD-11FC-478B-ABBE-F15B46B62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DC92B-55C2-4C66-A2D2-424851DA3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5F0F2-C20D-4C19-B4BC-56BC2699BE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93A97-2E3A-4952-9114-10A2C8A869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E132-41E3-430D-A59B-EFA35B288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B3554-B6A5-4B62-BC15-D3FC423D93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B0224-7D8E-4B3B-A18F-5A25663501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347C5-35D7-43BB-84C9-9D89EB811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F456C-37D8-43F2-B641-61C9C572D1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D5D9F-33F8-4969-A714-0D1F31E221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931AE-814F-4169-B435-FB1A0EF53D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01C9B-4FA1-47BE-AD6F-0B0A73E950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33EC3-0FFC-46A7-A6A0-CD2E643FD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ADE9C-C76B-4D12-9DFB-10622544ED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27DE4-288B-4060-B00A-B90DED8DC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6BE9-880A-4AA7-AF29-28849C87A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7AF6-BAB1-420E-BB6A-1E11581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D578-D14C-4B6D-9ED5-660DEE3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2393-E523-45F7-B121-37F3CA4C87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D9E6-061B-4059-9957-9F65D6E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1F24-7ACB-4D56-BBDF-8E88010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A73B-9BA8-47EA-BFA8-7989E8F9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3969-C85E-4D13-B891-39965F55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AED6-FE88-44C2-B772-F969D3DB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E4B7-B51E-4422-97FD-CEE45DFA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DA2D-1F0E-490E-90DE-EDF261D4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EBF4-CB7E-485A-BEA6-20A1B02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40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860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7840" indent="-18108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39720" indent="-17928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AC86D-F74A-4257-8E75-4832F87FA505}" type="slidenum">
              <a:rPr b="0" lang="et-E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880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3881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hyperlink" Target="http://smiles.33b.ru/smile.60753.html" TargetMode="External"/><Relationship Id="rId17" Type="http://schemas.openxmlformats.org/officeDocument/2006/relationships/image" Target="../media/image4.gif"/><Relationship Id="rId18" Type="http://schemas.openxmlformats.org/officeDocument/2006/relationships/hyperlink" Target="http://smiles.33b.ru/smile.60753.html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smiles.33b.ru/smile.60753.html" TargetMode="External"/><Relationship Id="rId21" Type="http://schemas.openxmlformats.org/officeDocument/2006/relationships/image" Target="../media/image4.gif"/><Relationship Id="rId22" Type="http://schemas.openxmlformats.org/officeDocument/2006/relationships/hyperlink" Target="http://smiles.33b.ru/smile.60753.html" TargetMode="External"/><Relationship Id="rId23" Type="http://schemas.openxmlformats.org/officeDocument/2006/relationships/image" Target="../media/image4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hyperlink" Target="http://smiles.33b.ru/smile.60753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smiles.rc-mir.com/smile.46009.html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ke.skyper.ru/photoplace/foto.php?id=44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smiles.rc-mir.com/smile.103894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103894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103894.html" TargetMode="External"/><Relationship Id="rId9" Type="http://schemas.openxmlformats.org/officeDocument/2006/relationships/image" Target="../media/image30.gif"/><Relationship Id="rId10" Type="http://schemas.openxmlformats.org/officeDocument/2006/relationships/hyperlink" Target="http://smiles.rc-mir.com/smile.103894.html" TargetMode="External"/><Relationship Id="rId11" Type="http://schemas.openxmlformats.org/officeDocument/2006/relationships/image" Target="../media/image30.gif"/><Relationship Id="rId12" Type="http://schemas.openxmlformats.org/officeDocument/2006/relationships/hyperlink" Target="http://smiles.rc-mir.com/smile.103894.html" TargetMode="External"/><Relationship Id="rId13" Type="http://schemas.openxmlformats.org/officeDocument/2006/relationships/image" Target="../media/image30.gif"/><Relationship Id="rId14" Type="http://schemas.openxmlformats.org/officeDocument/2006/relationships/hyperlink" Target="http://smiles.rc-mir.com/smile.103894.html" TargetMode="External"/><Relationship Id="rId15" Type="http://schemas.openxmlformats.org/officeDocument/2006/relationships/image" Target="../media/image30.gif"/><Relationship Id="rId16" Type="http://schemas.openxmlformats.org/officeDocument/2006/relationships/hyperlink" Target="http://smiles.rc-mir.com/smile.103894.html" TargetMode="External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smiles.33b.ru/smile.103887.html" TargetMode="Externa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32000" y="4724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t-EE" sz="8000" spc="-1" strike="noStrike">
                <a:solidFill>
                  <a:srgbClr val="ffff00"/>
                </a:solidFill>
                <a:latin typeface="Times New Roman"/>
              </a:rPr>
              <a:t>Птицы  зимо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3880" y="64296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4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5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26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27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8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29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2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33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00484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348000" y="1268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4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5120" y="357120"/>
            <a:ext cx="85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ра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1337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9640" y="2205000"/>
            <a:ext cx="4680000" cy="42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4969080" cy="350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732720" y="537372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859280" y="62064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тичка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 невел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ожки и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Хочет сделать шажок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лучается пры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72040" y="4643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5128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18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9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0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4071600" y="98100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4868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220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58944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5500800" y="6146640"/>
            <a:ext cx="52380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0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1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21440" cy="2776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24000" y="3716640"/>
            <a:ext cx="84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Действительно, зима – очень трудное время для птиц, особенно, если она морозная и снежная. Не найти птицам под снегом корма. Голодная птица сильно страдает от холода. Зимой день короткий, а чтобы выжить, не замерзнуть, пищи нужно съесть больше, чем летом. </a:t>
            </a:r>
            <a:r>
              <a:rPr b="1" i="1" lang="et-EE" sz="1600" spc="-1" strike="noStrike">
                <a:solidFill>
                  <a:srgbClr val="0000ff"/>
                </a:solidFill>
                <a:latin typeface="Arial"/>
              </a:rPr>
              <a:t>                             </a:t>
            </a:r>
            <a:r>
              <a:rPr b="0" lang="et-EE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1838160" y="18900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66"/>
                </a:solidFill>
                <a:latin typeface="Times New Roman"/>
              </a:rPr>
              <a:t>Нужно поддержать птиц!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50920" y="76500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 нужно позаботиться о синицах – верных друзьях леса и сада. Не только летом, но и зимой  они целыми днями прыгают с ветки на ветку, ищут щели и трещинки в коре, где  спрятались насекомые. Если же ветки покрылись ледяной корочкой после оттепели или был сильный снегопад, их поиски бесполезны. Нужно поддержать птиц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5148360" y="426096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205160" y="5929200"/>
            <a:ext cx="384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93800" y="549360"/>
            <a:ext cx="233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890720" y="4653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290680" y="60721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еред стайкою син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79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00720" y="692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 опушки в старых ёл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 зари и до з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говор ведут чечё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6680" y="60721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ромко вторят снеги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42960" y="21420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440" y="557208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ёстрый дятел крикнет гром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огнав лесную тиш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075040" y="2142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на вырубках, на лип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зовётся бойкий чи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3</dc:creator>
  <dc:description/>
  <dc:language>en-US</dc:language>
  <cp:lastModifiedBy>Admin</cp:lastModifiedBy>
  <dcterms:modified xsi:type="dcterms:W3CDTF">2013-01-24T17:08:26Z</dcterms:modified>
  <cp:revision>3</cp:revision>
  <dc:subject/>
  <dc:title>Слайд 1</dc:title>
</cp:coreProperties>
</file>