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36B5-B315-46FA-A487-3A07BF34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AD32-7B5B-4EB9-9F07-88F52967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0EB7-32BC-4A49-88C2-A61FF773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9B9E1-A51E-4995-A832-E577A0A8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1255-F842-4C9D-9E4D-5CF3722C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2A74-42F7-4B33-B8EF-41EAAE2D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707B-5C24-4A7D-AA34-D49E576E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B25A-D57C-4A97-816A-099AB16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B8E2-65CA-46E0-B81B-860159D9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A853-FEA7-41D4-87E4-B6A7F007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C053-3726-43CD-AEF6-20BDFC0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F74D-C0B9-45DB-9854-60E86858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BB4E-0684-4711-AB8B-DCF2883C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3109-7470-4B83-8689-D3C32A6D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8CF6-F2C2-4455-8BD5-F1F837AD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4218-360B-475A-BE06-F577EE95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1424-231B-45B1-8756-F3F7DE84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731E-AA15-4DD5-A85E-3C02BB2E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D790-FDA9-44C5-B08D-B0BCF59A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33E4-75D8-449C-8CCE-1EBF52BE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E1FF-C357-4DB4-8A2C-E18C2121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6A0E-4EA4-4216-B7AD-4701C3AE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A9DC-9DA3-4C8B-A29D-F5589E7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DD4C-9043-443C-9487-8DEB439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63E1-C387-4F9E-80F3-7E3D3A9F01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A191-0B0A-41B2-89E8-3086B07B96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28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360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оставить определение понятию  вита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чение витаминов. На какие процессы влияют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 какие группы можно разделить вита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2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1. Кто первым провел опыты по изучению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. Почему эти вещества были названы витам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сохранить витам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3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. Васка да Гама в 1498 г. потерял 100 из 160 человек команды; из 265 спутников Магеллана свой дом вновь увидели лишь 65. Какая болезнь стала причиной гибели моряк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ередине апреля 1942 г. из-за нехватки витамина началось заболевание бойцов на передовой. Особенно страдали от него разведчики, неспособные не то что ночью, но и в сумерках различить противника на расстоянии двух шагов. Больным было рекомендовано усиленно использовать в пищу крапиву, щавель, лебеду, одуванчики. Какого витамина не хватало больным? Какая болезнь у них бы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який раз, когда Эйкман кормил кур только очищенным рисом, куры заболевали. Когда же он кормил больных кур неочищенным рисом, они выздоравливали. Что именно содержалось в рисовых отрубях, Эйкман так и не узнал. Однако врачи стали лечить людей рисовыми отрубями. О какой болезни идет речь? Что же было целебного в рисовых отрубя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Что необходимо человеку для полного усвоения витам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тамины изготавливают в различных формах выпус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роп для п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аже, табл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ы для инъ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00720" y="4046400"/>
            <a:ext cx="37432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ыток витаминов может быть вред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– поражение печени, судороги, неровное дыхание, способствует отложению солей в сустав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зывает отр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К - вызывает отравление и может привести к чрезмерной свёртываемости кро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Р – вызывает зуд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витамина В и С вреда не причиняет, их излишки выводятся из организма через 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, как много вы узнали о витамин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уйте сами сформулировать опреде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- это органическое  вещество, образующееся в животном организме (включая человека) или поступающее с пищей в очень незначительных количествах, но абсолютно необходимое для нормального обмена веществ и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нтересно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 и С разрушаются при варке и при соприкосновении с металлам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)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итамин С окисляется кислородом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разрушаются при нагре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 К разрушается от солнечного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378760" cy="202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471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болевание, развивающееся при недостатке витам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цесс, на который оказывает влияние витамин «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уппа витаминов, к которым относятся витамины В1, В6,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Заболевание, которое развивается при недостатке витамина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Цитрусовое растение, плоды которого моряки брали в плавание для восполнения витамина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болевание, развивающееся при недостатке витамина В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Заболевание, при котором воспаляются и кровоточат десны, выпадают зубы, снижается устойчивость организма человека к инфекциям и факторам окружающ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иологически активные вещества, в состав молекул которых могут входить вита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90 году голландский врач Эйкман прибыл на о.Ява, где наблюдал страшную болезнь. У больных немели руки и ноги, наступал паралич 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тяжелом заболевании нарушается деятельность сердца, поражаются нервы конечностей, расстраивается походка. У больного будто цепями сковывало ноги. С этим и связано название – «бери-бери», что означает «око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причину болезни помогло случайное наблюдение. Эйкман наблюдал за курами, которых кормили очищенным рисом и у них появились признаки болезни «бери-бери»: судороги сводили им шею и ноги. Многие из них гибли. Когда же кур кормили не очищенным рисом, они выздоравлива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ходилось в рисовых отруб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«Мал золотник, да дор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старину на Руси говорили о незаметном на первый взгляд, но очень важном человеке. Эти слова очень точно отражают суть нашего разговора. А говорить мы будем о витаминах. В настоящее время очень часто можно услышать или увидеть информацию об эти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а как давно человек знаком с витаминами? Оказывается всего лишь 12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нашего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свойства основных витаминов, их биологическую роль и влияние на орга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738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понятие о витаминах, как о биологически активных веще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гиповитаминозе, авитаминозе, гипервитаминоз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роль витаминов для организма человека (в обмене веществ), нормы их потребления и содержания в продуктах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 к изучению биологических вопросов, логическому мышлению, умение анализировать информацию, представлять свои  творческие 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творческое мышление и интеллектуальные способности учащихся обосновывать свою точку зрения, делать выво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ь умения и навыки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понятие о здоровой п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культуру питания и научить применять теоретические знания на практик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ь приоритет отечественной науки в открытии витами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ивать навыки здорового образа жи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онятием «витам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аре Ожегова С.И. дано следующее опреде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Органическое вещество, первоисточником которого обычно служат растения, необходимое для нормальной жизнедеятельности организма, а также препарат, содержащий та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ы- это органические  биологически активные вещества, необходимые для нормальной жизнедеятельности организма, действующие в ничтожно малых колич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открытия витами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итамины широко используются человеком, и мы уже не представляем, что каких-то 127 лет назад общество страдало от страшных заболеваний, связанных с недостатком витаминов в организме, и что самое страшное, не знало, как бороться с этими заболе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изучения витаминов было положено русским врачом Н.И.Луниным и продолжено польским врачом и биохимиком К.Фу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происходило открытие витаминов, мы узнаем, прослушав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2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более 25 витаминов, их обозначают буквами латинского алфавита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B C D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мере их откры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образуют целые группы, например витамины группы В. Для того, чтобы было понятно о каком витамине идет речь внизу справа ставят цифру, например: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3-01-24T15:11:34Z</dcterms:modified>
  <cp:revision>5</cp:revision>
  <dc:subject/>
  <dc:title>PowerPoint Presentation</dc:title>
</cp:coreProperties>
</file>