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3F773-84A3-4F68-9539-D0563D42D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80735-A361-40B5-BE62-AC34E4CC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9C507-5F7C-4003-896A-348583799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171FC-F071-4C83-A854-FD786C644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9E2B-51C2-4E4F-8999-C834E0661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D540-BD96-423F-A049-960A93A4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D636-BB73-4F9C-9851-EFBD38C3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C23A-4780-477E-91D3-AD8F3EC9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393E-8FF6-45C4-AD64-5A58A69A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24F6-DD32-4271-B904-D06A0F24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050B-7D7E-45CC-A387-6F54044D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BFEE1-A287-4970-BD0E-CDC1D6CF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B10F-1D8C-42E5-AC65-15ED4ABE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050A-E1FA-457F-AE72-F1F1A7BD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1DBA-3582-4913-B598-0EB6486D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B81D-C397-4220-9023-4BFEF006B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B10D-185C-4372-A920-7F142182F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CB99E-5D7A-4FA8-BC75-C09144A1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F06C5-BF25-423D-8198-BB4C162F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7F3C6-9358-4062-AC61-EC77CB06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94D0F-517D-4282-AF1F-6F9E4EE7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6ED60-3567-4892-A675-E86EB5B6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9F6F8-E691-4911-96A4-8C65AFCB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ECDEE-4843-4BD5-A3FF-6A01E155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3C91-0595-4D6E-8EEB-CBB8E572DFC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BCA7-4EDE-41E1-B574-9C1046B8F6B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ВИТАМИНЫ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292720" y="3645000"/>
            <a:ext cx="2876400" cy="2952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27003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07552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ассификация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Схема 5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7736040" cy="3886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492360" y="458136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 по карточкам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1 бло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Составить определение понятию  витам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Значение витаминов. На какие процессы влияют витам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На какие группы можно разделить витами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 по карточкам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2 бл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1. Кто первым провел опыты по изучению витами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. Почему эти вещества были названы витамин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Как сохранить витами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 по карточкам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3 бл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. Васка да Гама в 1498 г. потерял 100 из 160 человек команды; из 265 спутников Магеллана свой дом вновь увидели лишь 65. Какая болезнь стала причиной гибели моряков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В середине апреля 1942 г. из-за нехватки витамина началось заболевание бойцов на передовой. Особенно страдали от него разведчики, неспособные не то что ночью, но и в сумерках различить противника на расстоянии двух шагов. Больным было рекомендовано усиленно использовать в пищу крапиву, щавель, лебеду, одуванчики. Какого витамина не хватало больным? Какая болезнь у них был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Всякий раз, когда Эйкман кормил кур только очищенным рисом, куры заболевали. Когда же он кормил больных кур неочищенным рисом, они выздоравливали. Что именно содержалось в рисовых отрубях, Эйкман так и не узнал. Однако врачи стали лечить людей рисовыми отрубями. О какой болезни идет речь? Что же было целебного в рисовых отрубях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Что необходимо человеку для полного усвоения витами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тамины изготавливают в различных формах выпус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роп для пит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раже, табле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створы для инъе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400720" y="4046400"/>
            <a:ext cx="37432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збыток витаминов может быть вреден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А – поражение печени, судороги, неровное дыхание, способствует отложению солей в сустава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вызывает отравл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К - вызывает отравление и может привести к чрезмерной свёртываемости кров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РР – вызывает зуд ко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быток витамина В и С вреда не причиняет, их излишки выводятся из организма через органы вы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т, как много вы узнали о витаминах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пробуйте сами сформулировать определ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1236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507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итамин- это органическое  вещество, образующееся в животном организме (включая человека) или поступающее с пищей в очень незначительных количествах, но абсолютно необходимое для нормального обмена веществ и жизне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Интересно, чт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тамины В и С разрушаются при варке и при соприкосновении с металлами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)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оме того, витамин С окисляется кислородом возд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тамин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е разрушаются при нагрев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тамин К разрушается от солнечного с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ЗАКРЕП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5378760" cy="2022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79280" y="34711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Заболевание, развивающееся при недостатке витамин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Процесс, на который оказывает влияние витамин «А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Группа витаминов, к которым относятся витамины В1, В6,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Заболевание, которое развивается при недостатке витамина 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Цитрусовое растение, плоды которого моряки брали в плавание для восполнения витамина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Заболевание, развивающееся при недостатке витамина В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Заболевание, при котором воспаляются и кровоточат десны, выпадают зубы, снижается устойчивость организма человека к инфекциям и факторам окружающей сред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Биологически активные вещества, в состав молекул которых могут входить витамин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ресный фак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90 году голландский врач Эйкман прибыл на о.Ява, где наблюдал страшную болезнь. У больных немели руки и ноги, наступал паралич конечнос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этом тяжелом заболевании нарушается деятельность сердца, поражаются нервы конечностей, расстраивается походка. У больного будто цепями сковывало ноги. С этим и связано название – «бери-бери», что означает «оков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яснить причину болезни помогло случайное наблюдение. Эйкман наблюдал за курами, которых кормили очищенным рисом и у них появились признаки болезни «бери-бери»: судороги сводили им шею и ноги. Многие из них гибли. Когда же кур кормили не очищенным рисом, они выздоравливали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же находилось в рисовых отрубя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796000" y="4653000"/>
            <a:ext cx="2857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«Мал золотник, да дорог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в старину на Руси говорили о незаметном на первый взгляд, но очень важном человеке. Эти слова очень точно отражают суть нашего разговора. А говорить мы будем о витаминах. В настоящее время очень часто можно услышать или увидеть информацию об этих веществ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вы думаете, а как давно человек знаком с витаминами? Оказывается всего лишь 127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Цель нашего занят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еть свойства основных витаминов, их биологическую роль и влияние на организ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932360" y="3645000"/>
            <a:ext cx="373860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и урок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разовательны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формировать понятие о витаминах, как о биологически активных вещества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формировать у учащихся представление о гиповитаминозе, авитаминозе, гипервитаминоз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крыть роль витаминов для организма человека (в обмене веществ), нормы их потребления и содержания в продуктах пит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вивающи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вать познавательный интерес к изучению биологических вопросов, логическому мышлению, умение анализировать информацию, представлять свои  творческие  рабо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вать творческое мышление и интеллектуальные способности учащихся обосновывать свою точку зрения, делать выводы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ь умения и навыки самостоятельной рабо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рмировать понятие о здоровой пищ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спитательны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спитывать культуру питания и научить применять теоретические знания на практик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зать приоритет отечественной науки в открытии витамин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вивать навыки здорового образа жизн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комство с понятием «витамин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ловаре Ожегова С.И. дано следующее определение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 Органическое вещество, первоисточником которого обычно служат растения, необходимое для нормальной жизнедеятельности организма, а также препарат, содержащий таки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итамины- это органические  биологически активные вещества, необходимые для нормальной жизнедеятельности организма, действующие в ничтожно малых количеств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стория открытия витамин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5327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стоящее время витамины широко используются человеком, и мы уже не представляем, что каких-то 127 лет назад общество страдало от страшных заболеваний, связанных с недостатком витаминов в организме, и что самое страшное, не знало, как бороться с этими заболева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о изучения витаминов было положено русским врачом Н.И.Луниным и продолжено польским врачом и биохимиком К.Фун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же происходило открытие витаминов, мы узнаем, прослушав сообщ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867280" y="1989000"/>
            <a:ext cx="3276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07552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настоящее время известно более 25 витаминов, их обозначают буквами латинского алфавита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B C D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 мере их открыт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которые образуют целые группы, например витамины группы В. Для того, чтобы было понятно о каком витамине идет речь внизу справа ставят цифру, например: В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</cp:lastModifiedBy>
  <dcterms:modified xsi:type="dcterms:W3CDTF">2013-01-24T15:11:34Z</dcterms:modified>
  <cp:revision>5</cp:revision>
  <dc:subject/>
  <dc:title>PowerPoint Presentation</dc:title>
</cp:coreProperties>
</file>