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908810-A1B9-49F5-8A79-EA6C58FD5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6A286B-49D1-422B-ADA4-F9BB572A2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BE3B8F-20C9-41AF-BE44-D9FA17FC4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412150-1EA5-4A62-9F3F-6D09A0381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785A3-7A54-45CB-8E60-F8C5F71B5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FDAB1-DDD9-4A11-84B0-29D36B410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A1944-0F33-4D0A-972C-D308C27DF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308EE-DD59-4F7D-9CD5-311658E89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CF8FE-BDAF-48F4-A98F-03BD9A89D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FE357-6D98-42DB-8CA8-B8798DDCC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2E683-C84A-4740-B550-E1349792D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2368E1-2BAA-44D2-B575-A086794C5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CA6C0-8F6B-4076-A431-46B46A506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61C73-0D75-47A0-BE7A-36EB97169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36946-DA00-4213-8DD0-24EAB8F7E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A1E42-73CD-4F5A-A7D9-820C90706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E6402-7C2E-400C-83EF-F4C22E194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C4BFC2-011B-4661-A07A-61F6042F8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A150EE-5623-4575-9F1D-460B6DDDF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E03765-628B-421E-8A06-F28871D50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A652E9-13D8-4173-8C4E-69AFCC79D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014F2C-F4A8-4EE8-830D-628236CB2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0583A1-AF19-4836-B012-5E76CE272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21A051-B78A-4196-8D76-542FE6A5E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6BFF7-07A4-4A71-8678-F953707E314F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77A7F-2D63-4401-A329-7CAB1F7CBA0C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ffffff"/>
                </a:solidFill>
                <a:latin typeface="Arial"/>
              </a:rPr>
              <a:t>ВИТАМИНЫ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5292720" y="3645000"/>
            <a:ext cx="2876400" cy="29527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250920" y="0"/>
            <a:ext cx="2700360" cy="27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075520" cy="131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лассификация витамин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Схема 5" descr=""/>
          <p:cNvPicPr/>
          <p:nvPr/>
        </p:nvPicPr>
        <p:blipFill>
          <a:blip r:embed="rId1"/>
          <a:stretch/>
        </p:blipFill>
        <p:spPr>
          <a:xfrm>
            <a:off x="539640" y="1052640"/>
            <a:ext cx="7736040" cy="38862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3492360" y="4581360"/>
            <a:ext cx="194472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Работа по карточкам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1 блок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 Составить определение понятию  витами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Значение витаминов. На какие процессы влияют витами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 На какие группы можно разделить витамин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Работа по карточкам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2 бло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1. Кто первым провел опыты по изучению витамин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 . Почему эти вещества были названы витаминам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 Как сохранить витамин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Работа по карточкам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3 бло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 . Васка да Гама в 1498 г. потерял 100 из 160 человек команды; из 265 спутников Магеллана свой дом вновь увидели лишь 65. Какая болезнь стала причиной гибели моряков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В середине апреля 1942 г. из-за нехватки витамина началось заболевание бойцов на передовой. Особенно страдали от него разведчики, неспособные не то что ночью, но и в сумерках различить противника на расстоянии двух шагов. Больным было рекомендовано усиленно использовать в пищу крапиву, щавель, лебеду, одуванчики. Какого витамина не хватало больным? Какая болезнь у них была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 Всякий раз, когда Эйкман кормил кур только очищенным рисом, куры заболевали. Когда же он кормил больных кур неочищенным рисом, они выздоравливали. Что именно содержалось в рисовых отрубях, Эйкман так и не узнал. Однако врачи стали лечить людей рисовыми отрубями. О какой болезни идет речь? Что же было целебного в рисовых отрубях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Что необходимо человеку для полного усвоения витамин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итамины изготавливают в различных формах выпуск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ироп для пить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Драже, таблет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Растворы для инъекц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5400720" y="4046400"/>
            <a:ext cx="3743280" cy="28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Избыток витаминов может быть вреден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итамин А – поражение печени, судороги, неровное дыхание, способствует отложению солей в суставах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итамин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вызывает отравлени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итамин К - вызывает отравление и может привести к чрезмерной свёртываемости кров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итамин РР – вызывает зуд кож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быток витамина В и С вреда не причиняет, их излишки выводятся из организма через органы выдел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395280" y="1125360"/>
            <a:ext cx="8229600" cy="47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от, как много вы узнали о витаминах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опробуйте сами сформулировать определени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612360" cy="685800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ОПРЕДЕЛЕ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507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Витамин- это органическое  вещество, образующееся в животном организме (включая человека) или поступающее с пищей в очень незначительных количествах, но абсолютно необходимое для нормального обмена веществ и жизнедеятель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Arial"/>
              </a:rPr>
              <a:t>Интересно, что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итамины В и С разрушаются при варке и при соприкосновении с металлами 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и 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).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роме того, витамин С окисляется кислородом воздух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итамины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не разрушаются при нагреван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итамин К разрушается от солнечного све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Arial"/>
              </a:rPr>
              <a:t>ЗАКРЕПЛ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547640" y="1197000"/>
            <a:ext cx="5378760" cy="202248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179280" y="3471120"/>
            <a:ext cx="7848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Заболевание, развивающееся при недостатке витамина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Процесс, на который оказывает влияние витамин «А»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Группа витаминов, к которым относятся витамины В1, В6, С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Заболевание, которое развивается при недостатке витамина 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.Цитрусовое растение, плоды которого моряки брали в плавание для восполнения витамина С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.Заболевание, развивающееся при недостатке витамина В1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.Заболевание, при котором воспаляются и кровоточат десны, выпадают зубы, снижается устойчивость организма человека к инфекциям и факторам окружающей среды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.Биологически активные вещества, в состав молекул которых могут входить витамины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нтересный факт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1890 году голландский врач Эйкман прибыл на о.Ява, где наблюдал страшную болезнь. У больных немели руки и ноги, наступал паралич конечносте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 этом тяжелом заболевании нарушается деятельность сердца, поражаются нервы конечностей, расстраивается походка. У больного будто цепями сковывало ноги. С этим и связано название – «бери-бери», что означает «оковы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яснить причину болезни помогло случайное наблюдение. Эйкман наблюдал за курами, которых кормили очищенным рисом и у них появились признаки болезни «бери-бери»: судороги сводили им шею и ноги. Многие из них гибли. Когда же кур кормили не очищенным рисом, они выздоравливали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то же находилось в рисовых отрубях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796000" y="4653000"/>
            <a:ext cx="285732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6600"/>
                </a:solidFill>
                <a:latin typeface="Arial"/>
              </a:rPr>
              <a:t>«Мал золотник, да дорог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ак в старину на Руси говорили о незаметном на первый взгляд, но очень важном человеке. Эти слова очень точно отражают суть нашего разговора. А говорить мы будем о витаминах. В настоящее время очень часто можно услышать или увидеть информацию об этих вещества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 вы думаете, а как давно человек знаком с витаминами? Оказывается всего лишь 127 л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Цель нашего занятия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ссмотреть свойства основных витаминов, их биологическую роль и влияние на организ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4932360" y="3645000"/>
            <a:ext cx="3738600" cy="29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Задачи урока.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бразовательные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формировать понятие о витаминах, как о биологически активных веществах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формировать у учащихся представление о гиповитаминозе, авитаминозе, гипервитаминозе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аскрыть роль витаминов для организма человека (в обмене веществ), нормы их потребления и содержания в продуктах питания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азвивающие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азвивать познавательный интерес к изучению биологических вопросов, логическому мышлению, умение анализировать информацию, представлять свои  творческие  работы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азвивать творческое мышление и интеллектуальные способности учащихся обосновывать свою точку зрения, делать выводы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азвить умения и навыки самостоятельной работы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формировать понятие о здоровой пищ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оспитательные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оспитывать культуру питания и научить применять теоретические знания на практике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казать приоритет отечественной науки в открытии витаминов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ививать навыки здорового образа жизни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накомство с понятием «витамины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словаре Ожегова С.И. дано следующее определение: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« Органическое вещество, первоисточником которого обычно служат растения, необходимое для нормальной жизнедеятельности организма, а также препарат, содержащий такие веществ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итамины- это органические  биологически активные вещества, необходимые для нормальной жизнедеятельности организма, действующие в ничтожно малых количеств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История открытия витаминов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8000" y="1628640"/>
            <a:ext cx="532764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настоящее время витамины широко используются человеком, и мы уже не представляем, что каких-то 127 лет назад общество страдало от страшных заболеваний, связанных с недостатком витаминов в организме, и что самое страшное, не знало, как бороться с этими заболевания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чало изучения витаминов было положено русским врачом Н.И.Луниным и продолжено польским врачом и биохимиком К.Функ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к же происходило открытие витаминов, мы узнаем, прослушав сообще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5867280" y="1989000"/>
            <a:ext cx="327672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075520" cy="66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8147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В настоящее время известно более 25 витаминов, их обозначают буквами латинского алфавита: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A B C D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по мере их открыти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Некоторые образуют целые группы, например витамины группы В. Для того, чтобы было понятно о каком витамине идет речь внизу справа ставят цифру, например: В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я</cp:lastModifiedBy>
  <dcterms:modified xsi:type="dcterms:W3CDTF">2013-01-24T15:11:34Z</dcterms:modified>
  <cp:revision>5</cp:revision>
  <dc:subject/>
  <dc:title>PowerPoint Presentation</dc:title>
</cp:coreProperties>
</file>