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48EE6-74A9-4BD9-80E8-04FE8E4D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FCCA3-8D5B-4239-B83A-E3EDE107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CF084-D374-4133-B500-F338D054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50ABF-F168-4AFF-A45C-913D8052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6B8A-D559-4492-813D-B2539845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3D5C-E79C-4F3A-A08B-0F0DE0D5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2442-5EBE-4F37-B68E-4F8791D7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7B94-13BC-4C37-967F-F2D4E074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89EA-8C77-4595-8C30-426884BD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44C0-22E0-4020-8C81-855E50E8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B211-C54F-4DD6-AD05-D8C70BD6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DF348-8B20-4C10-9FCB-1E200645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B1CC-87CF-491F-8422-C9F25E05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FE40-88BF-4F82-9D7E-8E99617D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AB84-33BA-4664-8DEB-80AD757E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A259-EA73-42C2-BFF3-598B1712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42BF-456E-4457-9CD8-5C5373CF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F9DD1-3198-471F-AF4D-102FFE18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38092-9B9C-4AC8-B540-B611A117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1EE6E-1EFE-4121-9908-B0F52BEF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512E4-CBE8-4E11-BF54-A99F76F1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2600F-6603-4D42-935D-AD6F53F2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7E765-BF92-4FA5-BADE-3E90B33D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402A3-02FE-465B-9BFF-A28D554B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7716-BAD9-477D-8695-8C7555E2ED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1848-EF4A-429F-8583-E0A875B9F23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ВИТАМИНЫ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92720" y="3645000"/>
            <a:ext cx="2876400" cy="295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27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07552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Схема 5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36040" cy="3886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492360" y="4581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1 бл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Составить определение понятию  вита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Значение витаминов. На какие процессы влияют 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На какие группы можно разделить витам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2 б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1. Кто первым провел опыты по изучению вита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. Почему эти вещества были названы витамин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ак сохранить витам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3 б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. Васка да Гама в 1498 г. потерял 100 из 160 человек команды; из 265 спутников Магеллана свой дом вновь увидели лишь 65. Какая болезнь стала причиной гибели моряко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 середине апреля 1942 г. из-за нехватки витамина началось заболевание бойцов на передовой. Особенно страдали от него разведчики, неспособные не то что ночью, но и в сумерках различить противника на расстоянии двух шагов. Больным было рекомендовано усиленно использовать в пищу крапиву, щавель, лебеду, одуванчики. Какого витамина не хватало больным? Какая болезнь у них был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сякий раз, когда Эйкман кормил кур только очищенным рисом, куры заболевали. Когда же он кормил больных кур неочищенным рисом, они выздоравливали. Что именно содержалось в рисовых отрубях, Эйкман так и не узнал. Однако врачи стали лечить людей рисовыми отрубями. О какой болезни идет речь? Что же было целебного в рисовых отрубях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Что необходимо человеку для полного усвоения витам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тамины изготавливают в различных формах выпус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роп для пит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аже, табле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творы для инъ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400720" y="4046400"/>
            <a:ext cx="37432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збыток витаминов может быть вреде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А – поражение печени, судороги, неровное дыхание, способствует отложению солей в сустав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вызывает отрав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К - вызывает отравление и может привести к чрезмерной свёртываемости кров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РР – вызывает зуд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ыток витамина В и С вреда не причиняет, их излишки выводятся из организма через органы вы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, как много вы узнали о витамина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пробуйте сами сформулировать определ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507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тамин- это органическое  вещество, образующееся в животном организме (включая человека) или поступающее с пищей в очень незначительных количествах, но абсолютно необходимое для нормального обмена веществ и жизне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Интересно, ч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ы В и С разрушаются при варке и при соприкосновении с металлами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)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ме того, витамин С окисляется кислородом возд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 разрушаются при нагре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 К разрушается от солнечного с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ЗАКР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378760" cy="2022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3471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болевание, развивающееся при недостатке витами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Процесс, на который оказывает влияние витамин «А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Группа витаминов, к которым относятся витамины В1, В6,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Заболевание, которое развивается при недостатке витамина 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Цитрусовое растение, плоды которого моряки брали в плавание для восполнения витамина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болевание, развивающееся при недостатке витамина В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Заболевание, при котором воспаляются и кровоточат десны, выпадают зубы, снижается устойчивость организма человека к инфекциям и факторам окружающей сре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Биологически активные вещества, в состав молекул которых могут входить витами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й фак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90 году голландский врач Эйкман прибыл на о.Ява, где наблюдал страшную болезнь. У больных немели руки и ноги, наступал паралич конеч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тяжелом заболевании нарушается деятельность сердца, поражаются нервы конечностей, расстраивается походка. У больного будто цепями сковывало ноги. С этим и связано название – «бери-бери», что означает «оков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снить причину болезни помогло случайное наблюдение. Эйкман наблюдал за курами, которых кормили очищенным рисом и у них появились признаки болезни «бери-бери»: судороги сводили им шею и ноги. Многие из них гибли. Когда же кур кормили не очищенным рисом, они выздоравливал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же находилось в рисовых отруб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96000" y="465300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«Мал золотник, да дорог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 старину на Руси говорили о незаметном на первый взгляд, но очень важном человеке. Эти слова очень точно отражают суть нашего разговора. А говорить мы будем о витаминах. В настоящее время очень часто можно услышать или увидеть информацию об этих веществ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думаете, а как давно человек знаком с витаминами? Оказывается всего лишь 127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Цель нашего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свойства основных витаминов, их биологическую роль и влияние на орган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7386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 урок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ов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формировать понятие о витаминах, как о биологически активных веществ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формировать у учащихся представление о гиповитаминозе, авитаминозе, гипервитаминоз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крыть роль витаминов для организма человека (в обмене веществ), нормы их потребления и содержания в продуктах пит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вающ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вать познавательный интерес к изучению биологических вопросов, логическому мышлению, умение анализировать информацию, представлять свои  творческие  раб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вать творческое мышление и интеллектуальные способности учащихся обосновывать свою точку зрения, делать вывод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ь умения и навыки самостоятельной раб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ировать понятие о здоровой пищ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ывать культуру питания и научить применять теоретические знания на практик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ать приоритет отечественной науки в открытии витамин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вивать навыки здорового образа жизн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комство с понятием «витамин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оваре Ожегова С.И. дано следующее определение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 Органическое вещество, первоисточником которого обычно служат растения, необходимое для нормальной жизнедеятельности организма, а также препарат, содержащий так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ы- это органические  биологически активные вещества, необходимые для нормальной жизнедеятельности организма, действующие в ничтожно малых количе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тория открытия витами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5327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витамины широко используются человеком, и мы уже не представляем, что каких-то 127 лет назад общество страдало от страшных заболеваний, связанных с недостатком витаминов в организме, и что самое страшное, не знало, как бороться с этими заболев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о изучения витаминов было положено русским врачом Н.И.Луниным и продолжено польским врачом и биохимиком К.Фу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же происходило открытие витаминов, мы узнаем, прослушав сооб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867280" y="1989000"/>
            <a:ext cx="327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07552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настоящее время известно более 25 витаминов, их обозначают буквами латинского алфавита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B C D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 мере их открыт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которые образуют целые группы, например витамины группы В. Для того, чтобы было понятно о каком витамине идет речь внизу справа ставят цифру, например: В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3-01-24T15:11:34Z</dcterms:modified>
  <cp:revision>5</cp:revision>
  <dc:subject/>
  <dc:title>PowerPoint Presentation</dc:title>
</cp:coreProperties>
</file>