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68873-CACB-4BEF-8805-EB94D9AD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F8016-5F55-4589-8C85-B808DB97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D35A5-11D3-4DD4-B69E-B1484B84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74C75-E81A-43B2-A884-D2CB5C33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00FD-96AB-4C49-A47A-43B1BBC9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CCEB-FB94-47FA-ADA5-EC84A5F0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C54F-27E0-4871-9F05-764A105F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BC93-1677-4920-A6A9-9A2F3E56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B6CD-6148-4FC8-8AA9-FF236B19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F8FD-75DE-48F1-AAB1-BF3C5F26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7255-F60F-4C7A-85E0-F35609D1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A5FA5-B18A-4143-9B6B-21856E87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EBE7-EDB6-464B-A637-E41CFF76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6CEF-1A57-4752-AA5D-89CD2408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C081-059F-4860-A380-7FA10D4E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6FB9-EA01-4ECF-A24F-1A09513A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6D6A-0814-46C8-BF3E-DA56FA45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9506E-D02D-46F3-89A2-0D505E9A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13A67-47F6-41DB-8796-E1957B41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017F7-F880-4607-89E4-220B1F8D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17D89-DDC7-4878-A504-08B9C79B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FD0C3-BD1E-4AED-A443-445CAAC4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77E1C-F793-4EBF-8981-2820CF79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437BA-2780-49C6-8C86-50A78E55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9974-7343-45DA-9542-51D2238761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98CA-4A65-422D-8AA3-8060F1E735F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ВИТАМИНЫ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92720" y="3645000"/>
            <a:ext cx="2876400" cy="295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27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07552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сификац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Схема 5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36040" cy="3886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492360" y="4581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по карточка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1 бл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Составить определение понятию  вита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Значение витаминов. На какие процессы влияют витам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На какие группы можно разделить витами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по карточка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2 б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1. Кто первым провел опыты по изучению витам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. Почему эти вещества были названы витамин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ак сохранить витам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по карточка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3 б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. Васка да Гама в 1498 г. потерял 100 из 160 человек команды; из 265 спутников Магеллана свой дом вновь увидели лишь 65. Какая болезнь стала причиной гибели моряков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 середине апреля 1942 г. из-за нехватки витамина началось заболевание бойцов на передовой. Особенно страдали от него разведчики, неспособные не то что ночью, но и в сумерках различить противника на расстоянии двух шагов. Больным было рекомендовано усиленно использовать в пищу крапиву, щавель, лебеду, одуванчики. Какого витамина не хватало больным? Какая болезнь у них был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сякий раз, когда Эйкман кормил кур только очищенным рисом, куры заболевали. Когда же он кормил больных кур неочищенным рисом, они выздоравливали. Что именно содержалось в рисовых отрубях, Эйкман так и не узнал. Однако врачи стали лечить людей рисовыми отрубями. О какой болезни идет речь? Что же было целебного в рисовых отрубях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Что необходимо человеку для полного усвоения витам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тамины изготавливают в различных формах выпус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роп для пит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раже, табле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творы для инъ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400720" y="4046400"/>
            <a:ext cx="37432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збыток витаминов может быть вреде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А – поражение печени, судороги, неровное дыхание, способствует отложению солей в сустав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вызывает отравл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К - вызывает отравление и может привести к чрезмерной свёртываемости кров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РР – вызывает зуд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ыток витамина В и С вреда не причиняет, их излишки выводятся из организма через органы вы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, как много вы узнали о витамина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пробуйте сами сформулировать определ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507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тамин- это органическое  вещество, образующееся в животном организме (включая человека) или поступающее с пищей в очень незначительных количествах, но абсолютно необходимое для нормального обмена веществ и жизне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Интересно, чт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ы В и С разрушаются при варке и при соприкосновении с металлами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)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ме того, витамин С окисляется кислородом возд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 разрушаются при нагрев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 К разрушается от солнечного с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ЗАКРЕ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378760" cy="2022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3471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болевание, развивающееся при недостатке витами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Процесс, на который оказывает влияние витамин «А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Группа витаминов, к которым относятся витамины В1, В6,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Заболевание, которое развивается при недостатке витамина 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Цитрусовое растение, плоды которого моряки брали в плавание для восполнения витамина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болевание, развивающееся при недостатке витамина В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Заболевание, при котором воспаляются и кровоточат десны, выпадают зубы, снижается устойчивость организма человека к инфекциям и факторам окружающей сре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Биологически активные вещества, в состав молекул которых могут входить витами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ый фак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90 году голландский врач Эйкман прибыл на о.Ява, где наблюдал страшную болезнь. У больных немели руки и ноги, наступал паралич конеч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тяжелом заболевании нарушается деятельность сердца, поражаются нервы конечностей, расстраивается походка. У больного будто цепями сковывало ноги. С этим и связано название – «бери-бери», что означает «оков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снить причину болезни помогло случайное наблюдение. Эйкман наблюдал за курами, которых кормили очищенным рисом и у них появились признаки болезни «бери-бери»: судороги сводили им шею и ноги. Многие из них гибли. Когда же кур кормили не очищенным рисом, они выздоравливали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же находилось в рисовых отруб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96000" y="465300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«Мал золотник, да дорог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 старину на Руси говорили о незаметном на первый взгляд, но очень важном человеке. Эти слова очень точно отражают суть нашего разговора. А говорить мы будем о витаминах. В настоящее время очень часто можно услышать или увидеть информацию об этих веществ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ы думаете, а как давно человек знаком с витаминами? Оказывается всего лишь 127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Цель нашего за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свойства основных витаминов, их биологическую роль и влияние на орган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73860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 урок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ов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формировать понятие о витаминах, как о биологически активных веществ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формировать у учащихся представление о гиповитаминозе, авитаминозе, гипервитаминоз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крыть роль витаминов для организма человека (в обмене веществ), нормы их потребления и содержания в продуктах пит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вающ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вать познавательный интерес к изучению биологических вопросов, логическому мышлению, умение анализировать информацию, представлять свои  творческие  рабо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вать творческое мышление и интеллектуальные способности учащихся обосновывать свою точку зрения, делать вывод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ь умения и навыки самостоятельной рабо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ировать понятие о здоровой пищ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ывать культуру питания и научить применять теоретические знания на практик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ать приоритет отечественной науки в открытии витамин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вивать навыки здорового образа жизн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комство с понятием «витамин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ловаре Ожегова С.И. дано следующее определение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 Органическое вещество, первоисточником которого обычно служат растения, необходимое для нормальной жизнедеятельности организма, а также препарат, содержащий так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ы- это органические  биологически активные вещества, необходимые для нормальной жизнедеятельности организма, действующие в ничтожно малых количест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тория открытия витами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5327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витамины широко используются человеком, и мы уже не представляем, что каких-то 127 лет назад общество страдало от страшных заболеваний, связанных с недостатком витаминов в организме, и что самое страшное, не знало, как бороться с этими заболев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о изучения витаминов было положено русским врачом Н.И.Луниным и продолжено польским врачом и биохимиком К.Фу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же происходило открытие витаминов, мы узнаем, прослушав сооб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867280" y="1989000"/>
            <a:ext cx="3276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07552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настоящее время известно более 25 витаминов, их обозначают буквами латинского алфавита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B C D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 мере их открыт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которые образуют целые группы, например витамины группы В. Для того, чтобы было понятно о каком витамине идет речь внизу справа ставят цифру, например: В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3-01-24T15:11:34Z</dcterms:modified>
  <cp:revision>5</cp:revision>
  <dc:subject/>
  <dc:title>PowerPoint Presentation</dc:title>
</cp:coreProperties>
</file>