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2192-7AD1-495F-B6D6-00FBAA16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DCC5-CFFB-476B-8D90-604F49FD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F3B47-22DF-4F39-85AC-83EFA24F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9339-9BD5-4C50-ADE7-D85117F6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D3B5-6EC5-467E-B922-D518AF77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095F-3BC5-4393-9D8C-02A61C39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B5AD-C71C-43B5-992F-CB7F13E0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6CFD1-1B01-4056-A200-ED0E8CD4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F18E7-DF89-41F0-A3B0-763EB9DA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C6D9C-93FB-4CC3-9879-2AFC2AF11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D524-A70B-45AB-91A9-8853D3D0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5475A-6866-4F9A-8589-E0B14D44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237B-04A0-4958-8B1E-C3B67FB5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0D7C-F0E9-4CC6-8E4F-94EFEACE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89A6-E3AD-4F7A-B5AA-B44CACBF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7442-82D6-4263-8A5F-9A7883ED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EF63-FEF5-406E-A9EA-16D1C98C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EB2F-7617-40FA-9D70-F37B8E03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E950-BE6B-42F3-B533-F905CA41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767BE-23D2-4A2C-B3EE-10D1E289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0B8B6-44EE-46DF-A97B-CBD6A1A4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C83A4-E044-4FA6-B102-094F3413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E3179-82D8-4DA9-A56C-F84AA7E0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0954-7B64-420F-9FE9-3731F634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57B9-C804-48F0-830A-70C6A098DC3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F588-0768-4D19-A6E5-697B5E93361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ВИТАМИНЫ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2876400" cy="295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13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ассификация вита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7736040" cy="3886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492360" y="458136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1 блок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Составить определение понятию  вита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Значение витаминов. На какие процессы влияют 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На какие группы можно разделить вита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2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1. Кто первым провел опыты по изучению витам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. Почему эти вещества были названы витамин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ак сохранить витам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 по карточка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3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. Васка да Гама в 1498 г. потерял 100 из 160 человек команды; из 265 спутников Магеллана свой дом вновь увидели лишь 65. Какая болезнь стала причиной гибели моряк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В середине апреля 1942 г. из-за нехватки витамина началось заболевание бойцов на передовой. Особенно страдали от него разведчики, неспособные не то что ночью, но и в сумерках различить противника на расстоянии двух шагов. Больным было рекомендовано усиленно использовать в пищу крапиву, щавель, лебеду, одуванчики. Какого витамина не хватало больным? Какая болезнь у них бы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Всякий раз, когда Эйкман кормил кур только очищенным рисом, куры заболевали. Когда же он кормил больных кур неочищенным рисом, они выздоравливали. Что именно содержалось в рисовых отрубях, Эйкман так и не узнал. Однако врачи стали лечить людей рисовыми отрубями. О какой болезни идет речь? Что же было целебного в рисовых отрубях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Что необходимо человеку для полного усвоения витам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итамины изготавливают в различных формах выпус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роп для пит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аже, табл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створы для инъе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400720" y="4046400"/>
            <a:ext cx="374328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быток витаминов может быть вреден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– поражение печени, судороги, неровное дыхание, способствует отложению солей в сустав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вызывает отравле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К - вызывает отравление и может привести к чрезмерной свёртываемости кров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РР – вызывает зуд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быток витамина В и С вреда не причиняет, их излишки выводятся из организма через органы вы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, как много вы узнали о витаминах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пробуйте сами сформулировать определ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1236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5075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итамин- это органическое  вещество, образующееся в животном организме (включая человека) или поступающее с пищей в очень незначительных количествах, но абсолютно необходимое для нормального обмена веществ и жизне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Интересно, чт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В и С разрушаются при варке и при соприкосновении с металлами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)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ме того, витамин С окисляется кислородом возду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разрушаются при нагрев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тамин К разрушается от солнечного све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КРЕП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378760" cy="2022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3471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Заболевание, развивающееся при недостатке витам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Процесс, на который оказывает влияние витамин «А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Группа витаминов, к которым относятся витамины В1, В6,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Заболевание, которое развивается при недостатке витамина 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Цитрусовое растение, плоды которого моряки брали в плавание для восполнения витамина 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Заболевание, развивающееся при недостатке витамина В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Заболевание, при котором воспаляются и кровоточат десны, выпадают зубы, снижается устойчивость организма человека к инфекциям и факторам окружающ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иологически активные вещества, в состав молекул которых могут входить витами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тересный фак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890 году голландский врач Эйкман прибыл на о.Ява, где наблюдал страшную болезнь. У больных немели руки и ноги, наступал паралич конечнос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этом тяжелом заболевании нарушается деятельность сердца, поражаются нервы конечностей, расстраивается походка. У больного будто цепями сковывало ноги. С этим и связано название – «бери-бери», что означает «око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яснить причину болезни помогло случайное наблюдение. Эйкман наблюдал за курами, которых кормили очищенным рисом и у них появились признаки болезни «бери-бери»: судороги сводили им шею и ноги. Многие из них гибли. Когда же кур кормили не очищенным рисом, они выздоравливал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же находилось в рисовых отрубя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96000" y="465300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6600"/>
                </a:solidFill>
                <a:latin typeface="Arial"/>
              </a:rPr>
              <a:t>«Мал золотник, да дор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 старину на Руси говорили о незаметном на первый взгляд, но очень важном человеке. Эти слова очень точно отражают суть нашего разговора. А говорить мы будем о витаминах. В настоящее время очень часто можно услышать или увидеть информацию об этих веществ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ы думаете, а как давно человек знаком с витаминами? Оказывается всего лишь 127 л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Цель нашего занят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еть свойства основных витаминов, их биологическую роль и влияние на организ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373860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разов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понятие о витаминах, как о биологически активных веществах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формировать у учащихся представление о гиповитаминозе, авитаминозе, гипервитаминоз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крыть роль витаминов для организма человека (в обмене веществ), нормы их потребления и содержания в продуктах пита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вающи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познавательный интерес к изучению биологических вопросов, логическому мышлению, умение анализировать информацию, представлять свои  творческие 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вать творческое мышление и интеллектуальные способности учащихся обосновывать свою точку зрения, делать вывод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ь умения и навыки самостоятельной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ировать понятие о здоровой пищ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спитательны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спитывать культуру питания и научить применять теоретические знания на практик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зать приоритет отечественной науки в открытии витамин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вивать навыки здорового образа жизн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накомство с понятием «витамин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ловаре Ожегова С.И. дано следующее определение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 Органическое вещество, первоисточником которого обычно служат растения, необходимое для нормальной жизнедеятельности организма, а также препарат, содержащий такие вещ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итамины- это органические  биологически активные вещества, необходимые для нормальной жизнедеятельности организма, действующие в ничтожно малых колич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тория открытия витами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53276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витамины широко используются человеком, и мы уже не представляем, что каких-то 127 лет назад общество страдало от страшных заболеваний, связанных с недостатком витаминов в организме, и что самое страшное, не знало, как бороться с этими заболева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о изучения витаминов было положено русским врачом Н.И.Луниным и продолжено польским врачом и биохимиком К.Фун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же происходило открытие витаминов, мы узнаем, прослушав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867280" y="1989000"/>
            <a:ext cx="32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0755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настоящее время известно более 25 витаминов, их обозначают буквами латинского алфавита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B C D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 мере их открыт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екоторые образуют целые группы, например витамины группы В. Для того, чтобы было понятно о каком витамине идет речь внизу справа ставят цифру, например: 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3-01-24T15:11:34Z</dcterms:modified>
  <cp:revision>5</cp:revision>
  <dc:subject/>
  <dc:title>PowerPoint Presentation</dc:title>
</cp:coreProperties>
</file>