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1135-B8B2-4DDA-AB5D-D9168158D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CD749-F983-45D1-83EE-3834BD89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66A3D-4040-4759-AC60-6816A086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A0347-C8B1-4A75-B0AD-791C7581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25815-674C-498D-863B-C5E8CD67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F956-2875-466C-BA0F-3ACB75E4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FCEF-2D65-4512-8867-6AA55BFD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B121-11F3-486A-A529-A663BB24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18A6-C684-40C3-BF4B-09331F34A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421C-7C76-4F60-A352-532A64BE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2EB9-510E-44D9-8715-4A9905A7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AA80C-60AA-4D78-9CFC-8F8E9FC2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51A6-4705-43D2-BB32-48511720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7961-D8A5-4F70-B01C-F51C5C21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2071-E136-4044-99CD-CA9DA9BB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ACF7-57A3-4727-8389-5E3EA301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3250-FBF1-4C60-94C8-C1F51605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9A46F-2BA6-4AC0-B590-B25B30D8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DA8C-CD7A-43A2-AE0F-484F39C8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538A-8986-4F08-9CBC-0F31886A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79376-1125-46AA-BC1C-2E1F2062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637C-2B50-4747-8703-520909D1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8937-0B6B-4F5D-9D09-948CC6600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1E59-B555-49EB-B318-F468ED25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F437-C320-4F1D-BACE-BB8EC16705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D9E6-8663-4879-935F-35C18B8DF05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ВИТАМИН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287640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хема 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3604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 бл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Составить определение понятию  вита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чение витаминов. На какие процессы влияют 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На какие группы можно разделить витам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2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1. Кто первым провел опыты по изучению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. Почему эти вещества были названы витам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 сохранить витам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3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. Васка да Гама в 1498 г. потерял 100 из 160 человек команды; из 265 спутников Магеллана свой дом вновь увидели лишь 65. Какая болезнь стала причиной гибели моряк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середине апреля 1942 г. из-за нехватки витамина началось заболевание бойцов на передовой. Особенно страдали от него разведчики, неспособные не то что ночью, но и в сумерках различить противника на расстоянии двух шагов. Больным было рекомендовано усиленно использовать в пищу крапиву, щавель, лебеду, одуванчики. Какого витамина не хватало больным? Какая болезнь у них бы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який раз, когда Эйкман кормил кур только очищенным рисом, куры заболевали. Когда же он кормил больных кур неочищенным рисом, они выздоравливали. Что именно содержалось в рисовых отрубях, Эйкман так и не узнал. Однако врачи стали лечить людей рисовыми отрубями. О какой болезни идет речь? Что же было целебного в рисовых отрубя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Что необходимо человеку для полного усвоения витам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тамины изготавливают в различных формах выпус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роп для пи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аже, табл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воры для инъ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00720" y="4046400"/>
            <a:ext cx="37432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быток витаминов может быть вред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– поражение печени, судороги, неровное дыхание, способствует отложению солей в сустав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ызывает отр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К - вызывает отравление и может привести к чрезмерной свёртываемости кров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Р – вызывает зуд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витамина В и С вреда не причиняет, их излишки выводятся из организма через органы вы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, как много вы узнали о витамин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обуйте сами сформулировать опреде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тамин- это органическое  вещество, образующееся в животном организме (включая человека) или поступающее с пищей в очень незначительных количествах, но абсолютно необходимое для нормального обмена веществ и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нтересно, ч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В и С разрушаются при варке и при соприкосновении с металлам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)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того, витамин С окисляется кислородом воз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разрушаются при нагре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 К разрушается от солнечного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378760" cy="202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3471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болевание, развивающееся при недостатке витам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Процесс, на который оказывает влияние витамин «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Группа витаминов, к которым относятся витамины В1, В6,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Заболевание, которое развивается при недостатке витамина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Цитрусовое растение, плоды которого моряки брали в плавание для восполнения витамина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болевание, развивающееся при недостатке витамина В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Заболевание, при котором воспаляются и кровоточат десны, выпадают зубы, снижается устойчивость организма человека к инфекциям и факторам окружающей ср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Биологически активные вещества, в состав молекул которых могут входить витам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90 году голландский врач Эйкман прибыл на о.Ява, где наблюдал страшную болезнь. У больных немели руки и ноги, наступал паралич конеч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тяжелом заболевании нарушается деятельность сердца, поражаются нервы конечностей, расстраивается походка. У больного будто цепями сковывало ноги. С этим и связано название – «бери-бери», что означает «оков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 причину болезни помогло случайное наблюдение. Эйкман наблюдал за курами, которых кормили очищенным рисом и у них появились признаки болезни «бери-бери»: судороги сводили им шею и ноги. Многие из них гибли. Когда же кур кормили не очищенным рисом, они выздоравливал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находилось в рисовых отруб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«Мал золотник, да доро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старину на Руси говорили о незаметном на первый взгляд, но очень важном человеке. Эти слова очень точно отражают суть нашего разговора. А говорить мы будем о витаминах. В настоящее время очень часто можно услышать или увидеть информацию об этих вещест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а как давно человек знаком с витаминами? Оказывается всего лишь 12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 нашего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свойства основных витаминов, их биологическую роль и влияние на орган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7386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понятие о витаминах, как о биологически активных веще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у учащихся представление о гиповитаминозе, авитаминозе, гипервитаминоз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крыть роль витаминов для организма человека (в обмене веществ), нормы их потребления и содержания в продуктах п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познавательный интерес к изучению биологических вопросов, логическому мышлению, умение анализировать информацию, представлять свои  творческие 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творческое мышление и интеллектуальные способности учащихся обосновывать свою точку зрения, делать вывод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ь умения и навыки самостоятельной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ть понятие о здоровой пи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ывать культуру питания и научить применять теоретические знания на практик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ь приоритет отечественной науки в открытии витами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ивать навыки здорового образа жизн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понятием «витамин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оваре Ожегова С.И. дано следующее определение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 Органическое вещество, первоисточником которого обычно служат растения, необходимое для нормальной жизнедеятельности организма, а также препарат, содержащий та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ы- это органические  биологически активные вещества, необходимые для нормальной жизнедеятельности организма, действующие в ничтожно малых колич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я открытия витами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5327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витамины широко используются человеком, и мы уже не представляем, что каких-то 127 лет назад общество страдало от страшных заболеваний, связанных с недостатком витаминов в организме, и что самое страшное, не знало, как бороться с этими заболев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изучения витаминов было положено русским врачом Н.И.Луниным и продолжено польским врачом и биохимиком К.Фу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же происходило открытие витаминов, мы узнаем, прослушав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67280" y="1989000"/>
            <a:ext cx="327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настоящее время известно более 25 витаминов, их обозначают буквами латинского алфавита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B C D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мере их откры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образуют целые группы, например витамины группы В. Для того, чтобы было понятно о каком витамине идет речь внизу справа ставят цифру, например: 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3-01-24T15:11:34Z</dcterms:modified>
  <cp:revision>5</cp:revision>
  <dc:subject/>
  <dc:title>PowerPoint Presentation</dc:title>
</cp:coreProperties>
</file>