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21A-D492-4EA8-AFC1-DFA5173E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788-BAAA-4084-8F05-373F8F27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41F-D148-4583-98BB-38FCD4CC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331-8D01-4CCC-AD50-D01C2665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5A2F-D297-4173-B64F-2E1C79D7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FFFC-AA69-479E-A8CE-B7FCE9BC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D881-5ECE-4154-9B64-679CF453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E2CF-0C7C-421D-9441-A9E35310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66F9-B0E6-4898-A776-61034FB2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8F83-F636-4B48-877E-429EA7A5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55AB-400B-4FD9-8024-E31B4F0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DDA-D9D6-4F58-9E7D-0EA6B9D5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CCA4-79A0-4EFF-A6E1-E213074B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1AF6-8225-4CA4-81F2-FD9D26DE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E610-45E6-4DB4-B193-07D2BAA4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310D-A36C-487F-BB04-6EB741F6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1CA1-299A-4C4A-B6C8-2B86D699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B97-B455-4E29-BBC5-9B78E253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11D-C16F-4D3D-A17B-02C31193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6B4D-57B9-4293-9440-3AF49C0C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DD0-EF1F-4AFE-9EB4-6A8CB099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192-16C9-4E8F-AF1D-E7328F72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AF2-5511-4E9B-A7D3-2F281EF8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99F-32E8-4DA7-9432-D81502D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E7C8-4594-4099-9A9E-4AF0C9FAE8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54B6-5D9A-4CED-A77E-51458233CC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2" descr=""/>
          <p:cNvPicPr/>
          <p:nvPr/>
        </p:nvPicPr>
        <p:blipFill>
          <a:blip r:embed="rId1"/>
          <a:stretch/>
        </p:blipFill>
        <p:spPr>
          <a:xfrm>
            <a:off x="1133640" y="1268280"/>
            <a:ext cx="7742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7057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ижний ярус памятника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5715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ые группы содер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109 портретов исторических персона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504960" cy="27352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2" name="Picture 12" descr="down3_3"/>
          <p:cNvPicPr/>
          <p:nvPr/>
        </p:nvPicPr>
        <p:blipFill>
          <a:blip r:embed="rId2"/>
          <a:stretch/>
        </p:blipFill>
        <p:spPr>
          <a:xfrm>
            <a:off x="3352680" y="2517840"/>
            <a:ext cx="2895840" cy="3063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3" name="Picture 13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95480" cy="24796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sp>
        <p:nvSpPr>
          <p:cNvPr id="125" name="TextBox 3"/>
          <p:cNvSpPr/>
          <p:nvPr/>
        </p:nvSpPr>
        <p:spPr>
          <a:xfrm>
            <a:off x="1295280" y="152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3c"/>
                </a:solidFill>
                <a:latin typeface="Arial"/>
              </a:rPr>
              <a:t>Государственный истори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4800600" cy="33685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27" name=""/>
          <p:cNvSpPr txBox="1"/>
          <p:nvPr/>
        </p:nvSpPr>
        <p:spPr>
          <a:xfrm>
            <a:off x="914400" y="304920"/>
            <a:ext cx="4648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Arial"/>
              </a:rPr>
              <a:t>Исторические 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i"/>
          <p:cNvPicPr/>
          <p:nvPr/>
        </p:nvPicPr>
        <p:blipFill>
          <a:blip r:embed="rId2"/>
          <a:stretch/>
        </p:blipFill>
        <p:spPr>
          <a:xfrm>
            <a:off x="6172200" y="914400"/>
            <a:ext cx="2158920" cy="3090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495288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Чему учит история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жизни, предостерегает от ошибок, помогает в сложных ситуациях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быть справедливым и честны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Помогает понять себя самого         и других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Вахрушев А.А, Данилов Д.Д., Сизова Е.В., Тырин С.В. Окружающий мир.  3 класс.  (Мое Отечество). Учебник в 2 частях. – М. .: «Баласс», 2008. – 144 с., ил. (Образовательная система «Школа 2100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Д.Д. Данилов, Л.И. Гребенюк, С.С. Кузнецова, Н.Г. Сафмулина. Мое Отечество. 3 класс (1-4). Методические рекомендации для учителя. – М.: «Баласс», 2002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 novgorod. fio . ru / project 1647 / 19.htm 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Adm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nov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ru/ icons/1000/kolka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6633"/>
                </a:solidFill>
                <a:latin typeface="Times New Roman"/>
              </a:rPr>
              <a:t>Новгородский кремл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Содержимое 3" descr="map_kremlin.jpg"/>
          <p:cNvPicPr/>
          <p:nvPr/>
        </p:nvPicPr>
        <p:blipFill>
          <a:blip r:embed="rId1"/>
          <a:stretch/>
        </p:blipFill>
        <p:spPr>
          <a:xfrm>
            <a:off x="1143000" y="1676520"/>
            <a:ext cx="3505320" cy="483048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7"/>
          <p:cNvCxnSpPr/>
          <p:nvPr/>
        </p:nvCxnSpPr>
        <p:spPr>
          <a:xfrm flipH="1">
            <a:off x="3428280" y="3048120"/>
            <a:ext cx="1981800" cy="915120"/>
          </a:xfrm>
          <a:prstGeom prst="straightConnector1">
            <a:avLst/>
          </a:prstGeom>
          <a:ln w="38160">
            <a:solidFill>
              <a:srgbClr val="666633"/>
            </a:solidFill>
            <a:miter/>
            <a:tailEnd len="med" type="arrow" w="med"/>
          </a:ln>
        </p:spPr>
      </p:cxnSp>
      <p:sp>
        <p:nvSpPr>
          <p:cNvPr id="101" name="TextBox 8"/>
          <p:cNvSpPr/>
          <p:nvPr/>
        </p:nvSpPr>
        <p:spPr>
          <a:xfrm>
            <a:off x="5715000" y="2514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амятник «Тысячелетие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55040" cy="48769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5486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46 лет назад в Новгороде в при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Императора Александра 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состоялось откры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памятника «Тысячелетие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21 сентября 1862 год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90720" y="1712880"/>
            <a:ext cx="3809880" cy="4764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Памятник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«Тысячелетие России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54860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Проект художника Михаила Осиповича Мике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990720" y="255600"/>
            <a:ext cx="3429000" cy="6243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Верхний ярус образует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бронзовый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а нем располо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ая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групп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ангел, держащий кр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лоненная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им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409720" y="5943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Влади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58672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Рюрик в цен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746520" cy="5181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4857840" y="533520"/>
            <a:ext cx="3752640" cy="51051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828800" y="287280"/>
            <a:ext cx="4952880" cy="513864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1080" y="5714640"/>
            <a:ext cx="5029200" cy="114300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Дмитрий Донской попирает н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оверженного</a:t>
            </a: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 татарского  мурзу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romanova"/>
          <p:cNvPicPr/>
          <p:nvPr/>
        </p:nvPicPr>
        <p:blipFill>
          <a:blip r:embed="rId1"/>
          <a:stretch/>
        </p:blipFill>
        <p:spPr>
          <a:xfrm>
            <a:off x="2743200" y="1981080"/>
            <a:ext cx="3733920" cy="40687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ачало династии Романовых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1"/>
          <p:cNvPicPr/>
          <p:nvPr/>
        </p:nvPicPr>
        <p:blipFill>
          <a:blip r:embed="rId1"/>
          <a:stretch/>
        </p:blipFill>
        <p:spPr>
          <a:xfrm>
            <a:off x="2666880" y="1905120"/>
            <a:ext cx="4191120" cy="446220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Петр </a:t>
            </a:r>
            <a:r>
              <a:rPr b="0" lang="en-US" sz="4000" spc="-1" strike="noStrike">
                <a:solidFill>
                  <a:srgbClr val="666633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01-24T18:43:08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