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0796-F3C9-4EA2-B9DB-4A1DA3E3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1A7-CD8D-4A2A-B169-1C12AA0A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9914-7F45-4DC4-9450-BB031797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2DA-F818-4360-94CB-0B1977EE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D464-B066-4191-966A-486F3E2B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F254-B00C-49A6-B14D-64419955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ED0D-6A53-4C6F-A401-C2B2734E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265B-B4B4-4A5A-92A5-0FDD3C4C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595B-92C3-4E99-B1C3-EFBD3248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2982-0127-49EA-A9DA-B3D54125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7444-1FC5-4819-B321-471E1C27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4FF-B2FB-463B-912D-F5D18DD8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0FB8-92EC-4F69-856A-B0874226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B446-5646-4DE4-B462-5899A483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54A8-D325-49D5-A472-AF9EB41D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F071-0E90-43F5-B15B-146B9FC9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7AC8-32AB-4B0C-81CD-99EEBA3F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FF0-346B-4C78-91DC-FDCBD0C0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272-C7C9-4F37-A823-76C88F60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F2F-4376-4A78-AE7E-604558D6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02C8-BB21-4036-9661-08E72A5E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208-F64D-4FFF-8C82-83C11076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B0D-A971-4884-AEFE-53BB2AEE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8DB-BA0F-4BE2-A8C9-FECF1393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D5BD-D381-4B98-ADAB-E2510826323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2857-DD25-43EA-A30C-429F8AA26C6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extBox 2" descr=""/>
          <p:cNvPicPr/>
          <p:nvPr/>
        </p:nvPicPr>
        <p:blipFill>
          <a:blip r:embed="rId1"/>
          <a:stretch/>
        </p:blipFill>
        <p:spPr>
          <a:xfrm>
            <a:off x="1133640" y="1268280"/>
            <a:ext cx="77421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70572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Нижний ярус памятника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680" y="57150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ульптурные группы содерж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109 портретов исторических персонаж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504960" cy="27352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22" name="Picture 12" descr="down3_3"/>
          <p:cNvPicPr/>
          <p:nvPr/>
        </p:nvPicPr>
        <p:blipFill>
          <a:blip r:embed="rId2"/>
          <a:stretch/>
        </p:blipFill>
        <p:spPr>
          <a:xfrm>
            <a:off x="3352680" y="2517840"/>
            <a:ext cx="2895840" cy="30639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23" name="Picture 13" descr=""/>
          <p:cNvPicPr/>
          <p:nvPr/>
        </p:nvPicPr>
        <p:blipFill>
          <a:blip r:embed="rId3"/>
          <a:stretch/>
        </p:blipFill>
        <p:spPr>
          <a:xfrm>
            <a:off x="6019920" y="1295280"/>
            <a:ext cx="2895480" cy="24796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572000"/>
          </a:xfrm>
          <a:prstGeom prst="rect">
            <a:avLst/>
          </a:prstGeom>
          <a:ln w="9360">
            <a:solidFill>
              <a:srgbClr val="666633"/>
            </a:solidFill>
            <a:miter/>
          </a:ln>
        </p:spPr>
      </p:pic>
      <p:sp>
        <p:nvSpPr>
          <p:cNvPr id="125" name="TextBox 3"/>
          <p:cNvSpPr/>
          <p:nvPr/>
        </p:nvSpPr>
        <p:spPr>
          <a:xfrm>
            <a:off x="1295280" y="1522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773c"/>
                </a:solidFill>
                <a:latin typeface="Arial"/>
              </a:rPr>
              <a:t>Государственный исторический му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4800600" cy="33685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27" name=""/>
          <p:cNvSpPr txBox="1"/>
          <p:nvPr/>
        </p:nvSpPr>
        <p:spPr>
          <a:xfrm>
            <a:off x="914400" y="304920"/>
            <a:ext cx="46483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Arial"/>
              </a:rPr>
              <a:t>Исторические источ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i"/>
          <p:cNvPicPr/>
          <p:nvPr/>
        </p:nvPicPr>
        <p:blipFill>
          <a:blip r:embed="rId2"/>
          <a:stretch/>
        </p:blipFill>
        <p:spPr>
          <a:xfrm>
            <a:off x="6172200" y="914400"/>
            <a:ext cx="2158920" cy="30909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495288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6633"/>
                </a:solidFill>
                <a:latin typeface="Times New Roman"/>
              </a:rPr>
              <a:t>Чему учит история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Учит жизни, предостерегает от ошибок, помогает в сложных ситуациях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Учит быть справедливым и честны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Помогает понять себя самого         и других люд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6633"/>
                </a:solidFill>
                <a:latin typeface="Times New Roman"/>
              </a:rPr>
              <a:t>Литера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Вахрушев А.А, Данилов Д.Д., Сизова Е.В., Тырин С.В. Окружающий мир.  3 класс.  (Мое Отечество). Учебник в 2 частях. – М. .: «Баласс», 2008. – 144 с., ил. (Образовательная система «Школа 2100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Д.Д. Данилов, Л.И. Гребенюк, С.С. Кузнецова, Н.Г. Сафмулина. Мое Отечество. 3 класс (1-4). Методические рекомендации для учителя. – М.: «Баласс», 2002. – 96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http:// www. novgorod. fio . ru / project 1647 / 19.htm (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иллюстрация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http:// www.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Adm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nov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ru/ icons/1000/kolka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иллюстр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6633"/>
                </a:solidFill>
                <a:latin typeface="Times New Roman"/>
              </a:rPr>
              <a:t>Новгородский кремл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9" name="Содержимое 3" descr="map_kremlin.jpg"/>
          <p:cNvPicPr/>
          <p:nvPr/>
        </p:nvPicPr>
        <p:blipFill>
          <a:blip r:embed="rId1"/>
          <a:stretch/>
        </p:blipFill>
        <p:spPr>
          <a:xfrm>
            <a:off x="1143000" y="1676520"/>
            <a:ext cx="3505320" cy="4830480"/>
          </a:xfrm>
          <a:prstGeom prst="rect">
            <a:avLst/>
          </a:prstGeom>
          <a:ln w="0">
            <a:noFill/>
          </a:ln>
        </p:spPr>
      </p:pic>
      <p:cxnSp>
        <p:nvCxnSpPr>
          <p:cNvPr id="100" name="Прямая со стрелкой 7"/>
          <p:cNvCxnSpPr/>
          <p:nvPr/>
        </p:nvCxnSpPr>
        <p:spPr>
          <a:xfrm flipH="1">
            <a:off x="3428280" y="3048120"/>
            <a:ext cx="1981800" cy="915120"/>
          </a:xfrm>
          <a:prstGeom prst="straightConnector1">
            <a:avLst/>
          </a:prstGeom>
          <a:ln w="38160">
            <a:solidFill>
              <a:srgbClr val="666633"/>
            </a:solidFill>
            <a:miter/>
            <a:tailEnd len="med" type="arrow" w="med"/>
          </a:ln>
        </p:spPr>
      </p:cxnSp>
      <p:sp>
        <p:nvSpPr>
          <p:cNvPr id="101" name="TextBox 8"/>
          <p:cNvSpPr/>
          <p:nvPr/>
        </p:nvSpPr>
        <p:spPr>
          <a:xfrm>
            <a:off x="5715000" y="2514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Памятник «Тысячелетие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655040" cy="48769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90720" y="5486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46 лет назад в Новгороде в присут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Императора Александра 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 состоялось откры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памятника «Тысячелетие Росс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21 сентября 1862 год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990720" y="1712880"/>
            <a:ext cx="3809880" cy="47642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Памятник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«Тысячелетие России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81480" y="54860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Проект художника Михаила Осиповича Мике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990720" y="255600"/>
            <a:ext cx="3429000" cy="62434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0" y="1752120"/>
            <a:ext cx="41911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Верхний ярус образует 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бронзовый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ш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На нем располож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ульптурная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групп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ангел, держащий кре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лоненная пе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ним женщ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409720" y="5943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Князь Влади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120" y="5867280"/>
            <a:ext cx="35816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Князь Рюрик в цен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746520" cy="51814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12" name="Picture 9" descr=""/>
          <p:cNvPicPr/>
          <p:nvPr/>
        </p:nvPicPr>
        <p:blipFill>
          <a:blip r:embed="rId2"/>
          <a:stretch/>
        </p:blipFill>
        <p:spPr>
          <a:xfrm>
            <a:off x="4857840" y="533520"/>
            <a:ext cx="3752640" cy="51051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828800" y="287280"/>
            <a:ext cx="4952880" cy="513864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81080" y="5714640"/>
            <a:ext cx="5029200" cy="114300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Дмитрий Донской попирает но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поверженного</a:t>
            </a: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 татарского  мурзу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romanova"/>
          <p:cNvPicPr/>
          <p:nvPr/>
        </p:nvPicPr>
        <p:blipFill>
          <a:blip r:embed="rId1"/>
          <a:stretch/>
        </p:blipFill>
        <p:spPr>
          <a:xfrm>
            <a:off x="2743200" y="1981080"/>
            <a:ext cx="3733920" cy="40687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Начало династии Романовых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1"/>
          <p:cNvPicPr/>
          <p:nvPr/>
        </p:nvPicPr>
        <p:blipFill>
          <a:blip r:embed="rId1"/>
          <a:stretch/>
        </p:blipFill>
        <p:spPr>
          <a:xfrm>
            <a:off x="2666880" y="1905120"/>
            <a:ext cx="4191120" cy="446220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Петр </a:t>
            </a:r>
            <a:r>
              <a:rPr b="0" lang="en-US" sz="4000" spc="-1" strike="noStrike">
                <a:solidFill>
                  <a:srgbClr val="666633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3-01-24T18:43:08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