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86B-3144-4C80-9145-DD263714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20CE-E76E-42C3-93E3-B019A769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EA6-2B82-45C4-AEF0-7A249288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86F6-C402-4A4A-A2CF-9826A5F9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85D8-F1E8-4F7A-9804-7F69CF4A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1B0F-9D97-4813-8636-250783DD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71C2-BC9F-4260-A74C-31C21023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E89A-940E-4252-BD2F-4F875BF0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E418-8C81-4080-B5F4-A6508B21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E538-EE6F-439E-85D2-7249502C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9642-5EF6-414F-9AAE-0EFC0E31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18B4-C637-4181-A016-9EE17151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18C6-B35E-48F6-843C-72ADEE1F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E60C-3601-4BA6-B258-EB4DA311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FEE5-BAF4-4AD6-8F17-7EF6C3D7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A2FC-A1B8-4249-B4F4-B601BD85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3356-A7FD-45CB-815C-0533304A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8439-8FAE-4885-B847-5098BDD1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121C-7170-4052-8350-625FB3D3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BB53-3B61-4443-8E30-36799C3B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B6D0-40B1-4AF7-90F4-18E68230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7AC4-E140-4003-A76B-40F35560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2C2A-4B55-45F8-81DD-051DB040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E1A7-D73A-41FA-967C-8A4C50EF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0753-0FD5-461D-9F2B-7E7321E94EE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4E4D-475F-4BAB-869C-79EE89DEFA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extBox 2" descr=""/>
          <p:cNvPicPr/>
          <p:nvPr/>
        </p:nvPicPr>
        <p:blipFill>
          <a:blip r:embed="rId1"/>
          <a:stretch/>
        </p:blipFill>
        <p:spPr>
          <a:xfrm>
            <a:off x="1133640" y="1268280"/>
            <a:ext cx="77421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70572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Нижний ярус памятника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680" y="57150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ульптурные группы содерж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109 портретов исторических персонаж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504960" cy="27352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22" name="Picture 12" descr="down3_3"/>
          <p:cNvPicPr/>
          <p:nvPr/>
        </p:nvPicPr>
        <p:blipFill>
          <a:blip r:embed="rId2"/>
          <a:stretch/>
        </p:blipFill>
        <p:spPr>
          <a:xfrm>
            <a:off x="3352680" y="2517840"/>
            <a:ext cx="2895840" cy="30639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23" name="Picture 13" descr=""/>
          <p:cNvPicPr/>
          <p:nvPr/>
        </p:nvPicPr>
        <p:blipFill>
          <a:blip r:embed="rId3"/>
          <a:stretch/>
        </p:blipFill>
        <p:spPr>
          <a:xfrm>
            <a:off x="6019920" y="1295280"/>
            <a:ext cx="2895480" cy="24796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572000"/>
          </a:xfrm>
          <a:prstGeom prst="rect">
            <a:avLst/>
          </a:prstGeom>
          <a:ln w="9360">
            <a:solidFill>
              <a:srgbClr val="666633"/>
            </a:solidFill>
            <a:miter/>
          </a:ln>
        </p:spPr>
      </p:pic>
      <p:sp>
        <p:nvSpPr>
          <p:cNvPr id="125" name="TextBox 3"/>
          <p:cNvSpPr/>
          <p:nvPr/>
        </p:nvSpPr>
        <p:spPr>
          <a:xfrm>
            <a:off x="1295280" y="1522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773c"/>
                </a:solidFill>
                <a:latin typeface="Arial"/>
              </a:rPr>
              <a:t>Государственный историче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4800600" cy="33685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27" name=""/>
          <p:cNvSpPr txBox="1"/>
          <p:nvPr/>
        </p:nvSpPr>
        <p:spPr>
          <a:xfrm>
            <a:off x="914400" y="304920"/>
            <a:ext cx="46483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Arial"/>
              </a:rPr>
              <a:t>Исторические источ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i"/>
          <p:cNvPicPr/>
          <p:nvPr/>
        </p:nvPicPr>
        <p:blipFill>
          <a:blip r:embed="rId2"/>
          <a:stretch/>
        </p:blipFill>
        <p:spPr>
          <a:xfrm>
            <a:off x="6172200" y="914400"/>
            <a:ext cx="2158920" cy="30909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495288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6633"/>
                </a:solidFill>
                <a:latin typeface="Times New Roman"/>
              </a:rPr>
              <a:t>Чему учит история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Учит жизни, предостерегает от ошибок, помогает в сложных ситуациях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Учит быть справедливым и честны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Помогает понять себя самого         и других лю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6633"/>
                </a:solidFill>
                <a:latin typeface="Times New Roman"/>
              </a:rPr>
              <a:t>Литера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Вахрушев А.А, Данилов Д.Д., Сизова Е.В., Тырин С.В. Окружающий мир.  3 класс.  (Мое Отечество). Учебник в 2 частях. – М. .: «Баласс», 2008. – 144 с., ил. (Образовательная система «Школа 2100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Д.Д. Данилов, Л.И. Гребенюк, С.С. Кузнецова, Н.Г. Сафмулина. Мое Отечество. 3 класс (1-4). Методические рекомендации для учителя. – М.: «Баласс», 2002. – 96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http:// www. novgorod. fio . ru / project 1647 / 19.htm (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иллюстрация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http:// www.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Adm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nov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ru/ icons/1000/kolka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иллюстр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6633"/>
                </a:solidFill>
                <a:latin typeface="Times New Roman"/>
              </a:rPr>
              <a:t>Новгородский кремл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9" name="Содержимое 3" descr="map_kremlin.jpg"/>
          <p:cNvPicPr/>
          <p:nvPr/>
        </p:nvPicPr>
        <p:blipFill>
          <a:blip r:embed="rId1"/>
          <a:stretch/>
        </p:blipFill>
        <p:spPr>
          <a:xfrm>
            <a:off x="1143000" y="1676520"/>
            <a:ext cx="3505320" cy="4830480"/>
          </a:xfrm>
          <a:prstGeom prst="rect">
            <a:avLst/>
          </a:prstGeom>
          <a:ln w="0">
            <a:noFill/>
          </a:ln>
        </p:spPr>
      </p:pic>
      <p:cxnSp>
        <p:nvCxnSpPr>
          <p:cNvPr id="100" name="Прямая со стрелкой 7"/>
          <p:cNvCxnSpPr/>
          <p:nvPr/>
        </p:nvCxnSpPr>
        <p:spPr>
          <a:xfrm flipH="1">
            <a:off x="3428280" y="3048120"/>
            <a:ext cx="1981800" cy="915120"/>
          </a:xfrm>
          <a:prstGeom prst="straightConnector1">
            <a:avLst/>
          </a:prstGeom>
          <a:ln w="38160">
            <a:solidFill>
              <a:srgbClr val="666633"/>
            </a:solidFill>
            <a:miter/>
            <a:tailEnd len="med" type="arrow" w="med"/>
          </a:ln>
        </p:spPr>
      </p:cxnSp>
      <p:sp>
        <p:nvSpPr>
          <p:cNvPr id="101" name="TextBox 8"/>
          <p:cNvSpPr/>
          <p:nvPr/>
        </p:nvSpPr>
        <p:spPr>
          <a:xfrm>
            <a:off x="5715000" y="2514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Памятник «Тысячелетие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55040" cy="48769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90720" y="5486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46 лет назад в Новгороде в прису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Императора Александра 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 состоялось откры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памятника «Тысячелетие Росс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21 сентября 1862 год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990720" y="1712880"/>
            <a:ext cx="3809880" cy="47642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Памятник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«Тысячелетие России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81480" y="54860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Проект художника Михаила Осиповича Мике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990720" y="255600"/>
            <a:ext cx="3429000" cy="62434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Верхний ярус образует 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бронзовый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ш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На нем располож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ульптурная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групп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ангел, держащий кр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лоненная пе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ним женщ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409720" y="5943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Князь Влади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120" y="5867280"/>
            <a:ext cx="35816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Князь Рюрик в цен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746520" cy="51814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12" name="Picture 9" descr=""/>
          <p:cNvPicPr/>
          <p:nvPr/>
        </p:nvPicPr>
        <p:blipFill>
          <a:blip r:embed="rId2"/>
          <a:stretch/>
        </p:blipFill>
        <p:spPr>
          <a:xfrm>
            <a:off x="4857840" y="533520"/>
            <a:ext cx="3752640" cy="51051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828800" y="287280"/>
            <a:ext cx="4952880" cy="513864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81080" y="5714640"/>
            <a:ext cx="5029200" cy="114300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Дмитрий Донской попирает но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поверженного</a:t>
            </a: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 татарского  мурзу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romanova"/>
          <p:cNvPicPr/>
          <p:nvPr/>
        </p:nvPicPr>
        <p:blipFill>
          <a:blip r:embed="rId1"/>
          <a:stretch/>
        </p:blipFill>
        <p:spPr>
          <a:xfrm>
            <a:off x="2743200" y="1981080"/>
            <a:ext cx="3733920" cy="40687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Начало династии Романовых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1"/>
          <p:cNvPicPr/>
          <p:nvPr/>
        </p:nvPicPr>
        <p:blipFill>
          <a:blip r:embed="rId1"/>
          <a:stretch/>
        </p:blipFill>
        <p:spPr>
          <a:xfrm>
            <a:off x="2666880" y="1905120"/>
            <a:ext cx="4191120" cy="446220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Петр </a:t>
            </a:r>
            <a:r>
              <a:rPr b="0" lang="en-US" sz="4000" spc="-1" strike="noStrike">
                <a:solidFill>
                  <a:srgbClr val="666633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3-01-24T18:43:08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