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447-FFF2-41FF-94EC-E7E1DA07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F37-3C65-4B99-8088-F69758B6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61B-6E91-4B29-8A40-9336B3B7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66A-05A8-48EB-AAA8-384FCF37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FB85-2BBE-45E4-A830-F92FB368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9ACE-8A5C-4E66-A6AB-B0775343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2281-B93B-46E5-8FD8-C2A7B499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4835-01D0-4E30-A8FF-06B72C54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510E-8CF5-4F7A-8F92-B76D29DA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72B1-712B-40B2-B82C-E9DBD2FC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FF3F-C05A-47BA-9341-3A5943B4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9C7-ABF0-4B76-8374-039656E9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0AB6-61C3-441C-BB85-FA6FA18B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80CD-38D4-4C8F-B040-C98C8798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FBD6-5471-4398-9E71-997E5C0C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FEF6-5182-42EC-9AA1-8C39BCD3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0CF1-E191-41AC-B1E2-A853740B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903-ECF6-4D45-A1B1-3CDC1088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2C6-FA3D-4F12-8D9B-0543738F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952-E1E2-4166-99B8-5717ACC8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409-7B30-4381-86F6-FE8FE57E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6B2-09AF-4533-883A-900BA061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7B8-E46E-4A97-88E4-1683FDB6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BB1-CE31-43F2-A188-C5CBD9EB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05D2-67F5-416E-AE18-BBA3443300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7214-6275-4426-97F2-024C779070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2" descr=""/>
          <p:cNvPicPr/>
          <p:nvPr/>
        </p:nvPicPr>
        <p:blipFill>
          <a:blip r:embed="rId1"/>
          <a:stretch/>
        </p:blipFill>
        <p:spPr>
          <a:xfrm>
            <a:off x="1133640" y="1268280"/>
            <a:ext cx="7742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7057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ижний ярус памятника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5715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ые группы содер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109 портретов исторических персона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504960" cy="27352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2" name="Picture 12" descr="down3_3"/>
          <p:cNvPicPr/>
          <p:nvPr/>
        </p:nvPicPr>
        <p:blipFill>
          <a:blip r:embed="rId2"/>
          <a:stretch/>
        </p:blipFill>
        <p:spPr>
          <a:xfrm>
            <a:off x="3352680" y="2517840"/>
            <a:ext cx="2895840" cy="3063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3" name="Picture 13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95480" cy="24796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57200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  <p:sp>
        <p:nvSpPr>
          <p:cNvPr id="125" name="TextBox 3"/>
          <p:cNvSpPr/>
          <p:nvPr/>
        </p:nvSpPr>
        <p:spPr>
          <a:xfrm>
            <a:off x="1295280" y="152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3c"/>
                </a:solidFill>
                <a:latin typeface="Arial"/>
              </a:rPr>
              <a:t>Государственный историче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4800600" cy="33685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27" name=""/>
          <p:cNvSpPr txBox="1"/>
          <p:nvPr/>
        </p:nvSpPr>
        <p:spPr>
          <a:xfrm>
            <a:off x="914400" y="304920"/>
            <a:ext cx="4648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Arial"/>
              </a:rPr>
              <a:t>Исторические 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i"/>
          <p:cNvPicPr/>
          <p:nvPr/>
        </p:nvPicPr>
        <p:blipFill>
          <a:blip r:embed="rId2"/>
          <a:stretch/>
        </p:blipFill>
        <p:spPr>
          <a:xfrm>
            <a:off x="6172200" y="914400"/>
            <a:ext cx="2158920" cy="3090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495288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Чему учит история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жизни, предостерегает от ошибок, помогает в сложных ситуациях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быть справедливым и честны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Помогает понять себя самого         и других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Вахрушев А.А, Данилов Д.Д., Сизова Е.В., Тырин С.В. Окружающий мир.  3 класс.  (Мое Отечество). Учебник в 2 частях. – М. .: «Баласс», 2008. – 144 с., ил. (Образовательная система «Школа 2100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Д.Д. Данилов, Л.И. Гребенюк, С.С. Кузнецова, Н.Г. Сафмулина. Мое Отечество. 3 класс (1-4). Методические рекомендации для учителя. – М.: «Баласс», 2002. –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 novgorod. fio . ru / project 1647 / 19.htm 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Adm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nov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ru/ icons/1000/kolka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6633"/>
                </a:solidFill>
                <a:latin typeface="Times New Roman"/>
              </a:rPr>
              <a:t>Новгородский кремл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Содержимое 3" descr="map_kremlin.jpg"/>
          <p:cNvPicPr/>
          <p:nvPr/>
        </p:nvPicPr>
        <p:blipFill>
          <a:blip r:embed="rId1"/>
          <a:stretch/>
        </p:blipFill>
        <p:spPr>
          <a:xfrm>
            <a:off x="1143000" y="1676520"/>
            <a:ext cx="3505320" cy="483048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7"/>
          <p:cNvCxnSpPr/>
          <p:nvPr/>
        </p:nvCxnSpPr>
        <p:spPr>
          <a:xfrm flipH="1">
            <a:off x="3428280" y="3048120"/>
            <a:ext cx="1981800" cy="915120"/>
          </a:xfrm>
          <a:prstGeom prst="straightConnector1">
            <a:avLst/>
          </a:prstGeom>
          <a:ln w="38160">
            <a:solidFill>
              <a:srgbClr val="666633"/>
            </a:solidFill>
            <a:miter/>
            <a:tailEnd len="med" type="arrow" w="med"/>
          </a:ln>
        </p:spPr>
      </p:cxnSp>
      <p:sp>
        <p:nvSpPr>
          <p:cNvPr id="101" name="TextBox 8"/>
          <p:cNvSpPr/>
          <p:nvPr/>
        </p:nvSpPr>
        <p:spPr>
          <a:xfrm>
            <a:off x="5715000" y="2514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амятник «Тысячелетие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55040" cy="48769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720" y="5486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46 лет назад в Новгороде в при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Императора Александра 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состоялось откры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памятника «Тысячелетие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21 сентября 1862 год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90720" y="1712880"/>
            <a:ext cx="3809880" cy="4764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Памятник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«Тысячелетие России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81480" y="54860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Проект художника Михаила Осиповича Мике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990720" y="255600"/>
            <a:ext cx="3429000" cy="6243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Верхний ярус образует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бронзовый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а нем располо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ая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групп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ангел, держащий кр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лоненная 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им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409720" y="5943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Влади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120" y="58672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Рюрик в цен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746520" cy="5181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12" name="Picture 9" descr=""/>
          <p:cNvPicPr/>
          <p:nvPr/>
        </p:nvPicPr>
        <p:blipFill>
          <a:blip r:embed="rId2"/>
          <a:stretch/>
        </p:blipFill>
        <p:spPr>
          <a:xfrm>
            <a:off x="4857840" y="533520"/>
            <a:ext cx="3752640" cy="51051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828800" y="287280"/>
            <a:ext cx="4952880" cy="513864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81080" y="5714640"/>
            <a:ext cx="5029200" cy="114300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Дмитрий Донской попирает н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оверженного</a:t>
            </a: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 татарского  мурзу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romanova"/>
          <p:cNvPicPr/>
          <p:nvPr/>
        </p:nvPicPr>
        <p:blipFill>
          <a:blip r:embed="rId1"/>
          <a:stretch/>
        </p:blipFill>
        <p:spPr>
          <a:xfrm>
            <a:off x="2743200" y="1981080"/>
            <a:ext cx="3733920" cy="40687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ачало династии Романовых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1"/>
          <p:cNvPicPr/>
          <p:nvPr/>
        </p:nvPicPr>
        <p:blipFill>
          <a:blip r:embed="rId1"/>
          <a:stretch/>
        </p:blipFill>
        <p:spPr>
          <a:xfrm>
            <a:off x="2666880" y="1905120"/>
            <a:ext cx="4191120" cy="446220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Петр </a:t>
            </a:r>
            <a:r>
              <a:rPr b="0" lang="en-US" sz="4000" spc="-1" strike="noStrike">
                <a:solidFill>
                  <a:srgbClr val="666633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3-01-24T18:43:08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