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F85-3637-44AF-A4B7-205D84AF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19AF-F881-4522-AAC3-3B952FE5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E47-6317-42E5-B106-C6D6063F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92D-A42C-40A9-A483-6E73DFA4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8BD-C8DA-47E4-B038-4C1DD932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A801-DBDC-4024-A893-ECC76DBD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817-B7D5-40B0-A657-4A62AC60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69F-6BC6-4CE4-A3E4-CEF4D5CF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3D9-C6D0-4631-B0E3-B5CA998A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0AC-1BD2-4198-A487-86564EC8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D77-F1D6-49FF-87C7-C7EE4584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E1B-95A6-4376-B032-568133B2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B222-8680-402F-8E9F-E5A698AF7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5796000" y="1628640"/>
            <a:ext cx="316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Eras Medium ITC"/>
              </a:rPr>
              <a:t>Нет большего счастья, чем жить для люд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2:14:39Z</dcterms:created>
  <dc:creator>1</dc:creator>
  <dc:description/>
  <dc:language>en-US</dc:language>
  <cp:lastModifiedBy>Элеонора</cp:lastModifiedBy>
  <dcterms:modified xsi:type="dcterms:W3CDTF">2013-01-24T14:44:00Z</dcterms:modified>
  <cp:revision>6</cp:revision>
  <dc:subject/>
  <dc:title>Слайд 1</dc:title>
</cp:coreProperties>
</file>