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BCAE-BD30-4227-A005-A9F5EAF8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03C-BA6C-4610-818B-B31D6535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33D-A705-44F1-8970-7781AEB1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E62-E7F5-4B2C-86C0-1B7F4119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A75-D89F-42EB-BD04-726480A0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D85-EC9F-47E8-BA7D-01BCB521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796-A44C-4EDA-A55D-6A884CE9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BFE-54A2-44BA-8A0C-9E275106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728-8E98-42C2-99D7-EA170461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F75-D3EE-4041-9A0F-F73D5BED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BA3-D3F4-443D-B4B1-6A0BC587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8A8-F4F2-4CC2-9753-4ACAF56E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7BA4-CAA8-4491-AB78-27FFD54AEE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5796000" y="1628640"/>
            <a:ext cx="316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Eras Medium ITC"/>
              </a:rPr>
              <a:t>Нет большего счастья, чем жить для люд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2:14:39Z</dcterms:created>
  <dc:creator>1</dc:creator>
  <dc:description/>
  <dc:language>en-US</dc:language>
  <cp:lastModifiedBy>Элеонора</cp:lastModifiedBy>
  <dcterms:modified xsi:type="dcterms:W3CDTF">2013-01-24T14:44:00Z</dcterms:modified>
  <cp:revision>6</cp:revision>
  <dc:subject/>
  <dc:title>Слайд 1</dc:title>
</cp:coreProperties>
</file>