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9130-CBBF-4EB4-A5F9-0430788F5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D09A-E933-4B9F-8941-399C44EC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AAB3-1F99-4D3B-B4D6-A31512EE2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F4B9-9FFD-40A4-B259-481E6C72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8B24-1ED6-4831-8BD5-77654C2F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3AD7-B254-40A6-B606-B8D145CA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763-6058-44B6-BD13-7C10A14C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487-AB62-49C6-A59B-73CFCEB0A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D2BF-C77E-456B-BDED-AA408AB5B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2E5-E3FA-4FB1-91F6-6327ACD3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9065-5A9F-4AE2-8871-C055E8A3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B775-9F0C-49DF-ACC0-D9D0A006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89DFE-3EEE-4770-9996-8CA9CD9BFA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56260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5796000" y="1628640"/>
            <a:ext cx="316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Eras Medium ITC"/>
              </a:rPr>
              <a:t>Нет большего счастья, чем жить для лю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2:14:39Z</dcterms:created>
  <dc:creator>1</dc:creator>
  <dc:description/>
  <dc:language>en-US</dc:language>
  <cp:lastModifiedBy>Элеонора</cp:lastModifiedBy>
  <dcterms:modified xsi:type="dcterms:W3CDTF">2013-01-24T14:44:00Z</dcterms:modified>
  <cp:revision>6</cp:revision>
  <dc:subject/>
  <dc:title>Слайд 1</dc:title>
</cp:coreProperties>
</file>