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9972-8F20-470E-B45E-622FA73CA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9762-E147-490A-9EBD-DE8DBA70B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02C0-6BF1-4423-A521-81214ED53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8EA7-C20A-41E5-BDE1-47CAB6855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88A8-625C-4F70-921F-168A721FE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6798-3E55-4321-AD12-9FDA5A360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D8A1-C1CC-4835-9EDF-02FBF76A0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C866-083A-4A68-B4A9-193B31D1A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96C3-8971-41EA-8E2F-1F1813A71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D6EC-B930-4D01-A7DC-396D1D1E9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9C63-329E-414D-80E9-8ED4640FB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C1C5-D521-4BE8-B989-EF6A3BA47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BA3F6-99F1-4827-B719-17B14F8FC2F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2"/>
          <a:stretch/>
        </p:blipFill>
        <p:spPr>
          <a:xfrm>
            <a:off x="1979640" y="189000"/>
            <a:ext cx="530208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6T12:18:29Z</dcterms:created>
  <dc:creator>1</dc:creator>
  <dc:description/>
  <dc:language>en-US</dc:language>
  <cp:lastModifiedBy>Элеонора</cp:lastModifiedBy>
  <dcterms:modified xsi:type="dcterms:W3CDTF">2013-01-24T14:50:11Z</dcterms:modified>
  <cp:revision>1</cp:revision>
  <dc:subject/>
  <dc:title>Слайд 1</dc:title>
</cp:coreProperties>
</file>