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720-5640-4D68-A9DA-FE7B4E9C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B81-994E-44E1-9EAC-4B198B12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F84-4CAD-4CA2-B0D5-2EA410C2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C47-7E5A-431F-B27A-BBAED242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595-09EB-41DC-914E-8F4AB2D6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EEB-2D15-4E36-BD02-A1420B53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AAD-F1EB-40AF-9309-1E828EB8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CFF-F581-415E-8D2D-E89F399E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BC6-F80A-4A63-9696-14AA9EBE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39C-C266-4307-8218-A7D86CD0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9B5-C0F5-41AE-B1D8-F5A9C8C6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BC3-0C99-4D8C-8A33-1CFA102F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085B-5FFC-485B-8DFB-3345BFFC1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5796000" y="1628640"/>
            <a:ext cx="316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Eras Medium ITC"/>
              </a:rPr>
              <a:t>Нет большего счастья, чем жить для лю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2:14:39Z</dcterms:created>
  <dc:creator>1</dc:creator>
  <dc:description/>
  <dc:language>en-US</dc:language>
  <cp:lastModifiedBy>Элеонора</cp:lastModifiedBy>
  <dcterms:modified xsi:type="dcterms:W3CDTF">2013-01-24T14:44:00Z</dcterms:modified>
  <cp:revision>6</cp:revision>
  <dc:subject/>
  <dc:title>Слайд 1</dc:title>
</cp:coreProperties>
</file>