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3199-37B0-465C-BE7F-30358521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5FC5-660F-4ACD-9726-47E51146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F5D4-72C2-4E57-87D3-BF3DA003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9357-18D9-4819-85BE-F71FBC5F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C7A0-3152-4605-9E78-6758B1D0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5149-CF46-4A37-B62C-534F395B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0C7F-D159-4519-B5CF-13970F20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C4C1-E2CE-4920-A7A1-1B8E3DAE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0114-4BAA-43DD-B891-46ABCD43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6339-D0DE-4444-8B4F-D74F86C6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ADDF-6B9A-4025-A35B-C1B2CB35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4544-0A8C-4CD2-9AA7-5D2CA211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F959-C397-4268-8E03-4814859D2E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626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5796000" y="1628640"/>
            <a:ext cx="316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Eras Medium ITC"/>
              </a:rPr>
              <a:t>Нет большего счастья, чем жить для люд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2:14:39Z</dcterms:created>
  <dc:creator>1</dc:creator>
  <dc:description/>
  <dc:language>en-US</dc:language>
  <cp:lastModifiedBy>Элеонора</cp:lastModifiedBy>
  <dcterms:modified xsi:type="dcterms:W3CDTF">2013-01-24T14:44:00Z</dcterms:modified>
  <cp:revision>6</cp:revision>
  <dc:subject/>
  <dc:title>Слайд 1</dc:title>
</cp:coreProperties>
</file>