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AF86-8814-4DF4-A58A-E1BFAE0EF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AB5D-4365-4890-9FA7-BD1E3CCB3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E316-B146-457B-BB9A-0E333A849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ABFA-8734-4E88-91A0-0D6E2A826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F6341C-A52F-4DBF-B211-5AF1B067E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59CEBC-17DA-49C3-AB92-D74ADBE1E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347EFD-BC6B-412E-B140-67A289519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4CBDC7-10F8-4994-9E5D-4E1796478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AFE469-B8E4-4A79-8E48-17912E533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1C2818-5BC7-45EC-BA22-0FC7CEB92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AD83CC-BA90-4E41-AB6D-5EDF3FA1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C464-D61D-4132-9F21-11C919E40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51BD8F-BAB9-4110-A9B6-18DFFAFC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94C5C6-E748-4A9B-ACE3-FDA757F4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4A90EA-890C-4F55-ADB3-A0B47EFB5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67CF6B-CDAC-4086-9A51-07E813A86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4B0BCA-DC45-4A18-80D7-325AE365C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046D-3198-4AB0-8CC5-EA3C1A8D0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3887-FDE2-456A-A999-B973EB0CD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D1D1-8231-43FD-8E12-1EF8AEC16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EDEA-E2C0-4F75-8095-4288D1BDE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D242-683E-4C1A-ABAE-5CB7A3B4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59B4-DE37-4388-B347-53297FCE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7193-475D-4C18-9C8D-DFC3B7CD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9152A-6768-43C8-8915-328EC5429FA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824B4-8700-4762-AC68-00005375357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Тема: К.Г. Паустовский «Корзина с еловыми шишками»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 жалейте сердца не таи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оброты и нежности сво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и своих прозрений и открыт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 держите в тайне от люд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оропитесь всё отдать при жиз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тоб, уйти к небытию во власть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ёплым ливнем, снегом ли пушисты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нова к милой родине припа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Итог урока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очему Эдвард Григ решил сделать подарок Дагни Педерсен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Что сделало Эдварда Грига бессмертны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Как вы думайте, для чего должен жить человек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7T15:44:07Z</dcterms:created>
  <dc:creator>user</dc:creator>
  <dc:description/>
  <dc:language>en-US</dc:language>
  <cp:lastModifiedBy>user</cp:lastModifiedBy>
  <dcterms:modified xsi:type="dcterms:W3CDTF">2013-01-27T15:45:23Z</dcterms:modified>
  <cp:revision>1</cp:revision>
  <dc:subject/>
  <dc:title>Тема: К.Г. Паустовский «Корзина с еловыми шишками»</dc:title>
</cp:coreProperties>
</file>