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5798-30BE-409F-AF6D-19492A209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FC52-3BF8-465F-B837-91CDCB48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958E-6575-4711-A998-A014E73CF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594E-F94E-4405-AAA2-8F059B96D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7F8BC-259D-4596-9343-E3873FE2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84BF0-3C33-4F36-9520-208FB487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1AC58-0CDF-4320-86E4-77807E4D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90080-EE0E-4CF5-B9E2-1718A0C1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A1231-1B99-4B84-95F0-C75413D1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65335-95A3-44A5-AF03-ADB35153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761C9-748D-43D6-ADCE-166E5456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FFE6-D444-4621-8D3E-E8024C17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780BB-757F-40C0-98F7-8A286AC5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407B1-0C71-4C86-9D66-BDFFFD1F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E811E-126B-4C7B-832A-029D8E3C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18A80-932A-46A0-A1D0-B520F8EC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E9EB2-E60C-47C2-8D5E-F0998FDA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1D14-3D65-4C29-BC95-173E7D78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35A2-8B52-478A-BB20-94DA4646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ADE9-5629-4046-A75D-84140F2A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C4D7-7DBD-4EBD-B374-E5DE2434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EE59-7C3E-44B9-B64B-58AC1441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69D1-0C2B-4F04-B8B9-AC8EC018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7907-FF47-4400-9DC8-11B163EC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6187-8E4C-4F5E-BD25-015F591E20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1D1C-D30B-432B-B656-A344F0A395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Тема: К.Г. Паустовский «Корзина с еловыми шишками»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жалейте сердца не таи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броты и нежности сво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и своих прозрений и открыт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держите в тайне от люд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оропитесь всё отдать при жиз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б, уйти к небытию во влас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ёплым ливнем, снегом ли пушисты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нова к милой родине припа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Итог урока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очему Эдвард Григ решил сделать подарок Дагни Педерсен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Что сделало Эдварда Грига бессмертны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Как вы думайте, для чего должен жить челове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5:44:07Z</dcterms:created>
  <dc:creator>user</dc:creator>
  <dc:description/>
  <dc:language>en-US</dc:language>
  <cp:lastModifiedBy>user</cp:lastModifiedBy>
  <dcterms:modified xsi:type="dcterms:W3CDTF">2013-01-27T15:45:23Z</dcterms:modified>
  <cp:revision>1</cp:revision>
  <dc:subject/>
  <dc:title>Тема: К.Г. Паустовский «Корзина с еловыми шишками»</dc:title>
</cp:coreProperties>
</file>