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63CE-A2D8-4482-B123-5B3EDC521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03ED-C6D4-4DEC-A2E7-C530BCC0B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10D1-DC36-40BC-8338-D888EC6D4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CFD1-0390-4CAE-926A-BC948FE97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40C0FF-11D4-4981-8D49-C02E491A3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32D61E-4DB4-453B-9B09-39A7A838F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1BC945-3385-4B13-981E-C4DF35B76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219131-DA09-4EEF-9C0B-05D50A2C9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5F3E4F-8A6B-41C9-A13D-110FEA60F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6C3615-BE6B-4017-93F8-A83CB7AE7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3DD037-B580-4114-8FA7-A2F031152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7ECB-CEC0-47FF-9B1B-043407D83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D08546-E97C-4C4B-9974-5AB65914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97BC3F-E284-4B82-9EA5-F0D1662FD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148E3A-E445-42FB-A8D2-A444022C0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749E71-4828-459D-A0D0-31D966DC8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D55FA4-8EA9-44C9-84BC-BF7FC1ADC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9506-61B8-418C-926C-B9EBA44F0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5070-816E-4918-A757-6E9729E03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2B46-FD1C-47C0-9C2B-0A936CACC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81D1-7F88-4B5C-9295-C4CCBDF7F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F350-B3C9-4F83-A430-4ED2E02D3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CC53-1731-4C39-B654-FC2004EA3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5CE9-57B5-4B0E-B370-CAA88786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32AD7-AB96-4ACD-ACE9-E9C4B02210A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4879A-3C58-482F-9133-E7893A4F525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Тема: К.Г. Паустовский «Корзина с еловыми шишками»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 жалейте сердца не таит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оброты и нежности сво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и своих прозрений и открыт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 держите в тайне от люд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оропитесь всё отдать при жиз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тоб, уйти к небытию во власть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ёплым ливнем, снегом ли пушисты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нова к милой родине припас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Итог урока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Почему Эдвард Григ решил сделать подарок Дагни Педерсен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Что сделало Эдварда Грига бессмертным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Как вы думайте, для чего должен жить человек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7T15:44:07Z</dcterms:created>
  <dc:creator>user</dc:creator>
  <dc:description/>
  <dc:language>en-US</dc:language>
  <cp:lastModifiedBy>user</cp:lastModifiedBy>
  <dcterms:modified xsi:type="dcterms:W3CDTF">2013-01-27T15:45:23Z</dcterms:modified>
  <cp:revision>1</cp:revision>
  <dc:subject/>
  <dc:title>Тема: К.Г. Паустовский «Корзина с еловыми шишками»</dc:title>
</cp:coreProperties>
</file>