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B7D-8A59-4B49-A423-AF95A0CB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F33-8A10-4327-8C8B-F98671C6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B01-AD1F-4213-A615-C1CA234C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C41-B4D8-4266-8455-AF7DEE56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607C0-F94E-4849-AEAE-5526B7DA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F7393-4AB5-4A2C-82A8-C4103D64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30B5B-0ADF-4639-8BF0-5F09682E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9B1AA-6FEA-406E-9CD7-1B7D79FD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E2EFC-0D2F-4873-88B4-C69BE414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10510-365B-4A74-819C-B56C2EE6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F83E0-7820-4C41-90C8-6C146B4B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5DB-2307-446E-851D-5CB745E7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29A5A-89EC-482C-B498-97143BB6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D2ED5-4310-48EE-9F2F-DC13F86E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D6C2A-34E0-4974-901B-AC269444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7596B-6BEC-4B6A-A230-79BDFE82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0693F-D59B-414A-8835-BACF426B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15A-3BC7-432A-B0CC-77F379B1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44C-186F-406E-B385-D9D21DDF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80C-815B-4723-975E-69597CC5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A5F-4F0F-4A92-AFFB-833841F3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410-C982-440D-AA71-12432134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45C-3E93-4614-9C46-46AF33F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469-71C5-402F-8F10-DB24B6D8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28B3-5904-4687-A64E-BDE8FE7D61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FFCF-F950-446B-9F00-D310E6ECF6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Тема: К.Г. Паустовский «Корзина с еловыми шишками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жалейте сердца не та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оты и нежности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воих прозрений и откр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в тайне от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опитесь всё отдать при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, уйти к небытию во вл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ёплым ливнем, снегом ли пушист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к милой родине прип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чему Эдвард Григ решил сделать подарок Дагни Педерс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то сделало Эдварда Грига бессмерт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 вы думайте, для чего должен жить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44:07Z</dcterms:created>
  <dc:creator>user</dc:creator>
  <dc:description/>
  <dc:language>en-US</dc:language>
  <cp:lastModifiedBy>user</cp:lastModifiedBy>
  <dcterms:modified xsi:type="dcterms:W3CDTF">2013-01-27T15:45:23Z</dcterms:modified>
  <cp:revision>1</cp:revision>
  <dc:subject/>
  <dc:title>Тема: К.Г. Паустовский «Корзина с еловыми шишками»</dc:title>
</cp:coreProperties>
</file>