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569-05C2-4939-A1B6-F3143097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2BA-9694-427E-8FE5-1A31D154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748-8138-4D60-9D74-795E66B5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6CB-988E-417B-B9D3-B2F5F138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616C4-661C-41E6-AEE1-DC16B460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29D83-4DAF-4E8B-974E-261978B8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D1C9E-18D1-4BB1-ACA8-DE4CBB9E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A7F38-EAF9-467C-8F4E-F6A5C060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6387F-4DEC-43FC-8A6A-CEA89554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333B1-E094-42A1-BD26-028A2BF1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C8E84-ADBB-45C9-8590-766B1EF3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CC5-F4C7-48AE-9617-4486FB31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5A7FE-9A70-44D3-BB1D-CF4F4B24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380A8-569B-4DF9-9F67-BDDF3361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4F2C6-EAAB-4A82-8F67-7DDAF04F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9DBA8-BCA1-4763-868A-11E43FDE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F4251-5BDF-4A4E-9787-3B4E1E8E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980-C91F-4544-80A1-D08A970A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92F0-DDCD-41A4-B108-6D0FDB94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A2C-D695-45AC-8187-0E42A33D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0CE-EFDC-417D-9205-C2F08DDD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5B9-4DC0-4E96-ABAC-73B8C886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B03-6FCA-4039-A9E5-6ED96B16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EC9-C59F-4FB8-A7C3-D16ECEDD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48BB-855F-4788-94DA-BB418002E3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8BF8-9293-48E3-924A-0B9D3962F9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Тема: К.Г. Паустовский «Корзина с еловыми шишками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жалейте сердца не та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броты и нежности сво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 своих прозрений и откры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держите в тайне от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ропитесь всё отдать при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, уйти к небытию во вла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ёплым ливнем, снегом ли пушист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ова к милой родине прип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тог урока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чему Эдвард Григ решил сделать подарок Дагни Педерсе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Что сделало Эдварда Грига бессмерт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ак вы думайте, для чего должен жить челов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5:44:07Z</dcterms:created>
  <dc:creator>user</dc:creator>
  <dc:description/>
  <dc:language>en-US</dc:language>
  <cp:lastModifiedBy>user</cp:lastModifiedBy>
  <dcterms:modified xsi:type="dcterms:W3CDTF">2013-01-27T15:45:23Z</dcterms:modified>
  <cp:revision>1</cp:revision>
  <dc:subject/>
  <dc:title>Тема: К.Г. Паустовский «Корзина с еловыми шишками»</dc:title>
</cp:coreProperties>
</file>