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A3E-580F-4C28-BB18-780768E9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4A6-4702-4F03-BA38-F2AF2C9A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018-EC46-4703-910D-9FBEA412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D07-C4C4-4D72-9916-C92443D1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3661-5462-40EF-B190-C1F8C442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C493-6E45-487C-8A9B-5511B92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A2E1-168E-4BDC-8A9D-23BC728E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AEAB-EB43-445B-B5E8-8755A7E0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192D-009E-4F40-A9CF-5B850624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46FC-B082-4297-BC77-18A01D89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F495-4624-437C-9B1B-60AF222C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E53-3BBC-4C5E-A84B-E04AB21C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0523-3474-4315-8D7E-EDD30B4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BECF-F446-4DE2-9920-4E50BB8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77C4-0845-426B-9681-134226DF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89EC-9E5E-451A-A613-154E6579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AFC2-591E-4E8C-B99C-A9A20ED2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5E74-13C6-4AAA-9363-03F3621B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F767-929E-47D7-B367-307EF8A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32D5-C644-4CC0-81E0-614D7DCE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EE78-6A08-471A-B090-7A847956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8022-B8C3-42E1-9B24-B69906BF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F07-6597-43A0-AD37-95E0ABF3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878B-C5C5-44CC-8D06-A54203A2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2CAA-45DD-41F7-BD92-5B1AD75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CB81-9A62-49A9-B0DD-C5F4A498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0B20-EBC7-4589-AD75-A9E9E644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4331-EB87-4C0E-92FF-DC2282BB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DF5F-B5FE-41C1-8C94-45CC18B4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9908-5C2F-4DD8-9161-F56559DE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9ACA8-9AA4-49CD-BE19-872901E5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78FC-14CB-4586-9531-E69AEA8F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ABA1E-2760-4ADD-AAEF-F0FBAB5B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401-8B54-4B0A-9D97-4EFE1E02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CFF93-FF06-442E-AA13-21B8345E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F66D1-47F6-4C6A-A6D6-3A1CA65F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C7B8A-F2F9-45E8-AC22-6D763C0B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F12FD-027A-4122-80A5-E084CFCA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EEFC-E3DD-4346-9BA1-06AD6E9D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3CF4D-94BA-475A-BA02-A8707982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F5AD8-A577-4073-A63D-45251537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ECE3C-67C6-4E76-B497-4437F8A7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6D79E-5B01-4C30-93C5-AC7A546F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D7215-2ABA-464B-B2A7-0C5DDF3F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E9E-CEEA-4FBD-A207-1E5767E4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A59D-825A-4C33-8E99-324CD8B9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24BF4-6711-445B-B5C6-1446C0E1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C516-AE73-4871-871D-03CD1187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E70E1-A6DA-49BD-91DA-2DC68DA6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A00E1-A365-4DB9-BCD3-F705DD16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DDC6E-2D0E-4DD3-9FC3-4B6E0838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B974B-E167-4EF6-A8BD-049F00F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1308C-0F32-461A-A448-2DEAC19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11ABA-13A3-436F-BD8A-70993EB8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10B0D-DDFB-4A02-8A8F-C02E8DA4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089-DC0B-46A9-8B44-54D61085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3545-0B81-4044-91A6-A4876288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D82-D947-4E1F-8FD3-E0D3D761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652-D1C7-499C-B24E-9EEB02A0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1AE-6B35-4212-B824-0DEEA870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7D46-B093-4138-862A-0FC6DD561D9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6889-9DCB-4FC0-B552-E8C14ED44D8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74BF-FBB4-4D38-9B29-2767B5E5CAA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72A2-AD85-4C99-B8F8-A07DFEB5C16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D7E4-FB53-4424-A584-216CAB4476F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2600" y="149976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В любой науке,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в любом искусстве 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лучший учитель - книга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00000" y="177336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428760" y="928800"/>
            <a:ext cx="8358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ица измерен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528f"/>
                </a:solidFill>
                <a:latin typeface="Arial"/>
              </a:rPr>
              <a:t>За единицу напряжения принимают такое электрическое напряжение на концах проводника, при котором работа по перемещению электрического заряда в 1 Кл по этому проводнику равна 1 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4"/>
              <p:cNvSpPr txBox="1"/>
              <p:nvPr/>
            </p:nvSpPr>
            <p:spPr>
              <a:xfrm>
                <a:off x="1500120" y="3857760"/>
                <a:ext cx="2952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Picture 2" descr="C:\Users\Стас\Pictures\img006.jpg"/>
          <p:cNvPicPr/>
          <p:nvPr/>
        </p:nvPicPr>
        <p:blipFill>
          <a:blip r:embed="rId1"/>
          <a:stretch/>
        </p:blipFill>
        <p:spPr>
          <a:xfrm>
            <a:off x="6143760" y="3286080"/>
            <a:ext cx="1876320" cy="24922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5643720" y="55720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ссандро Воль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3866400" y="42148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0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1596240" y="1857240"/>
            <a:ext cx="5770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еди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я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мВ = 0,001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кВ = 1000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529280" y="128592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E:\Мое\Физика\8 класс\Электрическое напряжение. Единицы напряжения. Вольтметр\68305375_1293260466_9212886.jpg"/>
          <p:cNvPicPr/>
          <p:nvPr/>
        </p:nvPicPr>
        <p:blipFill>
          <a:blip r:embed="rId1"/>
          <a:stretch/>
        </p:blipFill>
        <p:spPr>
          <a:xfrm>
            <a:off x="2357280" y="2714760"/>
            <a:ext cx="44164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601200" y="1857240"/>
            <a:ext cx="8004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Единицы измерения нап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571680" y="1857240"/>
            <a:ext cx="8072280" cy="33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 </a:t>
            </a:r>
            <a:r>
              <a:rPr b="0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показывает, какую работу совершает электрическое поле при перемещении единичного положительного заряда на данном участке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077120" y="1714680"/>
            <a:ext cx="1919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3214800" y="2428920"/>
                <a:ext cx="2928960" cy="25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пнр</cp:lastModifiedBy>
  <dcterms:modified xsi:type="dcterms:W3CDTF">2013-01-20T15:53:56Z</dcterms:modified>
  <cp:revision>49</cp:revision>
  <dc:subject/>
  <dc:title>ТИО – ТЕХНОЛОГИЯ ИНДИВИДУАЛЬНОГО ОБУЧЕНИЯ</dc:title>
</cp:coreProperties>
</file>