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8C53-1FF2-468A-B505-0C0D28B0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7BD0-83B9-4F5E-ABA9-DBB4C678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905-5AA2-4427-A985-0DACADCF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6D5-1B0F-4F57-94DD-CC4F3B72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2BF6-49F5-48D2-BD8F-42DC1288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3878-34B1-419F-95AE-6E02C81B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BD44-C624-4213-97B7-20BBDECE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BCAD-C116-48C1-B02A-16E50455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974D-B4A9-4057-85BD-3DD19728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2F37-DBCB-4781-8642-CEDC72E1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5F8B-76A1-492C-8758-2FD8B7AB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D68-1CAA-41C9-8632-CACF39E1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9844-5EA9-4D72-B5E4-E080BC0C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A8EB-2604-474A-AC81-C068662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3DCB-9C08-4EC6-A91F-D47337D0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AB11-4118-4FF9-9A25-1A58D089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CF8D-5B15-4E4E-86B4-D39C6B0D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DBF3D-55CA-4C2C-A0D1-E6E2FB96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FA34-F93E-46CB-B64E-1673C353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34198-BAC1-46E1-B6F2-5667E8D2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08726-6219-446B-B6E0-123D3613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A85C1-097E-4BBE-9A83-75EF4888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77C-3EF2-4F04-AD4A-B1E5FDE8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C0647-DF97-4DA6-BD70-B44A697B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54F6B-5762-4A44-97C3-D2CB0069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384CC-62B0-4385-9B8E-F3CEF591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6D1F-7E01-4666-82E5-B5700C82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35A92-F223-4C83-811C-23745E2C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C90D2-32CF-4AD6-9DC5-F411ADDA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E487-2589-48CC-8EFF-2E2B9E45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5D8D8-7EB2-4892-9FEC-7164B76C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2ED7E-5579-4CC9-9BB8-1699D6E8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306D3-3C1C-4ECB-800E-AC2D827C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F76-BA01-4666-9701-4181758C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5839D-6E82-4C09-81C2-2E7BD94F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21150-02E7-45EC-A3C2-6777236A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61C21-5F0E-408D-8C60-8DDB371E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15F40-6288-4956-9EA9-392FFF78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A9D3A-402E-49B3-AF3C-907AF7C7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C3377-E9A8-4CC2-A746-559AD834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A1922-1B61-414D-894D-BACD1281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4A323-C02D-4F42-942B-912DF592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A4177-3D25-445A-A8AF-96A9BE5C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93D3E-C981-43B3-BED7-4D6A9F36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B55-DC7F-4195-8A09-65E857F3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16EE6-E8D8-43D9-8D79-9EAD170A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B4D77-E5F1-43A6-A440-E55387A3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CCC01-3162-43CE-B6E2-31CF774C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93D84-69F8-4542-BC90-63EDEECC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CCB1F-44D3-4D92-A650-2493D248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9A30E-59BA-44A5-B230-C71DFA5C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CB866-EED6-4752-8FC9-25BBE331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3A8A6-0BD6-434D-9497-65A392C7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4BC76-18EA-4E7B-B649-67ECB95B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5EEB1-20B4-4D5C-AB5E-AD6408B3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FED-ECCC-4004-A147-46668479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0BE88-460D-4667-A921-A3402C6C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E06-EAF7-4BE4-B983-8F6DFEDF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CAA-0FA7-49A0-8699-1641A784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9AE-4C59-4DAE-BA57-2A912E1F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0EB9-58A1-4360-A661-96A5FF15874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6DB6-97AD-4BCF-8EAC-B5453995AF0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CFB0-EBF5-45A3-9C0B-CDB574075AD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A733-446F-437E-A4BA-EA2B145A487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A188-B7C0-4F22-B045-08196B745DB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4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42600" y="149976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В любой науке,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 в любом искусстве 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лучший учитель - книга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900000" y="177336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428760" y="928800"/>
            <a:ext cx="83581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ица измерения напря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528f"/>
                </a:solidFill>
                <a:latin typeface="Arial"/>
              </a:rPr>
              <a:t>За единицу напряжения принимают такое электрическое напряжение на концах проводника, при котором работа по перемещению электрического заряда в 1 Кл по этому проводнику равна 1 Д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4"/>
              <p:cNvSpPr txBox="1"/>
              <p:nvPr/>
            </p:nvSpPr>
            <p:spPr>
              <a:xfrm>
                <a:off x="1500120" y="3857760"/>
                <a:ext cx="2952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5" name="Picture 2" descr="C:\Users\Стас\Pictures\img006.jpg"/>
          <p:cNvPicPr/>
          <p:nvPr/>
        </p:nvPicPr>
        <p:blipFill>
          <a:blip r:embed="rId1"/>
          <a:stretch/>
        </p:blipFill>
        <p:spPr>
          <a:xfrm>
            <a:off x="6143760" y="3286080"/>
            <a:ext cx="1876320" cy="24922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5"/>
          <p:cNvSpPr/>
          <p:nvPr/>
        </p:nvSpPr>
        <p:spPr>
          <a:xfrm>
            <a:off x="5643720" y="55720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ссандро Воль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571840" y="107172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3866400" y="421488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20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1596240" y="1857240"/>
            <a:ext cx="5770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ые един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ря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1 мВ = 0,001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1 кВ = 1000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1529280" y="1285920"/>
            <a:ext cx="602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4617b"/>
                </a:solidFill>
                <a:latin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E:\Мое\Физика\8 класс\Электрическое напряжение. Единицы напряжения. Вольтметр\68305375_1293260466_9212886.jpg"/>
          <p:cNvPicPr/>
          <p:nvPr/>
        </p:nvPicPr>
        <p:blipFill>
          <a:blip r:embed="rId1"/>
          <a:stretch/>
        </p:blipFill>
        <p:spPr>
          <a:xfrm>
            <a:off x="2357280" y="2714760"/>
            <a:ext cx="44164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601200" y="1857240"/>
            <a:ext cx="80049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Электрическое напряж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Единицы измерения напря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571680" y="1857240"/>
            <a:ext cx="8072280" cy="33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Электрическое напряжение </a:t>
            </a:r>
            <a:r>
              <a:rPr b="0" lang="ru-RU" sz="36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показывает, какую работу совершает электрическое поле при перемещении единичного положительного заряда на данном участке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077120" y="1714680"/>
            <a:ext cx="1919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у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3214800" y="2428920"/>
                <a:ext cx="2928960" cy="25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пнр</cp:lastModifiedBy>
  <dcterms:modified xsi:type="dcterms:W3CDTF">2013-01-20T15:53:56Z</dcterms:modified>
  <cp:revision>49</cp:revision>
  <dc:subject/>
  <dc:title>ТИО – ТЕХНОЛОГИЯ ИНДИВИДУАЛЬНОГО ОБУЧЕНИЯ</dc:title>
</cp:coreProperties>
</file>