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B8E5-496F-4CA4-BB0A-F11C75FA5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7333-19EE-4772-887D-B5649B7B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72B6-B6F7-4ECF-A6B0-14D8B90AF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DD9B-6385-46FD-B713-02E71372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3E80-B98A-40EE-8878-B45B0A1CF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15E6-5EBA-42C4-8F72-ACB462A6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E7FD-F0BD-4281-A6AF-B70D9A7A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B05E-D21C-49DC-822C-86B2A58E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1F78-108A-42F0-B2A2-2ECB8E49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AD99-749E-4165-A23A-248697AD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4C04-F7C3-4811-A0E5-B16DE000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0F7F-7421-4CD6-9888-6332054E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DE43-8452-4DA4-AC8D-BF9C42DB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7BAB-B296-465A-A4CD-5A5A06E3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8200-D12A-4B8D-B08F-159BF24C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28E8-23C9-4A70-9A38-6507CCC54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A3EE-B686-4BF5-B299-B05897B0A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89476-2069-428C-8F2A-3052B1C6A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C1E16-37C9-4126-AAE7-06C05FBA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76A3C-1114-49FD-A3CE-E0012514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B8076-DE3B-4068-9826-E7926E22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A08C1-C808-4000-9F63-7F8C3422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4EF6-1C9C-415B-820E-8550B047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810F0-F69B-4DFD-9A8A-D9335A2B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5DF5F-5F99-40CB-BFE9-4173B86E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93F89-06E3-4F2C-AF6D-DB86C943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7BBE2-ED99-4765-8AD2-5032C3E2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F255B-E866-427A-A231-FADDC89F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42FA5-B756-4285-B6D9-7B191C704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75C9A-D75A-4A6A-AC78-D89BF343C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ED89B-F645-4A63-9351-9B7B1E3F1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D36DD-2352-47D0-B22F-BA249D9C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6EED0-8844-43C0-9FC2-7BC14628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3BD8-9D50-425A-B07C-3553D83C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08B22-AF65-4A63-AC65-38A075BC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4FFE5-1271-46DB-BE4E-893BC152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B7B6F-4BD8-466C-ABC2-0EA09D9B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AFC96-617F-4BE7-8489-34CA1EEF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030E2-8FBD-4D17-BCA5-F35E33AC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32085-886B-4CFE-880B-920ABDEA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7F57A-65F8-4BE1-A7D7-848667C4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56F91-53DC-4E2C-BC8C-2A0F6639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A0E06-8677-44AE-A6F2-0F2173EB9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384DA-97CE-4A2D-B745-7EFF38F62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0892-40D8-4746-AAD1-CA1BF1C3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448E9-6470-453E-B9EA-8E5AE668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2EBD7-B6C4-455F-A746-45E21842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12431-CEE2-451F-9A8B-D9915FC9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19144-F222-41E0-A6D0-8FA82DF1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7D971-82B2-4905-921D-59204941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20A0F-E8A5-4CE5-A889-81C2FA46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37045-1225-4BF9-95D0-E98D6FCD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46F78-3FBE-4DEB-B153-94990249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7380B-F39A-4C7E-94A7-64091FA5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3741A-A612-4C34-9A30-4884F025D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10BA-27D9-4B34-A4E9-EEC36D83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8EDBF-D254-4504-83DA-3F0F4FCA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E82D-9E83-4C3A-845A-969F2437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BEF8-2F56-4ECF-8008-3DEB88BF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223A-C248-4FD3-B25C-124E63F1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e7e7e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cbcbc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446A-7259-4479-9442-32329FEB986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7B50-E83D-47BD-9D97-246D80FB570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Группа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Полилиния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" name="Полилиния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Полилиния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Полилиния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5C8D-E020-4120-BD8A-618F02AFC92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Полилиния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5" name="Полилиния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Полилиния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8" name="Полилиния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86F2-7B35-417A-A29C-0CAB039078F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с одним вырезанным скругленным углом 6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ый треугольник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олилиния 8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олилиния 9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E369-E188-4E92-97A4-1FAE60A72F4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Arial"/>
              </a:rPr>
              <a:t>.</a:t>
            </a:r>
            <a:endParaRPr b="0" lang="en-US" sz="46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642600" y="1499760"/>
            <a:ext cx="7929720" cy="27147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В любой науке,</a:t>
            </a:r>
            <a:br>
              <a:rPr sz="6000"/>
            </a:b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 в любом искусстве </a:t>
            </a:r>
            <a:br>
              <a:rPr sz="6000"/>
            </a:b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лучший учитель - книга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900000" y="1773360"/>
            <a:ext cx="74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"/>
          <p:cNvSpPr/>
          <p:nvPr/>
        </p:nvSpPr>
        <p:spPr>
          <a:xfrm>
            <a:off x="428760" y="928800"/>
            <a:ext cx="83581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диница измерения напря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6528f"/>
                </a:solidFill>
                <a:latin typeface="Arial"/>
              </a:rPr>
              <a:t>За единицу напряжения принимают такое электрическое напряжение на концах проводника, при котором работа по перемещению электрического заряда в 1 Кл по этому проводнику равна 1 Д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1024"/>
              <p:cNvSpPr txBox="1"/>
              <p:nvPr/>
            </p:nvSpPr>
            <p:spPr>
              <a:xfrm>
                <a:off x="1500120" y="3857760"/>
                <a:ext cx="295272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В</m:t>
                    </m:r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К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55" name="Picture 2" descr="C:\Users\Стас\Pictures\img006.jpg"/>
          <p:cNvPicPr/>
          <p:nvPr/>
        </p:nvPicPr>
        <p:blipFill>
          <a:blip r:embed="rId1"/>
          <a:stretch/>
        </p:blipFill>
        <p:spPr>
          <a:xfrm>
            <a:off x="6143760" y="3286080"/>
            <a:ext cx="1876320" cy="2492280"/>
          </a:xfrm>
          <a:prstGeom prst="rect">
            <a:avLst/>
          </a:prstGeom>
          <a:ln w="0">
            <a:noFill/>
          </a:ln>
        </p:spPr>
      </p:pic>
      <p:sp>
        <p:nvSpPr>
          <p:cNvPr id="256" name="TextBox 5"/>
          <p:cNvSpPr/>
          <p:nvPr/>
        </p:nvSpPr>
        <p:spPr>
          <a:xfrm>
            <a:off x="5643720" y="5572080"/>
            <a:ext cx="29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ессандро Воль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2571840" y="1071720"/>
            <a:ext cx="4071960" cy="3054240"/>
          </a:xfrm>
          <a:prstGeom prst="rect">
            <a:avLst/>
          </a:prstGeom>
          <a:ln w="0">
            <a:noFill/>
          </a:ln>
        </p:spPr>
      </p:pic>
      <p:sp>
        <p:nvSpPr>
          <p:cNvPr id="258" name="TextBox 2"/>
          <p:cNvSpPr/>
          <p:nvPr/>
        </p:nvSpPr>
        <p:spPr>
          <a:xfrm>
            <a:off x="3866400" y="4214880"/>
            <a:ext cx="151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20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1"/>
          <p:cNvSpPr/>
          <p:nvPr/>
        </p:nvSpPr>
        <p:spPr>
          <a:xfrm>
            <a:off x="1596240" y="1857240"/>
            <a:ext cx="57708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полнительные единиц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ря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1 мВ = 0,001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1 кВ = 1000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1"/>
          <p:cNvSpPr/>
          <p:nvPr/>
        </p:nvSpPr>
        <p:spPr>
          <a:xfrm>
            <a:off x="1529280" y="1285920"/>
            <a:ext cx="602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4617b"/>
                </a:solidFill>
                <a:latin typeface="Arial"/>
              </a:rPr>
              <a:t>Спасибо за урок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2" descr="E:\Мое\Физика\8 класс\Электрическое напряжение. Единицы напряжения. Вольтметр\68305375_1293260466_9212886.jpg"/>
          <p:cNvPicPr/>
          <p:nvPr/>
        </p:nvPicPr>
        <p:blipFill>
          <a:blip r:embed="rId1"/>
          <a:stretch/>
        </p:blipFill>
        <p:spPr>
          <a:xfrm>
            <a:off x="2357280" y="2714760"/>
            <a:ext cx="441648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601200" y="1857240"/>
            <a:ext cx="800496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6528f"/>
                </a:solidFill>
                <a:latin typeface="Times New Roman"/>
                <a:ea typeface="Times New Roman"/>
              </a:rPr>
              <a:t>Электрическое напряжени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6528f"/>
                </a:solidFill>
                <a:latin typeface="Times New Roman"/>
                <a:ea typeface="Times New Roman"/>
              </a:rPr>
              <a:t>Единицы измерения напряж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1"/>
          <p:cNvSpPr/>
          <p:nvPr/>
        </p:nvSpPr>
        <p:spPr>
          <a:xfrm>
            <a:off x="571680" y="1857240"/>
            <a:ext cx="8072280" cy="33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6528f"/>
                </a:solidFill>
                <a:latin typeface="Times New Roman"/>
                <a:ea typeface="Times New Roman"/>
              </a:rPr>
              <a:t>Электрическое напряжение </a:t>
            </a:r>
            <a:r>
              <a:rPr b="0" lang="ru-RU" sz="3600" spc="-1" strike="noStrike">
                <a:solidFill>
                  <a:srgbClr val="36528f"/>
                </a:solidFill>
                <a:latin typeface="Times New Roman"/>
                <a:ea typeface="Times New Roman"/>
              </a:rPr>
              <a:t>показывает, какую работу совершает электрическое поле при перемещении единичного положительного заряда на данном участке цеп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1077120" y="1714680"/>
            <a:ext cx="1919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у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5"/>
              <p:cNvSpPr txBox="1"/>
              <p:nvPr/>
            </p:nvSpPr>
            <p:spPr>
              <a:xfrm>
                <a:off x="3214800" y="2428920"/>
                <a:ext cx="2928960" cy="25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ропнр</cp:lastModifiedBy>
  <dcterms:modified xsi:type="dcterms:W3CDTF">2013-01-20T15:53:56Z</dcterms:modified>
  <cp:revision>49</cp:revision>
  <dc:subject/>
  <dc:title>ТИО – ТЕХНОЛОГИЯ ИНДИВИДУАЛЬНОГО ОБУЧЕНИЯ</dc:title>
</cp:coreProperties>
</file>