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E45-D984-4E62-AFA5-FCB93B70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0A1-B0B7-416F-BA6D-63E404B7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4F7-7AC8-471A-A417-35863EBD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4BF-D2C0-4E57-A323-E9436243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5E37-2421-45E1-8AFF-B5495214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A019-067E-434D-AD84-7EE1DA0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4005-0019-4ED2-953A-5B7ABDC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8EC0-3EC4-495E-9DD7-25839B01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F16F-5A07-4EAD-880B-A71DEE8C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46F7-BD7A-4678-8BBC-4877ABF2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DF71-76FA-4248-A6F4-EE3D1799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EA8-DEFF-4413-9F2D-30C5B6A8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4689-A0E3-47D1-8761-E4DFF70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440E-9F76-4D94-8A69-84FE5EAE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F1FF-2048-45E3-B4A1-1DCC229A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5D1E-66B4-4A01-B2E9-00D83C42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E855-B6DE-4616-812D-E5ECF8D0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2FE9-D19B-49AE-9DF5-ABCFF713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7A20-1DF4-408F-97D9-83CED333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89794-840D-4618-9BAC-4CD52790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09CB-F5F0-4118-954D-38C919D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5DEA-CE05-4988-9EC1-BA669697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34C-3887-40A5-B568-F5D52468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22D1-BA38-4D11-A72E-25964C00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BFFD-E8DE-4823-AF66-96397019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D19D7-B647-43D0-9CED-27FA77B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CBF4-004C-42E5-B9C2-C479AEC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1BBC-DEC5-4269-B8C9-C2C51AD2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5094-2E38-463E-B703-0050A68D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A28E-24D1-47CA-AFB7-4A1BCB5E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FB91-D0C0-4B7F-8EC5-A8EE86D2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2861-B752-4077-8F28-C8F4B5B3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4D54-55A7-4925-A21B-9A043AF1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81B-2687-4B67-9B97-6FD39652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4C24-B598-4681-BA67-0A7F211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84E2-C0C8-467D-933C-DD9DC8CD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5415-9F67-4353-9985-088230F1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0226C-5BD4-4459-829E-97DD5E02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0520-CB21-4B21-82D0-BB3FDC42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386B-7B3F-4309-8C1A-DCF359DF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3E51-ABA7-48F5-934F-1E172357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91F9-10F5-48E3-A929-D0F334A6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1B4D-BD91-4E06-A74A-B4003E44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34E04-63EF-4BB2-B616-E480E611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0BF-6D43-4C90-A11F-1C275BD9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12AD-A5DF-4199-AC72-BD9E928E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4707-CEC8-4544-AB90-B5B431B8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5DB70-7363-484A-80EF-CDE030AF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71C5A-9577-4B14-B51D-56D07C17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95EDA-AD79-475A-A31B-B53A6A18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A4F7-9843-4A31-9F7B-23F0FE7C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39FA-EE3D-444F-A281-8C5C245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BEC10-B7EE-415F-97DC-7DEF944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CE45-5EE7-4395-920F-75C25450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3876D-F8FE-4A61-A2FF-296082A4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F4E-51A2-4D10-BC16-33E5FBF5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5DA44-0D21-41D6-B6A1-D15EC6B7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3FD-13A0-4FF6-8FF9-961D0D8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E2C-D2EF-4A70-B00E-13FF4AB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1C1-CA36-48DE-AA22-53CACA9E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5CD3-814F-4941-80BB-D410E621010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962D-0C48-44A3-8DE4-94F415754BE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4DE8-B894-4D6D-A9EC-F25FC395350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BE97-94C3-4378-8B7A-69C3991FCBD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1846-02D0-47C9-8149-1F6542EFC67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2600" y="149976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В любой науке,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 в любом искусстве </a:t>
            </a:r>
            <a:br>
              <a:rPr sz="6000"/>
            </a:b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лучший учитель - книга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00000" y="177336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428760" y="928800"/>
            <a:ext cx="83581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а измерен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528f"/>
                </a:solidFill>
                <a:latin typeface="Arial"/>
              </a:rPr>
              <a:t>За единицу напряжения принимают такое электрическое напряжение на концах проводника, при котором работа по перемещению электрического заряда в 1 Кл по этому проводнику равна 1 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4"/>
              <p:cNvSpPr txBox="1"/>
              <p:nvPr/>
            </p:nvSpPr>
            <p:spPr>
              <a:xfrm>
                <a:off x="1500120" y="3857760"/>
                <a:ext cx="295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Picture 2" descr="C:\Users\Стас\Pictures\img006.jpg"/>
          <p:cNvPicPr/>
          <p:nvPr/>
        </p:nvPicPr>
        <p:blipFill>
          <a:blip r:embed="rId1"/>
          <a:stretch/>
        </p:blipFill>
        <p:spPr>
          <a:xfrm>
            <a:off x="6143760" y="3286080"/>
            <a:ext cx="1876320" cy="24922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5643720" y="557208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ссандро Воль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571840" y="107172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3866400" y="42148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0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96240" y="1857240"/>
            <a:ext cx="5770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ые еди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ря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мВ = 0,001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1 кВ = 1000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1529280" y="1285920"/>
            <a:ext cx="602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E:\Мое\Физика\8 класс\Электрическое напряжение. Единицы напряжения. Вольтметр\68305375_1293260466_9212886.jpg"/>
          <p:cNvPicPr/>
          <p:nvPr/>
        </p:nvPicPr>
        <p:blipFill>
          <a:blip r:embed="rId1"/>
          <a:stretch/>
        </p:blipFill>
        <p:spPr>
          <a:xfrm>
            <a:off x="2357280" y="2714760"/>
            <a:ext cx="4416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Заполните таблицу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920960"/>
          <a:ext cx="8218440" cy="422280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диница 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Электр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601200" y="1857240"/>
            <a:ext cx="8004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Единицы измерения нап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571680" y="1857240"/>
            <a:ext cx="8072280" cy="33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Электрическое напряжение </a:t>
            </a:r>
            <a:r>
              <a:rPr b="0" lang="ru-RU" sz="3600" spc="-1" strike="noStrike">
                <a:solidFill>
                  <a:srgbClr val="36528f"/>
                </a:solidFill>
                <a:latin typeface="Times New Roman"/>
                <a:ea typeface="Times New Roman"/>
              </a:rPr>
              <a:t>показывает, какую работу совершает электрическое поле при перемещении единичного положительного заряда на данном участке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077120" y="1714680"/>
            <a:ext cx="1919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3214800" y="2428920"/>
                <a:ext cx="29289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пнр</cp:lastModifiedBy>
  <dcterms:modified xsi:type="dcterms:W3CDTF">2013-01-20T15:53:56Z</dcterms:modified>
  <cp:revision>49</cp:revision>
  <dc:subject/>
  <dc:title>ТИО – ТЕХНОЛОГИЯ ИНДИВИДУАЛЬНОГО ОБУЧЕНИЯ</dc:title>
</cp:coreProperties>
</file>