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uchportal.ru/load/26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hyperlink" Target="http://www.uchportal.ru/load/26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2086920" y="6453360"/>
            <a:ext cx="6948360" cy="36036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V="1">
            <a:off x="1908000" y="6453000"/>
            <a:ext cx="0" cy="36036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2050200" y="6453360"/>
            <a:ext cx="71640" cy="360360"/>
          </a:xfrm>
          <a:prstGeom prst="rect">
            <a:avLst/>
          </a:prstGeom>
          <a:solidFill>
            <a:srgbClr val="e3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1440" y="189000"/>
            <a:ext cx="914256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08000" y="6453000"/>
            <a:ext cx="0" cy="36036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08000" y="306360"/>
            <a:ext cx="8567640" cy="9828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108000" y="260280"/>
            <a:ext cx="864072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0"/>
            <a:ext cx="1225800" cy="122544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-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4e9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244e9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4e93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244e9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e93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lvl="3" marL="1600200" indent="-228600">
              <a:spcBef>
                <a:spcPts val="499"/>
              </a:spcBef>
              <a:buClr>
                <a:srgbClr val="244e93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e93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lvl="4" marL="2057400" indent="-228600">
              <a:spcBef>
                <a:spcPts val="499"/>
              </a:spcBef>
              <a:buClr>
                <a:srgbClr val="244e93"/>
              </a:buClr>
              <a:buFont typeface="Arial Narrow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e93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e93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e93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17892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628640"/>
            <a:ext cx="9144000" cy="3240360"/>
          </a:xfrm>
          <a:prstGeom prst="rect">
            <a:avLst/>
          </a:prstGeom>
          <a:gradFill rotWithShape="0">
            <a:gsLst>
              <a:gs pos="0">
                <a:srgbClr val="71c4f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628640"/>
            <a:ext cx="9144000" cy="3529080"/>
          </a:xfrm>
          <a:prstGeom prst="rect">
            <a:avLst/>
          </a:prstGeom>
          <a:blipFill rotWithShape="0">
            <a:blip r:embed="rId2">
              <a:alphaModFix amt="4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156280"/>
            <a:ext cx="9144000" cy="14436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2421000"/>
            <a:ext cx="756144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755280" y="2565000"/>
            <a:ext cx="7667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7416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e37416"/>
              </a:solidFill>
              <a:latin typeface="Arial Narrow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812000" y="260280"/>
            <a:ext cx="1017720" cy="1068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3860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826920" y="5300640"/>
            <a:ext cx="1081080" cy="7174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44e93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244e93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4e93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244e93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4e93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244e93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e93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244e93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e93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e93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4e93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usedu.ru/detail_18449.html" TargetMode="External"/><Relationship Id="rId2" Type="http://schemas.openxmlformats.org/officeDocument/2006/relationships/hyperlink" Target="http://www.rusedu.ru/detail_18449.html" TargetMode="External"/><Relationship Id="rId3" Type="http://schemas.openxmlformats.org/officeDocument/2006/relationships/hyperlink" Target="http://www.rusedu.ru/detail_18449.html" TargetMode="External"/><Relationship Id="rId4" Type="http://schemas.openxmlformats.org/officeDocument/2006/relationships/hyperlink" Target="http://www.rusedu.ru/detail_18449.html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280" y="2565000"/>
            <a:ext cx="7667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7416"/>
                </a:solidFill>
                <a:latin typeface="Arial Narrow"/>
              </a:rPr>
              <a:t>Умножение одночлена на многочлен</a:t>
            </a:r>
            <a:endParaRPr b="1" lang="en-US" sz="4000" spc="-1" strike="noStrike">
              <a:solidFill>
                <a:srgbClr val="e37416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a396c"/>
                </a:solidFill>
                <a:latin typeface="Tahoma"/>
              </a:rPr>
              <a:t>Что знаем?</a:t>
            </a:r>
            <a:endParaRPr b="0" lang="en-US" sz="32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Определение многочлена</a:t>
            </a:r>
            <a:r>
              <a:rPr b="0" lang="en-US" sz="2800" spc="-1" strike="noStrike">
                <a:solidFill>
                  <a:srgbClr val="244e93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Многочлен – это сумма одночленов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Подобные члены многочлена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Это одночлены, имеющие одинаковую буквенную часть</a:t>
            </a:r>
            <a:r>
              <a:rPr b="0" lang="en-US" sz="2800" spc="-1" strike="noStrike">
                <a:solidFill>
                  <a:srgbClr val="cc33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Стандартный вид многочлена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Если каждый член многочлена является одночленом стандартного вида и не содержит подобных членов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Степень многочлена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Это наибольшая из степеней входящих в него одночленов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1436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a396c"/>
                </a:solidFill>
                <a:latin typeface="Tahoma"/>
              </a:rPr>
              <a:t>Что умеем?</a:t>
            </a:r>
            <a:endParaRPr b="0" lang="en-US" sz="32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Приводить многочлен к стандартному виду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Находить значение многочлена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Определять степень многочлена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Выполнять сложение и вычитание многочленов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a396c"/>
                </a:solidFill>
                <a:latin typeface="Tahoma"/>
              </a:rPr>
              <a:t>Чему хотим научиться?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Научиться применять правило умножения одночлена на многочлен при преобразовании  выражений</a:t>
            </a:r>
            <a:endParaRPr b="0" lang="en-US" sz="40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8459640" y="6381720"/>
            <a:ext cx="611280" cy="322200"/>
          </a:xfrm>
          <a:custGeom>
            <a:avLst/>
            <a:gdLst>
              <a:gd name="textAreaLeft" fmla="*/ 20880 w 611280"/>
              <a:gd name="textAreaRight" fmla="*/ 590400 w 6112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40958" h="21600">
                <a:moveTo>
                  <a:pt x="0" y="0"/>
                </a:moveTo>
                <a:lnTo>
                  <a:pt x="40958" y="0"/>
                </a:lnTo>
                <a:lnTo>
                  <a:pt x="40958" y="21600"/>
                </a:lnTo>
                <a:lnTo>
                  <a:pt x="0" y="21600"/>
                </a:lnTo>
                <a:close/>
              </a:path>
              <a:path fill="lightenLess" w="40958" h="21600">
                <a:moveTo>
                  <a:pt x="0" y="0"/>
                </a:moveTo>
                <a:lnTo>
                  <a:pt x="40958" y="0"/>
                </a:lnTo>
                <a:lnTo>
                  <a:pt x="39558" y="1400"/>
                </a:lnTo>
                <a:lnTo>
                  <a:pt x="1400" y="1400"/>
                </a:lnTo>
                <a:close/>
              </a:path>
              <a:path fill="darken" w="40958" h="21600">
                <a:moveTo>
                  <a:pt x="40958" y="0"/>
                </a:moveTo>
                <a:lnTo>
                  <a:pt x="40958" y="21600"/>
                </a:lnTo>
                <a:lnTo>
                  <a:pt x="39558" y="20200"/>
                </a:lnTo>
                <a:lnTo>
                  <a:pt x="39558" y="1400"/>
                </a:lnTo>
                <a:close/>
              </a:path>
              <a:path fill="darkenLess" w="40958" h="21600">
                <a:moveTo>
                  <a:pt x="40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58" y="20200"/>
                </a:lnTo>
                <a:close/>
              </a:path>
              <a:path fill="lighten" w="40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58" h="21600">
                <a:moveTo>
                  <a:pt x="13473" y="3794"/>
                </a:moveTo>
                <a:lnTo>
                  <a:pt x="27485" y="10800"/>
                </a:lnTo>
                <a:lnTo>
                  <a:pt x="13473" y="17806"/>
                </a:lnTo>
                <a:close/>
              </a:path>
            </a:pathLst>
          </a:custGeom>
          <a:solidFill>
            <a:srgbClr val="005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280" y="2781360"/>
            <a:ext cx="76676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Narrow"/>
              </a:rPr>
              <a:t>Умножение одночлена на многочлен</a:t>
            </a:r>
            <a:endParaRPr b="1" lang="en-US" sz="4000" spc="-1" strike="noStrike">
              <a:solidFill>
                <a:srgbClr val="e37416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88360" y="6381360"/>
            <a:ext cx="7128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44e93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198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Тема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396c"/>
                </a:solidFill>
                <a:latin typeface="Tahoma"/>
              </a:rPr>
              <a:t>     </a:t>
            </a:r>
            <a:r>
              <a:rPr b="1" i="1" lang="en-US" sz="3600" spc="-1" strike="noStrike">
                <a:solidFill>
                  <a:srgbClr val="1a396c"/>
                </a:solidFill>
                <a:latin typeface="Arial"/>
              </a:rPr>
              <a:t>Распределительный закон умножения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Чтобы умножить число на сумму, можно умножить это число на каждое слагаемое и результаты сложить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07" name=""/>
          <p:cNvSpPr/>
          <p:nvPr/>
        </p:nvSpPr>
        <p:spPr>
          <a:xfrm>
            <a:off x="1042920" y="4383000"/>
            <a:ext cx="648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c3300"/>
                </a:solidFill>
                <a:latin typeface="Arial"/>
              </a:rPr>
              <a:t>а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 (в+ с) = </a:t>
            </a:r>
            <a:r>
              <a:rPr b="0" i="1" lang="ru-RU" sz="4800" spc="-1" strike="noStrike">
                <a:solidFill>
                  <a:srgbClr val="cc3300"/>
                </a:solidFill>
                <a:latin typeface="Arial"/>
              </a:rPr>
              <a:t>а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в+</a:t>
            </a:r>
            <a:r>
              <a:rPr b="0" i="1" lang="ru-RU" sz="4800" spc="-1" strike="noStrike">
                <a:solidFill>
                  <a:srgbClr val="cc3300"/>
                </a:solidFill>
                <a:latin typeface="Arial"/>
              </a:rPr>
              <a:t>а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a396c"/>
                </a:solidFill>
                <a:latin typeface="Arial"/>
              </a:rPr>
              <a:t>Раскройте скобки:</a:t>
            </a:r>
            <a:endParaRPr b="0" lang="en-US" sz="32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17002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(2х-3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0920" y="1700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6х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24922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7а-1) 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68360" y="24670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28а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3141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(3р+13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95640" y="3141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15р + 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170028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7 (2а -10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0360" y="170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1,4а -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95640" y="24922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3( 2- 5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2492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-6+ 15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40360" y="3141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-х -2у)* (- 4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068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4х + 8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486900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bc2"/>
                </a:solidFill>
                <a:latin typeface="Arial"/>
              </a:rPr>
              <a:t>Распределительный закон умножения   (а + в)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с</a:t>
            </a:r>
            <a:r>
              <a:rPr b="0" i="1" lang="ru-RU" sz="3200" spc="-1" strike="noStrike">
                <a:solidFill>
                  <a:srgbClr val="007bc2"/>
                </a:solidFill>
                <a:latin typeface="Arial"/>
              </a:rPr>
              <a:t> = а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с</a:t>
            </a:r>
            <a:r>
              <a:rPr b="0" i="1" lang="ru-RU" sz="3200" spc="-1" strike="noStrike">
                <a:solidFill>
                  <a:srgbClr val="007bc2"/>
                </a:solidFill>
                <a:latin typeface="Arial"/>
              </a:rPr>
              <a:t> + в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604000" y="-3844080"/>
            <a:ext cx="8244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44e93"/>
                </a:solidFill>
                <a:latin typeface="Arial Narrow"/>
              </a:rPr>
              <a:t>Чтобы умножить одночлен на многочлен, нужно умножить этот одночлен на каждый член многочлена и полученные произведения сложить.</a:t>
            </a:r>
            <a:endParaRPr b="0" lang="en-US" sz="4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 Narrow"/>
              </a:rPr>
              <a:t>   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4794120"/>
            <a:ext cx="7632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893000" y="5499000"/>
            <a:ext cx="1143000" cy="666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Ресурсы: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Ю.Н. Макарычев  и другие «Алгебра 7 класс»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 </a:t>
            </a: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 Narrow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 Narrow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 Narrow"/>
                <a:hlinkClick r:id="rId3"/>
              </a:rPr>
              <a:t>www.rusedu.ru</a:t>
            </a: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 Narrow"/>
                <a:hlinkClick r:id="rId4"/>
              </a:rPr>
              <a:t>/detail_18449.html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Arial Narrow"/>
              </a:rPr>
              <a:t>http://www.uroki.net/docmat/docmat50.htm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0:43:38Z</dcterms:created>
  <dc:creator>стилист</dc:creator>
  <dc:description/>
  <dc:language>en-US</dc:language>
  <cp:lastModifiedBy>Loner-XP</cp:lastModifiedBy>
  <dcterms:modified xsi:type="dcterms:W3CDTF">2013-01-31T14:54:19Z</dcterms:modified>
  <cp:revision>63</cp:revision>
  <dc:subject/>
  <dc:title>тио для презентаций</dc:title>
</cp:coreProperties>
</file>