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2C8-E7AF-4CE1-8477-A03043E0AD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E4ED-0D5B-4DF4-878A-A09F32160B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7EA-F35E-4AA3-A099-44F9D42D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A1D-8B32-41D4-A7F0-40250B98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411-AC54-491B-9F3E-66F4EE11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162-5130-4AD6-8990-5C71D6FF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4BF5-2228-4A56-848B-B2A94F47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1F79-8D8B-4CF9-A8D3-94C237F6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C5D9-AF26-4BA0-B6D6-50561F3A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F05-30FB-41E3-B30F-9DDB90E8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6A45-ACC6-46BF-AE56-CA153372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2509-B812-4BF3-AC3E-63D22CAA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6692-FCD2-4AA4-929A-3070F0EC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C48-B926-45B9-8081-B3343546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5479-F551-4F86-8539-57EDBA2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617-9C0A-4AB2-8E22-EC3BDB0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A3C3-BE29-46A5-B483-84F193FB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9FC9-1726-4EA0-95AB-74AF02F2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8B9B-3A7B-4B8D-BB02-9F1A252A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967C-A236-460C-8D27-44A1C729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98E5-4370-46B9-AAD9-A8F590B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CCFE-C1E4-4950-A931-B2E3449A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49411-7BA0-4AE7-90A6-08D91786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AFD4-3176-43CE-AE37-80BD180A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768-07AD-4495-915B-23041427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73E3-5644-4B15-902D-E7940DA1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151E-354E-422F-92EE-99DC9BB5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BFF6-5FE8-45C6-A97F-A6B6D8D4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4568-6229-41F4-84FD-DAEF408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CF51-33E7-4193-9C88-93F1F200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7345-8461-4453-96C5-85C94873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C98A-9409-4B96-9DDB-68F27336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6CBD0-00B2-4307-B39B-177C1143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E2B0-2C37-46CD-913F-1A1C6373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DE118-FBE0-415C-8C65-4074A8DA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B95-3AEF-435A-A727-1687AAE6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F9D0-D2D4-4111-8188-7222985B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B6BFB-B95D-4825-8403-11421B8C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4F2EE-9260-4084-9850-9134492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A1B6-0DFD-4E02-B96F-D8906BA2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81AD-4C4E-4C79-A56A-123056F6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9937C-A31C-497C-9413-953BD371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E9CF-8309-4596-97CE-C5703D14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B47B-F521-4B05-90D3-4497182C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5EB4-F349-4EC2-987E-24C999A9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359F3-E56F-4555-8B6F-B1574D8E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BA2-6A67-42A2-9F77-977A4A3A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451E2-ACCD-4C71-A3A3-DD33835E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2C7ED-5FA3-4C71-A477-A9BDC6A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C65AA-92FA-4B3D-A760-05C2A715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7D14A-F0A4-415F-82FB-BB931E6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3BDF-60D8-4E7C-83C2-2AD4E4B4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30FE-95E0-49AB-A2E0-813B4061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7485C-D255-487D-B210-613A99F2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33027-CE16-4C1C-8759-2CC5176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A143-1CB2-4E27-98C1-0492A85C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CD682-F2CA-465E-AF00-8A112CF1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51A-A574-430C-9F69-879CA009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40BE5-EACF-477D-AB2B-2D03FD52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01B-B172-443C-AF5B-F4302E24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DA6-78D3-4D50-98FB-7416488A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C11-2303-481C-818E-0A41C45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CD01-CBED-4AC1-9DFB-137E0582C4F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7254-11DF-422B-93FF-8041D000900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D36F-AD7A-4724-90E1-566975C0439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F1C5-533F-4EC1-96D9-0CC7A29F8A5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DCC4-463A-4373-B6D7-2E7A1823F92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  <a:ea typeface="Arial"/>
              </a:rPr>
              <a:t>Решение квадратных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78552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ежде, чем думать о решении будущих задач, научитесь справляться с сегодняшним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за наименьшее время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 большей эффективностью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.Друкер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920"/>
            <a:ext cx="8258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Квадратным уравнением называется уравнение вида …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а, в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вадратном уравнении  называю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) Коэффициент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вадратного уравнения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) Второй коэффициент в уравнении: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2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х – 3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) Первый коэффициент в уравнении: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4х – 7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6) Выражение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4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7) Количество корней квадратного уравнения зависит о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8) Если дискриминант положи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9) Если дискриминант отрица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0) Квадратное уравнение имеет один корень, если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1) Напишите формулу корней квадратного уравн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714240"/>
            <a:ext cx="77724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² + вх + с = 0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ободный чле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ва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 имеет кор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 равен 0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=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цен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авильно –      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9-10 правильных ответов –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-8 правильных ответов –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ых случаях –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делаем вывод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х² + вх + с = 0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4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ин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ней зависит от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&g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два различных 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D=0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дин коре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уравнение корней не име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корне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Желаю успехов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0T13:48:06Z</dcterms:modified>
  <cp:revision>34</cp:revision>
  <dc:subject/>
  <dc:title>Слайд 1</dc:title>
</cp:coreProperties>
</file>