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A4D1-0059-4631-A945-AFE82D448D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869C-18A9-49A4-9A9F-AE962B100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782-20FA-4D9F-81B2-93C9096F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04B-E4D0-4ACF-810E-EEA9A2E9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7AA-3EED-44A8-8913-DD071516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A93-CBFD-408F-B048-F77606C9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1B54-2E6B-4907-8867-0BF3A684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4598-7BA1-4298-9CAE-88116F4D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0A13-5A89-41D2-93C3-AA24CD0E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75E0-155D-41E0-8AE4-0124FB80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4AB7-2C0F-4330-962C-93DAF4F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40FB-8EA4-4E5C-8084-F0AEECF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44E9-6C82-41DC-A8AA-19D23BC5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2B7-80BE-4BFC-9261-B219B01B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D603-9E56-4A56-BFA3-15B4E71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A95-42AE-408E-91E2-FFEA6953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28E4-F604-45D1-ADA4-E0C12367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E73F-8DD2-42F7-A1A0-41A3B338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5234-7573-49F2-B369-4794F33E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B352-62CC-4142-BB9D-AB0A1811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62C3-8FDF-48BF-8E8E-1931ED7D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DE19-4F4F-4045-8C22-5B2E407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3BFD-9350-43A9-9AC3-B2BAF126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95D0-FE09-451C-8E90-C494DF9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752-1722-4D1D-9E9B-3F8C8E3B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1ECC-2A61-4FE8-BB9A-F7DB6E10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FE43-51D3-4F17-8EC9-EAEAB02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45CB-39B4-4DE8-ABFB-F97F33B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C68AD-7DC9-4712-A9CE-C2ED654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6C107-B0FD-4128-A492-BC129EDE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1DFC-AC6B-4791-83B3-19A6CEDD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16AB-A8FC-4518-A597-103A15E2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A130-5269-4CBB-BBEC-AEC8017F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3E06A-CF19-4784-B8B2-588EB1B1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4E50-6A51-4140-852A-CC241831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E41-78DB-47DF-B074-F01C8172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CFB4-8BD5-497E-B628-D4E580F4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55BF0-A2A8-4D22-BE9B-F30F3709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B542-57B7-43C6-AD96-E0C48986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F2B9-061D-4C46-BD48-F0ADE7C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71BA-12FD-450F-B4FC-CD9741BE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C75B-A4CD-4564-AFBF-08A6084B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3316-E5F7-4734-94A2-22A0C1F1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51CE-B1CD-4225-BAB2-821F90EA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C432-5631-4C5C-A36A-F22B27BE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48D79-7CBC-465D-A5F4-598FCBAC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D0F-70D7-4F24-93C4-582F0A3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9FDEE-FE4C-4C87-9E58-6CB9239B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4443-E9E8-49FE-8995-3061DE87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46DC-8F0E-4CFC-9ED3-65DB9C38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D6B3F-C50D-4397-BE16-83D20780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8186-7E5B-4C52-B6E8-1C02D0D2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51B93-EA60-4505-BDD8-180FC53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2387B-63A4-4EC3-9859-1EFC30F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7046-DF40-448B-90A5-5575C22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BED8E-37AA-405C-8548-27B971B7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06B6-2E5B-4693-BB60-7EBE92F9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C24-5494-4C2A-93A3-0A63ADC4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10339-2296-4804-893D-B98F062D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7C1-8BEB-464A-A355-430DB89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831-271D-4A8B-B9DA-C3E4CF32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A3E-2B53-42DA-A635-1B10ECF8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ABB-710B-4625-BDB8-C5FEA470C6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8CA5-0A02-4332-BD52-BFD427B535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CF6-9AA0-4EDC-A5B8-12E9CBA4405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E3FC-EA1F-4A33-A690-BC6D017E4DF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033B-933E-436C-93F5-855AC1D3950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  <a:ea typeface="Arial"/>
              </a:rPr>
              <a:t>Решение квадратных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78552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ежде, чем думать о решении будущих задач, научитесь справляться с сегодняшним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за наименьшее время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 большей эффективностью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.Друкер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920"/>
            <a:ext cx="8258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Квадратным уравнением называется уравнение вида …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а, в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вадратном уравнении  называю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) Коэффициент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вадратного уравнения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) Второй коэффициент в уравнении: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2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х – 3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) Первый коэффициент в уравнении: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4х – 7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6) Выражение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4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7) Количество корней квадратного уравнения зависит о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8) Если дискриминант положи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9) Если дискриминант отрица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0) Квадратное уравнение имеет один корень, если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1) Напишите формулу корней квадратного уравн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714240"/>
            <a:ext cx="77724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² + вх + с = 0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ободный чле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ва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 имеет кор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 равен 0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=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цен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авильно –      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9-10 правильных ответов –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-8 правильных ответов –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ых случаях –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делаем вывод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х² + вх + с = 0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4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ин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ней зависит от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&g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два различных 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D=0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дин коре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уравнение корней не име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корне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Желаю успехов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0T13:48:06Z</dcterms:modified>
  <cp:revision>34</cp:revision>
  <dc:subject/>
  <dc:title>Слайд 1</dc:title>
</cp:coreProperties>
</file>