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4B3-E83D-4F3A-A59A-DB6442C3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7FF-C5C3-4819-A59D-D8733064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D10-77E6-441A-93B7-63F9B8DD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ED3-C708-4059-883D-6E8D9C96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3EE-93AB-4267-BEF3-AEE6E9FD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F42-29C1-4F20-B470-E1EED497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25D-0342-4370-8294-62CE8C86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795-255B-44D8-8CEF-769632C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E6C-2BEE-4D00-8F56-1E115A8A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1A5-1ACD-42C6-8266-A945FE83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588-C20C-48BB-A1C6-1C9EB0B3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81E-FDDC-49FD-B89A-7A16F0F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DFD5-D78B-46D9-8273-9AB91435E2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319-826D-4424-8328-F6308B15E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73120" y="1197000"/>
            <a:ext cx="80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5d-i3"/>
          <p:cNvPicPr/>
          <p:nvPr/>
        </p:nvPicPr>
        <p:blipFill>
          <a:blip r:embed="rId2"/>
          <a:stretch/>
        </p:blipFill>
        <p:spPr>
          <a:xfrm>
            <a:off x="611280" y="2421000"/>
            <a:ext cx="3671640" cy="23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443480" y="249228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а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359880" y="278136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тем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чаще и сильнее молек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ряются о стенки со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50920" y="54936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ая соединительная линия 8"/>
          <p:cNvSpPr/>
          <p:nvPr/>
        </p:nvSpPr>
        <p:spPr>
          <a:xfrm>
            <a:off x="1476360" y="1557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0"/>
          <p:cNvSpPr/>
          <p:nvPr/>
        </p:nvSpPr>
        <p:spPr>
          <a:xfrm>
            <a:off x="147636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3"/>
          <p:cNvSpPr/>
          <p:nvPr/>
        </p:nvSpPr>
        <p:spPr>
          <a:xfrm>
            <a:off x="1476360" y="26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5"/>
          <p:cNvSpPr/>
          <p:nvPr/>
        </p:nvSpPr>
        <p:spPr>
          <a:xfrm>
            <a:off x="3203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3203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2"/>
          <p:cNvSpPr/>
          <p:nvPr/>
        </p:nvSpPr>
        <p:spPr>
          <a:xfrm>
            <a:off x="320364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5"/>
          <p:cNvSpPr/>
          <p:nvPr/>
        </p:nvSpPr>
        <p:spPr>
          <a:xfrm>
            <a:off x="320364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6"/>
          <p:cNvSpPr/>
          <p:nvPr/>
        </p:nvSpPr>
        <p:spPr>
          <a:xfrm>
            <a:off x="4356000" y="26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7"/>
          <p:cNvSpPr/>
          <p:nvPr/>
        </p:nvSpPr>
        <p:spPr>
          <a:xfrm>
            <a:off x="4356000" y="155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8"/>
          <p:cNvSpPr/>
          <p:nvPr/>
        </p:nvSpPr>
        <p:spPr>
          <a:xfrm>
            <a:off x="608472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>
            <a:off x="4356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0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3780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>
            <a:off x="3708360" y="17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63816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1842120" y="1844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8 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852480" y="3068640"/>
            <a:ext cx="72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одинаковых сосуда соединены труб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дном из них находится газ под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008 Па, в другом молекулы г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(сосуд пустой). Каким ст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ление газа в сосудах, если открыть кран 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1608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029040" cy="302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996640" y="306864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Что общ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Arial"/>
                <a:ea typeface="Arial"/>
              </a:rPr>
              <a:t>Давление газ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348000" y="2708280"/>
            <a:ext cx="54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вление газа созда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дарами молеку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стенки со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5d-i1"/>
          <p:cNvPicPr/>
          <p:nvPr/>
        </p:nvPicPr>
        <p:blipFill>
          <a:blip r:embed="rId2"/>
          <a:stretch/>
        </p:blipFill>
        <p:spPr>
          <a:xfrm>
            <a:off x="684360" y="2708280"/>
            <a:ext cx="3600360" cy="188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75080" y="2421000"/>
            <a:ext cx="44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лочка приним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 шара, так как г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ит на все стенки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направл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232000" cy="3306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08560" y="2492280"/>
            <a:ext cx="537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меньш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велич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при увелич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59:45Z</dcterms:created>
  <dc:creator>дом</dc:creator>
  <dc:description>http://aida.ucoz.ru</dc:description>
  <dc:language>en-US</dc:language>
  <cp:lastModifiedBy>Tania Wolf</cp:lastModifiedBy>
  <dcterms:modified xsi:type="dcterms:W3CDTF">2013-01-29T20:15:06Z</dcterms:modified>
  <cp:revision>26</cp:revision>
  <dc:subject/>
  <dc:title>Слайд 1</dc:title>
</cp:coreProperties>
</file>