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741-903F-4A1C-AC45-E4077FF2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2E9-BBA2-47FB-A5C6-95CC70BA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6A8-E4B5-481C-8B07-5E45984C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75A-F2F3-4AD4-936B-27E81D66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228-AD2D-4608-988E-A93E57A2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7BC-F8D8-489B-8BE0-F7433AC1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48B-EE10-4367-82E2-07414F42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D0C-6995-4662-9082-438AD488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FD7-3C75-46C3-AC26-AFD5FFEF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7E9-CEAD-46D6-BA8D-3A40100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ED3-1520-4A9B-9969-2F217F81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7AA-0738-416A-B909-8E9785D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FA84-889C-4B64-A8B7-E0BC9EBE05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EBD4-E549-4904-85A5-62A1BE859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573120" y="1197000"/>
            <a:ext cx="80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5d-i3"/>
          <p:cNvPicPr/>
          <p:nvPr/>
        </p:nvPicPr>
        <p:blipFill>
          <a:blip r:embed="rId2"/>
          <a:stretch/>
        </p:blipFill>
        <p:spPr>
          <a:xfrm>
            <a:off x="611280" y="2421000"/>
            <a:ext cx="3671640" cy="230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443480" y="249228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выше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а, тем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359880" y="2781360"/>
            <a:ext cx="55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тем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чаще и сильнее молек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ряются о стенки со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50920" y="549360"/>
            <a:ext cx="76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ая соединительная линия 8"/>
          <p:cNvSpPr/>
          <p:nvPr/>
        </p:nvSpPr>
        <p:spPr>
          <a:xfrm>
            <a:off x="1476360" y="1557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0"/>
          <p:cNvSpPr/>
          <p:nvPr/>
        </p:nvSpPr>
        <p:spPr>
          <a:xfrm>
            <a:off x="147636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3"/>
          <p:cNvSpPr/>
          <p:nvPr/>
        </p:nvSpPr>
        <p:spPr>
          <a:xfrm>
            <a:off x="1476360" y="26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5"/>
          <p:cNvSpPr/>
          <p:nvPr/>
        </p:nvSpPr>
        <p:spPr>
          <a:xfrm>
            <a:off x="3203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3203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2"/>
          <p:cNvSpPr/>
          <p:nvPr/>
        </p:nvSpPr>
        <p:spPr>
          <a:xfrm>
            <a:off x="320364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5"/>
          <p:cNvSpPr/>
          <p:nvPr/>
        </p:nvSpPr>
        <p:spPr>
          <a:xfrm>
            <a:off x="3203640" y="220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6"/>
          <p:cNvSpPr/>
          <p:nvPr/>
        </p:nvSpPr>
        <p:spPr>
          <a:xfrm>
            <a:off x="4356000" y="26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7"/>
          <p:cNvSpPr/>
          <p:nvPr/>
        </p:nvSpPr>
        <p:spPr>
          <a:xfrm>
            <a:off x="4356000" y="155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8"/>
          <p:cNvSpPr/>
          <p:nvPr/>
        </p:nvSpPr>
        <p:spPr>
          <a:xfrm>
            <a:off x="608472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9"/>
          <p:cNvSpPr/>
          <p:nvPr/>
        </p:nvSpPr>
        <p:spPr>
          <a:xfrm>
            <a:off x="435600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0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2"/>
          <p:cNvSpPr/>
          <p:nvPr/>
        </p:nvSpPr>
        <p:spPr>
          <a:xfrm>
            <a:off x="378000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6"/>
          <p:cNvSpPr/>
          <p:nvPr/>
        </p:nvSpPr>
        <p:spPr>
          <a:xfrm>
            <a:off x="3708360" y="1773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363816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1842120" y="1844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8 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852480" y="3068640"/>
            <a:ext cx="72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одинаковых сосуда соединены труб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дном из них находится газ под д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008 Па, в другом молекулы г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уют (сосуд пустой). Каким ст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ление газа в сосудах, если открыть кран 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16080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3029040" cy="3027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996640" y="306864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Что общ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7375e"/>
                </a:solidFill>
                <a:latin typeface="Arial"/>
                <a:ea typeface="Arial"/>
              </a:rPr>
              <a:t>Давление газ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348000" y="2708280"/>
            <a:ext cx="54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вление газа созда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дарами молеку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 стенки со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5d-i1"/>
          <p:cNvPicPr/>
          <p:nvPr/>
        </p:nvPicPr>
        <p:blipFill>
          <a:blip r:embed="rId2"/>
          <a:stretch/>
        </p:blipFill>
        <p:spPr>
          <a:xfrm>
            <a:off x="684360" y="2708280"/>
            <a:ext cx="3600360" cy="188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75080" y="2421000"/>
            <a:ext cx="44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лочка приним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 шара, так как г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ит на все стенки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направл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ина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232000" cy="3306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508560" y="2492280"/>
            <a:ext cx="537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меньш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величив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при увелич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9:59:45Z</dcterms:created>
  <dc:creator>дом</dc:creator>
  <dc:description>http://aida.ucoz.ru</dc:description>
  <dc:language>en-US</dc:language>
  <cp:lastModifiedBy>Tania Wolf</cp:lastModifiedBy>
  <dcterms:modified xsi:type="dcterms:W3CDTF">2013-01-29T20:15:06Z</dcterms:modified>
  <cp:revision>26</cp:revision>
  <dc:subject/>
  <dc:title>Слайд 1</dc:title>
</cp:coreProperties>
</file>