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E2B-008E-4E44-9DE9-57FA0D18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0E5-C6BE-4B5D-A742-5BFBB6D8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F59-D9E4-4746-9822-7018BC28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29D-86FE-477F-970B-32613CD2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4C27-7ADA-44EB-87E4-6326657D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D702-50BF-4B2D-A1A0-D20D0129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4205-720A-4022-A33A-2779EB37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D752-800A-4DF7-A6C1-8B575DA5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0EBB-A44F-479E-B81F-5420F2AD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DF15-9756-4140-BA8B-37109FF0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11D0-A4E5-45BD-B4DE-5F9B1B3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CA2-7EC8-40B2-81EB-DDE2E8F6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4A69-5BC6-4DC3-846E-019EC716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095A-0332-4E08-81D9-6E033CE1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531B-73E0-41A1-98E8-7455340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C02E-CD2F-4F2E-87F5-1F7E003D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ABC8-6CBA-4392-A9C1-9080E885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998-5C33-4F0D-8776-006684A2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74F-E683-45BD-BF7B-1C3A2B75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8A1-D4C7-4B86-A6B5-D8E6A6D2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9E8-8A83-4455-9412-82775606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C4E-72D0-4E66-9BB9-9AA2406F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4A8-4D54-452B-A04F-C5787AEF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6FE-DB83-4926-9019-A30436C4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A614-5965-4C35-AEEE-E103C6D18A7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6629-8480-4BBB-B034-8AB443D8B7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 класс: Теорема Пифагор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 класс: Теорема синусов. Теорема                       косинус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933720"/>
            <a:ext cx="6840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ение решать задачи – такое же практическое искусство. Ему можно научиться только путем подражания или упраж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637000"/>
          <a:ext cx="6000840" cy="284472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будет вечной истина, как скор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е познает слабый человек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ыне теорема Пифаг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рна, как и в его далекий 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порилось нужное дело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в жизни не знать неудач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на поиск отправимся смело –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мир загадок и сложных задач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беда, что идти далеко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е бойтесь, что путь будет труден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стижения крупные людям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не давались легк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5899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еометрия владеет двумя сокровищами: одно из них – теорема Пифагора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                                           И. Кепле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es06F9589B-85BB-44D7-BF57-4F19C71ABAD9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1620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4943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теты прямоугольного треугольника равны 3 см и 4 см. Верно ли, что гипотенуза этого треугольника равн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) 7 см;         б) 5 см             в) 25 с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ин из катетов прямоугольного треугольника равен 8 см, а гипотенуза – 10 см. Верно ли, что второй катет этого треугольника равен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2 см;         б) 6 см         в) 10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тороны треугольника равны 10 см и 5 см. Какой должна быть третья сторона треугольника, чтобы  он был прямоугольны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15 см;     б) 125 см;     в) 5√5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6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из треугольников является прямоугольны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Со сторонами: 2 см; 4 см; 2√3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 Со сторонами: 6 см; 8 см; 14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) Со сторонами: 5 см; 4 см; 20 см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28:52Z</dcterms:created>
  <dc:creator>Мелкомуковы</dc:creator>
  <dc:description/>
  <dc:language>en-US</dc:language>
  <cp:lastModifiedBy>*****</cp:lastModifiedBy>
  <dcterms:modified xsi:type="dcterms:W3CDTF">2012-12-27T04:28:12Z</dcterms:modified>
  <cp:revision>5</cp:revision>
  <dc:subject/>
  <dc:title>8 класс: Теорема Пифагора 9 класс: Решение треугольников</dc:title>
</cp:coreProperties>
</file>