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5BB-3FD8-4851-A7FA-2F019557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6B3-2035-4823-B220-95C169EF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1E6-C164-48BA-B1A2-94320AD2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0E0-BA04-4B6E-A07B-7E12A672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6F65-1F60-4E7F-9AA4-E64A1294A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8D2C-91D9-47DA-B2DA-6AAC15E8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9EE8-EEDC-442B-B20D-20CE44BD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5671-7AFE-44E6-A5C8-840C8FCD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F1BD-5F87-413A-832B-F0559775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D02E-4BEB-4094-9804-03339E55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0CE1-CF08-439C-802E-9423B9A7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68E-B414-43B1-B0D4-B5766843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64ED-E6A9-409A-9464-C6C42F9F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8AC7-2584-42ED-8E55-92B3DA56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5FA5-6D0D-40E6-B0ED-37DD9536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D337-1C42-4862-A3E3-FF4342FD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DE3D-C4FA-4B80-BD0C-4474EEE7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6EE-8D8F-46B6-9814-DBB3F111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14A-5670-4A66-9CF6-2062BC27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30E-F8DD-4245-A472-5AE91DEB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A18-13C2-4CAE-8614-2DED8B3C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87F-C5A8-40EC-8CDE-BF84F4E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8C8B-0521-4E05-A4BE-FEADD017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C7D-5B25-49FC-B70D-E6056601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CB2D-86EE-4518-8785-6416BD8B13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991E-4F92-4BB0-A5AC-1E654A52871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 класс: Теорема Пифагор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 класс: Теорема синусов. Теорема                       косинус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933720"/>
            <a:ext cx="6840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ение решать задачи – такое же практическое искусство. Ему можно научиться только путем подражания или упраж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637000"/>
          <a:ext cx="6000840" cy="284472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будет вечной истина, как скор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е познает слабый человек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ыне теорема Пифаг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рна, как и в его далекий 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порилось нужное дело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в жизни не знать неудач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на поиск отправимся смело –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мир загадок и сложных задач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беда, что идти далеко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е бойтесь, что путь будет труден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стижения крупные людям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не давались легк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5899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еометрия владеет двумя сокровищами: одно из них – теорема Пифагора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                                           И. Кепле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es06F9589B-85BB-44D7-BF57-4F19C71ABAD9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1620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4943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теты прямоугольного треугольника равны 3 см и 4 см. Верно ли, что гипотенуза этого треугольника равн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) 7 см;         б) 5 см             в) 25 с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ин из катетов прямоугольного треугольника равен 8 см, а гипотенуза – 10 см. Верно ли, что второй катет этого треугольника равен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2 см;         б) 6 см         в) 10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тороны треугольника равны 10 см и 5 см. Какой должна быть третья сторона треугольника, чтобы  он был прямоугольны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15 см;     б) 125 см;     в) 5√5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6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из треугольников является прямоугольны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Со сторонами: 2 см; 4 см; 2√3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 Со сторонами: 6 см; 8 см; 14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) Со сторонами: 5 см; 4 см; 20 см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28:52Z</dcterms:created>
  <dc:creator>Мелкомуковы</dc:creator>
  <dc:description/>
  <dc:language>en-US</dc:language>
  <cp:lastModifiedBy>*****</cp:lastModifiedBy>
  <dcterms:modified xsi:type="dcterms:W3CDTF">2012-12-27T04:28:12Z</dcterms:modified>
  <cp:revision>5</cp:revision>
  <dc:subject/>
  <dc:title>8 класс: Теорема Пифагора 9 класс: Решение треугольников</dc:title>
</cp:coreProperties>
</file>