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C0B-8747-44FD-A5F8-EAB220BF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05F-62A6-42EA-B3CE-998DA8EF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FEE-5EBE-4CB4-AC8B-5FE79ACF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F1B-AC71-4EA4-AC71-B3121300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806-9644-423A-9995-B6080E44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636-085E-485C-A0E1-C8EFBC15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A65-DA01-432C-A6E3-DADD5C8F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B59-98E6-4593-9D70-AA32F1F6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DC2-70C5-40E3-A669-9BCC444B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7E6-E065-4866-A441-912D3D42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FB9-F059-4E29-B5E4-54DB0EE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14E-ACFB-4505-BEB7-1D54E145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F246-C204-4391-B460-331939785F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814-18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5083200" y="1981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омпозици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спозиция – вступительная часть произведения, в котором нет развития основног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язка – начал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зоды (развитие действ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минация – самый волнующий момент произ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язка-конец 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лог – заключительная часть произведения, знакомящая с дальнейшей судьбой геро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Самостоятельная работа учащихс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Подведение итогов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(карта успеха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7138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машнее  зада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читаем балладу в соответствии с новым ее  понимани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рисовать рисунки к балладе М. Ю. Лермонтова «Три пальм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28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Mistral"/>
                <a:ea typeface="Gautami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5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3000240" y="1000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37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700"/>
                            </p:stCondLst>
                            <p:childTnLst>
                              <p:par>
                                <p:cTn id="229" nodeType="afterEffect" fill="hold" presetClass="exit" presetID="3" presetSubtype="10">
                                  <p:stCondLst>
                                    <p:cond delay="3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14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4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Спасибо за урок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524440" y="2143080"/>
            <a:ext cx="4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точное сказание – это рассказ исторического и легендарного характера на Восто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ное стихотворение на легендарную или сказочную т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вийская пустын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57120" y="200016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Б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рис – по-арабски: всад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АРАВАН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аван –группа вьючных животных (верблюдов, ослов, редко лошадей), перевозящих грузы и людей (главным образом в пустынных район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АЗИ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азис – расположенный около естественного водоёма островок раст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М.Ю.Лермонтова 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2643120" y="2071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– сюжетное стихотворени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-развитие действия,ход событий в произвед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язка, кульминация, развяз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7:25:27Z</dcterms:created>
  <dc:creator>raidama_company</dc:creator>
  <dc:description/>
  <dc:language>en-US</dc:language>
  <cp:lastModifiedBy>Эксперт</cp:lastModifiedBy>
  <dcterms:modified xsi:type="dcterms:W3CDTF">2013-01-27T17:13:15Z</dcterms:modified>
  <cp:revision>15</cp:revision>
  <dc:subject/>
  <dc:title>Михаил Юрьевич Лермонтов</dc:title>
</cp:coreProperties>
</file>