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8"/>
          <p:cNvSpPr/>
          <p:nvPr/>
        </p:nvSpPr>
        <p:spPr>
          <a:xfrm>
            <a:off x="1476360" y="4149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еремещение по вертик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979640" y="1413000"/>
            <a:ext cx="526716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емещние фигу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ординатной плоск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468360" y="372960"/>
            <a:ext cx="8008920" cy="648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2200320" cy="2181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2467080" cy="24192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0">
            <a:hlinkClick r:id="" action="ppaction://hlinkshowjump?jump=nextslide"/>
          </p:cNvPr>
          <p:cNvSpPr/>
          <p:nvPr/>
        </p:nvSpPr>
        <p:spPr>
          <a:xfrm>
            <a:off x="7451640" y="6237360"/>
            <a:ext cx="865440" cy="287280"/>
          </a:xfrm>
          <a:custGeom>
            <a:avLst/>
            <a:gdLst>
              <a:gd name="textAreaLeft" fmla="*/ 18360 w 865440"/>
              <a:gd name="textAreaRight" fmla="*/ 847080 w 865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5016" h="21600">
                <a:moveTo>
                  <a:pt x="0" y="0"/>
                </a:moveTo>
                <a:lnTo>
                  <a:pt x="65016" y="0"/>
                </a:lnTo>
                <a:lnTo>
                  <a:pt x="65016" y="21600"/>
                </a:lnTo>
                <a:lnTo>
                  <a:pt x="0" y="21600"/>
                </a:lnTo>
                <a:close/>
              </a:path>
              <a:path fill="lightenLess" w="65016" h="21600">
                <a:moveTo>
                  <a:pt x="0" y="0"/>
                </a:moveTo>
                <a:lnTo>
                  <a:pt x="65016" y="0"/>
                </a:lnTo>
                <a:lnTo>
                  <a:pt x="63616" y="1400"/>
                </a:lnTo>
                <a:lnTo>
                  <a:pt x="1400" y="1400"/>
                </a:lnTo>
                <a:close/>
              </a:path>
              <a:path fill="darken" w="65016" h="21600">
                <a:moveTo>
                  <a:pt x="65016" y="0"/>
                </a:moveTo>
                <a:lnTo>
                  <a:pt x="65016" y="21600"/>
                </a:lnTo>
                <a:lnTo>
                  <a:pt x="63616" y="20200"/>
                </a:lnTo>
                <a:lnTo>
                  <a:pt x="63616" y="1400"/>
                </a:lnTo>
                <a:close/>
              </a:path>
              <a:path fill="darkenLess" w="65016" h="21600">
                <a:moveTo>
                  <a:pt x="65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616" y="20200"/>
                </a:lnTo>
                <a:close/>
              </a:path>
              <a:path fill="lighten" w="65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016" h="21600">
                <a:moveTo>
                  <a:pt x="25502" y="3794"/>
                </a:moveTo>
                <a:lnTo>
                  <a:pt x="39515" y="10800"/>
                </a:lnTo>
                <a:lnTo>
                  <a:pt x="25502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1064 C -0.00157 0.16088 -0.00261 0.33218 -0.00157 0.33287 C -0.00052 0.3338 0.00486 -0.0074 0.00555 -0.00578 C 0.00642 -0.00439 0.00243 0.32084 0.00312 0.34236 C 0.00399 0.36389 0.0092 0.17709 0.01041 0.12338 C 0.01163 0.06968 0.01024 0.04306 0.01041 0.01945 C 0.01059 -0.00439 0.01024 -0.06412 0.01163 -0.02014 C 0.01302 0.02408 0.01805 0.28936 0.01892 0.28403 C 0.01961 0.27871 0.01336 -0.07037 0.01649 -0.05162 C 0.01944 -0.03264 0.03281 0.30371 0.03732 0.39746 E">
                                      <p:cBhvr>
                                        <p:cTn id="1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C -0.00226 -0.20463 -0.00434 -0.40903 -0.00139 -0.40926 C 0.00156 -0.40949 0.01476 0.00555 0.01805 -0.00186 C 0.02135 -0.00926 0.01337 -0.4544 0.01805 -0.45371 C 0.02274 -0.45301 0.04097 0.01342 0.04583 0.00185 C 0.05069 -0.00973 0.04687 -0.41389 0.04705 -0.52338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4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5172120" cy="494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"/>
          <p:cNvSpPr/>
          <p:nvPr/>
        </p:nvSpPr>
        <p:spPr>
          <a:xfrm>
            <a:off x="755640" y="549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На рисунке изображена ветка дуба с желудями, два из которых совершенно одинаковы</a:t>
            </a:r>
            <a:r>
              <a:rPr b="0" i="1" lang="ru-RU" sz="20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5724360" y="1341360"/>
            <a:ext cx="28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Если переместить верхний желудь на 9 единиц строго по вертикали вниз, то он совпадет с нижним желуд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724360" y="364500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Times New Roman"/>
              </a:rPr>
              <a:t>Если переместить нижний желудь строго по вертикали вверх на 9 единиц, то он совпадет с верхним желуд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6">
            <a:hlinkClick r:id="" action="ppaction://hlinkshowjump?jump=nextslide"/>
          </p:cNvPr>
          <p:cNvSpPr/>
          <p:nvPr/>
        </p:nvSpPr>
        <p:spPr>
          <a:xfrm>
            <a:off x="7164360" y="5877000"/>
            <a:ext cx="1079640" cy="288720"/>
          </a:xfrm>
          <a:custGeom>
            <a:avLst/>
            <a:gdLst>
              <a:gd name="textAreaLeft" fmla="*/ 18720 w 1079640"/>
              <a:gd name="textAreaRight" fmla="*/ 1060920 w 1079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80697" h="21600">
                <a:moveTo>
                  <a:pt x="0" y="0"/>
                </a:moveTo>
                <a:lnTo>
                  <a:pt x="80697" y="0"/>
                </a:lnTo>
                <a:lnTo>
                  <a:pt x="80697" y="21600"/>
                </a:lnTo>
                <a:lnTo>
                  <a:pt x="0" y="21600"/>
                </a:lnTo>
                <a:close/>
              </a:path>
              <a:path fill="lightenLess" w="80697" h="21600">
                <a:moveTo>
                  <a:pt x="0" y="0"/>
                </a:moveTo>
                <a:lnTo>
                  <a:pt x="80697" y="0"/>
                </a:lnTo>
                <a:lnTo>
                  <a:pt x="79297" y="1400"/>
                </a:lnTo>
                <a:lnTo>
                  <a:pt x="1400" y="1400"/>
                </a:lnTo>
                <a:close/>
              </a:path>
              <a:path fill="darken" w="80697" h="21600">
                <a:moveTo>
                  <a:pt x="80697" y="0"/>
                </a:moveTo>
                <a:lnTo>
                  <a:pt x="80697" y="21600"/>
                </a:lnTo>
                <a:lnTo>
                  <a:pt x="79297" y="20200"/>
                </a:lnTo>
                <a:lnTo>
                  <a:pt x="79297" y="1400"/>
                </a:lnTo>
                <a:close/>
              </a:path>
              <a:path fill="darkenLess" w="80697" h="21600">
                <a:moveTo>
                  <a:pt x="80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297" y="20200"/>
                </a:lnTo>
                <a:close/>
              </a:path>
              <a:path fill="lighten" w="80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697" h="21600">
                <a:moveTo>
                  <a:pt x="33342" y="3794"/>
                </a:moveTo>
                <a:lnTo>
                  <a:pt x="47355" y="10800"/>
                </a:lnTo>
                <a:lnTo>
                  <a:pt x="33342" y="17806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41"/>
          <p:cNvGrpSpPr/>
          <p:nvPr/>
        </p:nvGrpSpPr>
        <p:grpSpPr>
          <a:xfrm>
            <a:off x="1403280" y="3429000"/>
            <a:ext cx="576360" cy="957240"/>
            <a:chOff x="1403280" y="3429000"/>
            <a:chExt cx="576360" cy="957240"/>
          </a:xfrm>
        </p:grpSpPr>
        <p:sp>
          <p:nvSpPr>
            <p:cNvPr id="69" name="Freeform 39"/>
            <p:cNvSpPr/>
            <p:nvPr/>
          </p:nvSpPr>
          <p:spPr>
            <a:xfrm>
              <a:off x="1403280" y="342900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3" h="181">
                  <a:moveTo>
                    <a:pt x="182" y="0"/>
                  </a:moveTo>
                  <a:lnTo>
                    <a:pt x="272" y="0"/>
                  </a:lnTo>
                  <a:lnTo>
                    <a:pt x="363" y="91"/>
                  </a:lnTo>
                  <a:lnTo>
                    <a:pt x="363" y="181"/>
                  </a:lnTo>
                  <a:lnTo>
                    <a:pt x="0" y="181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40"/>
            <p:cNvSpPr/>
            <p:nvPr/>
          </p:nvSpPr>
          <p:spPr>
            <a:xfrm>
              <a:off x="1403280" y="3716280"/>
              <a:ext cx="576360" cy="669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63" h="422">
                  <a:moveTo>
                    <a:pt x="363" y="0"/>
                  </a:moveTo>
                  <a:lnTo>
                    <a:pt x="363" y="318"/>
                  </a:lnTo>
                  <a:lnTo>
                    <a:pt x="182" y="422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48"/>
          <p:cNvGrpSpPr/>
          <p:nvPr/>
        </p:nvGrpSpPr>
        <p:grpSpPr>
          <a:xfrm>
            <a:off x="1403280" y="4869000"/>
            <a:ext cx="576360" cy="957240"/>
            <a:chOff x="1403280" y="4869000"/>
            <a:chExt cx="576360" cy="957240"/>
          </a:xfrm>
        </p:grpSpPr>
        <p:sp>
          <p:nvSpPr>
            <p:cNvPr id="72" name="Freeform 44"/>
            <p:cNvSpPr/>
            <p:nvPr/>
          </p:nvSpPr>
          <p:spPr>
            <a:xfrm>
              <a:off x="1403280" y="5156280"/>
              <a:ext cx="576360" cy="6699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363" h="422">
                  <a:moveTo>
                    <a:pt x="363" y="0"/>
                  </a:moveTo>
                  <a:lnTo>
                    <a:pt x="363" y="318"/>
                  </a:lnTo>
                  <a:lnTo>
                    <a:pt x="182" y="422"/>
                  </a:lnTo>
                  <a:lnTo>
                    <a:pt x="0" y="317"/>
                  </a:lnTo>
                  <a:lnTo>
                    <a:pt x="0" y="0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46"/>
            <p:cNvSpPr/>
            <p:nvPr/>
          </p:nvSpPr>
          <p:spPr>
            <a:xfrm>
              <a:off x="1403280" y="4869000"/>
              <a:ext cx="576360" cy="144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91">
                  <a:moveTo>
                    <a:pt x="182" y="0"/>
                  </a:moveTo>
                  <a:lnTo>
                    <a:pt x="272" y="0"/>
                  </a:lnTo>
                  <a:lnTo>
                    <a:pt x="363" y="91"/>
                  </a:lnTo>
                  <a:lnTo>
                    <a:pt x="0" y="91"/>
                  </a:lnTo>
                  <a:lnTo>
                    <a:pt x="91" y="0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47"/>
            <p:cNvSpPr/>
            <p:nvPr/>
          </p:nvSpPr>
          <p:spPr>
            <a:xfrm>
              <a:off x="1403280" y="5013360"/>
              <a:ext cx="576360" cy="14436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91">
                  <a:moveTo>
                    <a:pt x="0" y="0"/>
                  </a:moveTo>
                  <a:lnTo>
                    <a:pt x="363" y="0"/>
                  </a:lnTo>
                  <a:lnTo>
                    <a:pt x="363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31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32" dur="2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40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41" dur="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-3.61111E-006 0.20995 E">
                                      <p:cBhvr>
                                        <p:cTn id="52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.20995 L 0.00017 0.00393 E"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-3.61111E-006 -0.20995 E">
                                      <p:cBhvr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20602 L 0.00017 0.00393 E">
                                      <p:cBhvr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6" name="Picture 5" descr="желудь"/>
          <p:cNvPicPr/>
          <p:nvPr/>
        </p:nvPicPr>
        <p:blipFill>
          <a:blip r:embed="rId1"/>
          <a:stretch/>
        </p:blipFill>
        <p:spPr>
          <a:xfrm>
            <a:off x="539640" y="549360"/>
            <a:ext cx="801072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468360" y="404640"/>
            <a:ext cx="1819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ум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55640" y="4149720"/>
            <a:ext cx="7777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заимосвязаны координаты точек изображений верхнего и нижнего желуде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на некоторое число единиц вверх по вертика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изменятся координаты точек фигуры, если переместить эту фигуру на некоторое число единиц вниз по вертикали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1692360" y="1700280"/>
            <a:ext cx="215640" cy="1441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6112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един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11280" y="558720"/>
            <a:ext cx="792144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ная, как изменяются координаты точек при перемещении по координатной плоскости по вертикали можно записывать координаты перемещенных фигур, не прибегая к их изображениям. Для этого необходимо зн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ординаты исходной фиг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е перемещения вверх или вниз, при этом надо помнить, что если перемещение выполняется вверх, то ордината увеличивается, если вниз – уменьш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исло единиц, на которое выполняется перемещение. Перемещение можно задавать положительными (вверх), отрицательными (вниз) числ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3:52:53Z</dcterms:created>
  <dc:creator>учитель</dc:creator>
  <dc:description/>
  <dc:language>en-US</dc:language>
  <cp:lastModifiedBy>Юрий</cp:lastModifiedBy>
  <dcterms:modified xsi:type="dcterms:W3CDTF">2013-02-14T08:02:53Z</dcterms:modified>
  <cp:revision>22</cp:revision>
  <dc:subject/>
  <dc:title>Слайд 1</dc:title>
</cp:coreProperties>
</file>