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5F8D-8DE2-4A48-B774-5DD1BE28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2605-F39A-4D5C-919C-0FA68B03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164A-58D5-468E-9055-5D6FD7D3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0529-9770-460D-B46E-8368665C3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6A52-E826-46BE-8F60-C1848F09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523E-149B-4C24-9A1F-59680830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EC85-12BC-4BB3-AFFC-CDF7CE8F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D4F8-E3B3-4861-8697-7250B87E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3580-B68B-400A-90DF-BA56A9B4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6225-F7C5-4815-9591-434B0C0D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787C-8A53-4F14-AB0B-8CA1B5E2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4467-4847-463C-BAEE-3505DE6C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6CCB-7E04-445F-B22C-F9655F18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9773-5A2D-44CD-B32E-CEB0F0BD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B577-51ED-47C8-942A-E7F93ADC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935C-FC32-4ACF-B20F-39A0BC13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E5AB-07CE-4843-AFDA-116C9FA84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802A-3FDD-4D92-BE7E-0233AB88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6886-0112-471C-A3D3-2C2D8AA6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E3C8-21BA-44E5-BED1-202F143D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06D2-3D02-494D-8469-D6D85E37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F6CF-A6A4-4362-8EAC-AC8470CD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F1C4-1849-4D6B-AA7C-880D9498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C7FB-B1A4-4AD1-8CFC-68EB84A1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ad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1C56-AD92-43C9-99BC-BBA8C3E7CF3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ad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8811-E45B-4074-8E8B-90033C3D86F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0" descr="чистый"/>
          <p:cNvPicPr/>
          <p:nvPr/>
        </p:nvPicPr>
        <p:blipFill>
          <a:blip r:embed="rId1"/>
          <a:stretch/>
        </p:blipFill>
        <p:spPr>
          <a:xfrm>
            <a:off x="457200" y="2057400"/>
            <a:ext cx="5257800" cy="4108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2"/>
          <a:stretch/>
        </p:blipFill>
        <p:spPr>
          <a:xfrm>
            <a:off x="1295280" y="2057400"/>
            <a:ext cx="1105200" cy="1971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"/>
          <p:cNvPicPr/>
          <p:nvPr/>
        </p:nvPicPr>
        <p:blipFill>
          <a:blip r:embed="rId3"/>
          <a:stretch/>
        </p:blipFill>
        <p:spPr>
          <a:xfrm>
            <a:off x="914400" y="4114800"/>
            <a:ext cx="1876320" cy="1990800"/>
          </a:xfrm>
          <a:prstGeom prst="rect">
            <a:avLst/>
          </a:prstGeom>
          <a:ln w="0">
            <a:noFill/>
          </a:ln>
        </p:spPr>
      </p:pic>
      <p:sp>
        <p:nvSpPr>
          <p:cNvPr id="215" name="WordArt 12"/>
          <p:cNvSpPr txBox="1"/>
          <p:nvPr/>
        </p:nvSpPr>
        <p:spPr>
          <a:xfrm>
            <a:off x="1981080" y="762120"/>
            <a:ext cx="52675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4700"/>
                    </a:gs>
                    <a:gs pos="100000">
                      <a:srgbClr val="66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еремещение фигур на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2f4700"/>
                  </a:gs>
                  <a:gs pos="100000">
                    <a:srgbClr val="6699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4700"/>
                    </a:gs>
                    <a:gs pos="100000">
                      <a:srgbClr val="66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оординатной плоскост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2f4700"/>
                  </a:gs>
                  <a:gs pos="100000">
                    <a:srgbClr val="6699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6" name="WordArt 15"/>
          <p:cNvSpPr txBox="1"/>
          <p:nvPr/>
        </p:nvSpPr>
        <p:spPr>
          <a:xfrm rot="20634600">
            <a:off x="5486400" y="2133720"/>
            <a:ext cx="34243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5e4700"/>
                    </a:gs>
                  </a:gsLst>
                  <a:lin ang="6366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еремещение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5e4700"/>
                  </a:gs>
                </a:gsLst>
                <a:lin ang="6366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5e4700"/>
                    </a:gs>
                  </a:gsLst>
                  <a:lin ang="6366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5e4700"/>
                  </a:gs>
                </a:gsLst>
                <a:lin ang="6366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5e4700"/>
                    </a:gs>
                  </a:gsLst>
                  <a:lin ang="6366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извольном направлении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5e4700"/>
                  </a:gs>
                </a:gsLst>
                <a:lin ang="6366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7" name="Line 16"/>
          <p:cNvSpPr/>
          <p:nvPr/>
        </p:nvSpPr>
        <p:spPr>
          <a:xfrm>
            <a:off x="533520" y="4038480"/>
            <a:ext cx="5181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7"/>
          <p:cNvSpPr/>
          <p:nvPr/>
        </p:nvSpPr>
        <p:spPr>
          <a:xfrm flipV="1">
            <a:off x="3200400" y="2057400"/>
            <a:ext cx="0" cy="4038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8">
            <a:hlinkClick r:id="" action="ppaction://hlinkshowjump?jump=nextslide"/>
          </p:cNvPr>
          <p:cNvSpPr/>
          <p:nvPr/>
        </p:nvSpPr>
        <p:spPr>
          <a:xfrm>
            <a:off x="7238880" y="5867280"/>
            <a:ext cx="1067040" cy="304920"/>
          </a:xfrm>
          <a:custGeom>
            <a:avLst/>
            <a:gdLst>
              <a:gd name="textAreaLeft" fmla="*/ 19440 w 1067040"/>
              <a:gd name="textAreaRight" fmla="*/ 1047600 w 10670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75524" h="21600">
                <a:moveTo>
                  <a:pt x="0" y="0"/>
                </a:moveTo>
                <a:lnTo>
                  <a:pt x="75524" y="0"/>
                </a:lnTo>
                <a:lnTo>
                  <a:pt x="75524" y="21600"/>
                </a:lnTo>
                <a:lnTo>
                  <a:pt x="0" y="21600"/>
                </a:lnTo>
                <a:close/>
              </a:path>
              <a:path fill="lightenLess" w="75524" h="21600">
                <a:moveTo>
                  <a:pt x="0" y="0"/>
                </a:moveTo>
                <a:lnTo>
                  <a:pt x="75524" y="0"/>
                </a:lnTo>
                <a:lnTo>
                  <a:pt x="74124" y="1400"/>
                </a:lnTo>
                <a:lnTo>
                  <a:pt x="1400" y="1400"/>
                </a:lnTo>
                <a:close/>
              </a:path>
              <a:path fill="darken" w="75524" h="21600">
                <a:moveTo>
                  <a:pt x="75524" y="0"/>
                </a:moveTo>
                <a:lnTo>
                  <a:pt x="75524" y="21600"/>
                </a:lnTo>
                <a:lnTo>
                  <a:pt x="74124" y="20200"/>
                </a:lnTo>
                <a:lnTo>
                  <a:pt x="74124" y="1400"/>
                </a:lnTo>
                <a:close/>
              </a:path>
              <a:path fill="darkenLess" w="75524" h="21600">
                <a:moveTo>
                  <a:pt x="75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24" y="20200"/>
                </a:lnTo>
                <a:close/>
              </a:path>
              <a:path fill="lighten" w="75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24" h="21600">
                <a:moveTo>
                  <a:pt x="30755" y="3794"/>
                </a:moveTo>
                <a:lnTo>
                  <a:pt x="44768" y="10800"/>
                </a:lnTo>
                <a:lnTo>
                  <a:pt x="30755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0.08952 L -0.00208 0.28938 E">
                                      <p:cBhvr>
                                        <p:cTn id="9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6.03747E-006 L 0.30834 -6.03747E-006 E">
                                      <p:cBhvr>
                                        <p:cTn id="18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5" descr=""/>
          <p:cNvPicPr/>
          <p:nvPr/>
        </p:nvPicPr>
        <p:blipFill>
          <a:blip r:embed="rId1"/>
          <a:stretch/>
        </p:blipFill>
        <p:spPr>
          <a:xfrm>
            <a:off x="0" y="1676520"/>
            <a:ext cx="6637320" cy="48574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914400" y="228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рисунке изображен ландыш, у которого четыре цветка. Изображения второго и четвертого цветков совершенно одинако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762120" y="8380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третий цветок переместить на 6 единиц вниз строго по вертикали и 6 единиц влево строго по горизонтали, то он в точности совпадет с пер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7010280" y="1905120"/>
            <a:ext cx="1905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первый цветок переместить на 6 единиц вправо строго по горизонтали и 6 единиц вверх строго по вертикали, то он совпадет с третьим цве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4">
            <a:hlinkClick r:id="" action="ppaction://hlinkshowjump?jump=nextslide"/>
          </p:cNvPr>
          <p:cNvSpPr/>
          <p:nvPr/>
        </p:nvSpPr>
        <p:spPr>
          <a:xfrm>
            <a:off x="7315200" y="6019920"/>
            <a:ext cx="1066680" cy="304560"/>
          </a:xfrm>
          <a:custGeom>
            <a:avLst/>
            <a:gdLst>
              <a:gd name="textAreaLeft" fmla="*/ 19440 w 1066680"/>
              <a:gd name="textAreaRight" fmla="*/ 1047240 w 10666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75587" h="21600">
                <a:moveTo>
                  <a:pt x="0" y="0"/>
                </a:moveTo>
                <a:lnTo>
                  <a:pt x="75587" y="0"/>
                </a:lnTo>
                <a:lnTo>
                  <a:pt x="75587" y="21600"/>
                </a:lnTo>
                <a:lnTo>
                  <a:pt x="0" y="21600"/>
                </a:lnTo>
                <a:close/>
              </a:path>
              <a:path fill="lightenLess" w="75587" h="21600">
                <a:moveTo>
                  <a:pt x="0" y="0"/>
                </a:moveTo>
                <a:lnTo>
                  <a:pt x="75587" y="0"/>
                </a:lnTo>
                <a:lnTo>
                  <a:pt x="74187" y="1400"/>
                </a:lnTo>
                <a:lnTo>
                  <a:pt x="1400" y="1400"/>
                </a:lnTo>
                <a:close/>
              </a:path>
              <a:path fill="darken" w="75587" h="21600">
                <a:moveTo>
                  <a:pt x="75587" y="0"/>
                </a:moveTo>
                <a:lnTo>
                  <a:pt x="75587" y="21600"/>
                </a:lnTo>
                <a:lnTo>
                  <a:pt x="74187" y="20200"/>
                </a:lnTo>
                <a:lnTo>
                  <a:pt x="74187" y="1400"/>
                </a:lnTo>
                <a:close/>
              </a:path>
              <a:path fill="darkenLess" w="75587" h="21600">
                <a:moveTo>
                  <a:pt x="75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87" y="20200"/>
                </a:lnTo>
                <a:close/>
              </a:path>
              <a:path fill="lighten" w="75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87" h="21600">
                <a:moveTo>
                  <a:pt x="30787" y="3794"/>
                </a:moveTo>
                <a:lnTo>
                  <a:pt x="44800" y="10800"/>
                </a:lnTo>
                <a:lnTo>
                  <a:pt x="30787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7"/>
          <p:cNvSpPr/>
          <p:nvPr/>
        </p:nvSpPr>
        <p:spPr>
          <a:xfrm>
            <a:off x="4267080" y="2438280"/>
            <a:ext cx="762120" cy="762120"/>
          </a:xfrm>
          <a:custGeom>
            <a:avLst/>
            <a:gdLst>
              <a:gd name="textAreaLeft" fmla="*/ 0 w 762120"/>
              <a:gd name="textAreaRight" fmla="*/ 762480 w 7621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480" h="480">
                <a:moveTo>
                  <a:pt x="240" y="0"/>
                </a:moveTo>
                <a:lnTo>
                  <a:pt x="336" y="55"/>
                </a:lnTo>
                <a:lnTo>
                  <a:pt x="480" y="384"/>
                </a:lnTo>
                <a:lnTo>
                  <a:pt x="336" y="300"/>
                </a:lnTo>
                <a:lnTo>
                  <a:pt x="232" y="480"/>
                </a:lnTo>
                <a:lnTo>
                  <a:pt x="144" y="288"/>
                </a:lnTo>
                <a:lnTo>
                  <a:pt x="0" y="384"/>
                </a:lnTo>
                <a:lnTo>
                  <a:pt x="96" y="96"/>
                </a:lnTo>
                <a:lnTo>
                  <a:pt x="192" y="0"/>
                </a:lnTo>
                <a:lnTo>
                  <a:pt x="240" y="0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8"/>
          <p:cNvSpPr/>
          <p:nvPr/>
        </p:nvSpPr>
        <p:spPr>
          <a:xfrm>
            <a:off x="3048120" y="3429000"/>
            <a:ext cx="761760" cy="762120"/>
          </a:xfrm>
          <a:custGeom>
            <a:avLst/>
            <a:gdLst>
              <a:gd name="textAreaLeft" fmla="*/ 0 w 761760"/>
              <a:gd name="textAreaRight" fmla="*/ 762120 w 7617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480" h="480">
                <a:moveTo>
                  <a:pt x="240" y="0"/>
                </a:moveTo>
                <a:lnTo>
                  <a:pt x="336" y="55"/>
                </a:lnTo>
                <a:lnTo>
                  <a:pt x="480" y="384"/>
                </a:lnTo>
                <a:lnTo>
                  <a:pt x="336" y="300"/>
                </a:lnTo>
                <a:lnTo>
                  <a:pt x="232" y="480"/>
                </a:lnTo>
                <a:lnTo>
                  <a:pt x="144" y="288"/>
                </a:lnTo>
                <a:lnTo>
                  <a:pt x="0" y="384"/>
                </a:lnTo>
                <a:lnTo>
                  <a:pt x="96" y="96"/>
                </a:lnTo>
                <a:lnTo>
                  <a:pt x="192" y="0"/>
                </a:lnTo>
                <a:lnTo>
                  <a:pt x="240" y="0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556E-006 L -3.33333E-006 0.14445 E">
                                      <p:cBhvr>
                                        <p:cTn id="35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4445 L -0.13333 0.14445 E">
                                      <p:cBhvr>
                                        <p:cTn id="38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33 0.14445 L -3.33333E-006 0.14445 E">
                                      <p:cBhvr>
                                        <p:cTn id="41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4445 L -3.33333E-006 -1.11111E-006 E">
                                      <p:cBhvr>
                                        <p:cTn id="44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0.14166 -4.44444E-006 E">
                                      <p:cBhvr>
                                        <p:cTn id="51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33 4.44444E-006 L 0.13333 -0.14445 E">
                                      <p:cBhvr>
                                        <p:cTn id="54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8000"/>
                            </p:stCondLst>
                            <p:childTnLst>
                              <p:par>
                                <p:cTn id="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33 -0.14445 L 0.13333 4.44444E-006 E">
                                      <p:cBhvr>
                                        <p:cTn id="57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33 4.44444E-006 L 5.55112E-017 4.44444E-006 E">
                                      <p:cBhvr>
                                        <p:cTn id="60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2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08920" cy="4248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6"/>
          <p:cNvSpPr/>
          <p:nvPr/>
        </p:nvSpPr>
        <p:spPr>
          <a:xfrm>
            <a:off x="609480" y="4800600"/>
            <a:ext cx="7772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взаимосвязаны координаты первого и третьего цветка ландыш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изменятся координаты точек фигуры, если переместить эту фигуру в произвольном направлении по горизонтали и вертикали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7"/>
          <p:cNvSpPr/>
          <p:nvPr/>
        </p:nvSpPr>
        <p:spPr>
          <a:xfrm>
            <a:off x="6400800" y="1066680"/>
            <a:ext cx="152280" cy="304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8"/>
          <p:cNvSpPr txBox="1"/>
          <p:nvPr/>
        </p:nvSpPr>
        <p:spPr>
          <a:xfrm>
            <a:off x="762120" y="533520"/>
            <a:ext cx="181908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50000">
                      <a:srgbClr val="003b00"/>
                    </a:gs>
                    <a:gs pos="100000">
                      <a:srgbClr val="008000"/>
                    </a:gs>
                  </a:gsLst>
                  <a:lin ang="5400000"/>
                </a:gradFill>
                <a:latin typeface="Arial"/>
              </a:rPr>
              <a:t>подума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50000">
                    <a:srgbClr val="003b00"/>
                  </a:gs>
                  <a:gs pos="100000">
                    <a:srgbClr val="008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762120" y="533520"/>
            <a:ext cx="7543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ная, как изменяются координаты точек при перемещении по координатной плоскости в произвольном направлении  по горизонтали и вертикали можно записывать координаты перемещенных фигур, не прибегая к их изображениям. Для этого необходимо зн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ординаты исходной фиг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правление перемещения вправо или влево, вверх или вниз, при этом надо помнить, что если перемещение выполняется вправо или вверх, то абсцисса и ордината соответственно, увеличиваются, если влево и вниз - уменьшаю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. Число единиц, на которое выполняется перемещение. Перемещение можно задавать положительными (вправо, вверх), отрицательными (влево, вниз) чис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Юрий</dc:creator>
  <dc:description/>
  <dc:language>en-US</dc:language>
  <cp:lastModifiedBy>Юрий</cp:lastModifiedBy>
  <dcterms:modified xsi:type="dcterms:W3CDTF">2013-02-14T08:04:1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