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заготовка"/>
          <p:cNvPicPr/>
          <p:nvPr/>
        </p:nvPicPr>
        <p:blipFill>
          <a:blip r:embed="rId1"/>
          <a:srcRect l="1488" t="1837" r="535" b="1837"/>
          <a:stretch/>
        </p:blipFill>
        <p:spPr>
          <a:xfrm>
            <a:off x="609480" y="304920"/>
            <a:ext cx="7848720" cy="6248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240048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1600200" y="1295280"/>
            <a:ext cx="2400480" cy="1619280"/>
          </a:xfrm>
          <a:prstGeom prst="rect">
            <a:avLst/>
          </a:prstGeom>
          <a:ln w="0">
            <a:noFill/>
          </a:ln>
        </p:spPr>
      </p:pic>
      <p:sp>
        <p:nvSpPr>
          <p:cNvPr id="60" name="WordArt 7"/>
          <p:cNvSpPr txBox="1"/>
          <p:nvPr/>
        </p:nvSpPr>
        <p:spPr>
          <a:xfrm>
            <a:off x="914400" y="4114800"/>
            <a:ext cx="74296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зворот изображений в координатах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AutoShape 8">
            <a:hlinkClick r:id="" action="ppaction://hlinkshowjump?jump=nextslide"/>
          </p:cNvPr>
          <p:cNvSpPr/>
          <p:nvPr/>
        </p:nvSpPr>
        <p:spPr>
          <a:xfrm>
            <a:off x="6781680" y="58672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517" t="0" r="0" b="44141"/>
          <a:stretch/>
        </p:blipFill>
        <p:spPr>
          <a:xfrm>
            <a:off x="609480" y="533520"/>
            <a:ext cx="7967880" cy="3622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305160" cy="3019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609480" y="4419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исунке изображен парусник. Он размещен в некоторой части координатной плоскости и ориентирован слева – направо по горизон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162920" y="58672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rcRect l="517" t="0" r="0" b="44141"/>
          <a:stretch/>
        </p:blipFill>
        <p:spPr>
          <a:xfrm>
            <a:off x="457200" y="457200"/>
            <a:ext cx="7967520" cy="3622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533520" y="41148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15"/>
          <p:cNvSpPr txBox="1"/>
          <p:nvPr/>
        </p:nvSpPr>
        <p:spPr>
          <a:xfrm>
            <a:off x="4495680" y="76320"/>
            <a:ext cx="1819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09480" y="42670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можно развернуть парусник в том же самом месте, но ориентировать его в обратную сторону справа - налево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33520" y="4952880"/>
            <a:ext cx="7619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это можно сделать, используя перемещение вправо – влево и симметричное отображение от оси ордина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914400" y="60958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04920" y="5638680"/>
            <a:ext cx="78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исходного изображения при его развороте на мет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1">
            <a:hlinkClick r:id="" action="ppaction://hlinkshowjump?jump=nextslide"/>
          </p:cNvPr>
          <p:cNvSpPr/>
          <p:nvPr/>
        </p:nvSpPr>
        <p:spPr>
          <a:xfrm>
            <a:off x="7391520" y="6095880"/>
            <a:ext cx="1143000" cy="304920"/>
          </a:xfrm>
          <a:custGeom>
            <a:avLst/>
            <a:gdLst>
              <a:gd name="textAreaLeft" fmla="*/ 19440 w 1143000"/>
              <a:gd name="textAreaRight" fmla="*/ 1123560 w 11430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80898" h="21600">
                <a:moveTo>
                  <a:pt x="0" y="0"/>
                </a:moveTo>
                <a:lnTo>
                  <a:pt x="80898" y="0"/>
                </a:lnTo>
                <a:lnTo>
                  <a:pt x="80898" y="21600"/>
                </a:lnTo>
                <a:lnTo>
                  <a:pt x="0" y="21600"/>
                </a:lnTo>
                <a:close/>
              </a:path>
              <a:path fill="lightenLess" w="80898" h="21600">
                <a:moveTo>
                  <a:pt x="0" y="0"/>
                </a:moveTo>
                <a:lnTo>
                  <a:pt x="80898" y="0"/>
                </a:lnTo>
                <a:lnTo>
                  <a:pt x="79498" y="1400"/>
                </a:lnTo>
                <a:lnTo>
                  <a:pt x="1400" y="1400"/>
                </a:lnTo>
                <a:close/>
              </a:path>
              <a:path fill="darken" w="80898" h="21600">
                <a:moveTo>
                  <a:pt x="80898" y="0"/>
                </a:moveTo>
                <a:lnTo>
                  <a:pt x="80898" y="21600"/>
                </a:lnTo>
                <a:lnTo>
                  <a:pt x="79498" y="20200"/>
                </a:lnTo>
                <a:lnTo>
                  <a:pt x="79498" y="1400"/>
                </a:lnTo>
                <a:close/>
              </a:path>
              <a:path fill="darkenLess" w="80898" h="21600">
                <a:moveTo>
                  <a:pt x="80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98" y="20200"/>
                </a:lnTo>
                <a:close/>
              </a:path>
              <a:path fill="lighten" w="80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98" h="21600">
                <a:moveTo>
                  <a:pt x="33443" y="3794"/>
                </a:moveTo>
                <a:lnTo>
                  <a:pt x="47456" y="10800"/>
                </a:lnTo>
                <a:lnTo>
                  <a:pt x="33443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9"/>
          <p:cNvGrpSpPr/>
          <p:nvPr/>
        </p:nvGrpSpPr>
        <p:grpSpPr>
          <a:xfrm>
            <a:off x="614520" y="614520"/>
            <a:ext cx="2995560" cy="2757240"/>
            <a:chOff x="614520" y="614520"/>
            <a:chExt cx="2995560" cy="2757240"/>
          </a:xfrm>
        </p:grpSpPr>
        <p:sp>
          <p:nvSpPr>
            <p:cNvPr id="75" name="Freeform 24"/>
            <p:cNvSpPr/>
            <p:nvPr/>
          </p:nvSpPr>
          <p:spPr>
            <a:xfrm>
              <a:off x="619200" y="614520"/>
              <a:ext cx="609480" cy="22618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61880"/>
                <a:gd name="textAreaBottom" fmla="*/ 2262240 h 2261880"/>
              </a:gdLst>
              <a:ahLst/>
              <a:rect l="textAreaLeft" t="textAreaTop" r="textAreaRight" b="textAreaBottom"/>
              <a:pathLst>
                <a:path w="384" h="1425">
                  <a:moveTo>
                    <a:pt x="384" y="1425"/>
                  </a:move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28"/>
            <p:cNvGrpSpPr/>
            <p:nvPr/>
          </p:nvGrpSpPr>
          <p:grpSpPr>
            <a:xfrm>
              <a:off x="614520" y="614520"/>
              <a:ext cx="2995560" cy="2757240"/>
              <a:chOff x="614520" y="614520"/>
              <a:chExt cx="2995560" cy="2757240"/>
            </a:xfrm>
          </p:grpSpPr>
          <p:sp>
            <p:nvSpPr>
              <p:cNvPr id="77" name="Freeform 23"/>
              <p:cNvSpPr/>
              <p:nvPr/>
            </p:nvSpPr>
            <p:spPr>
              <a:xfrm>
                <a:off x="614520" y="2886120"/>
                <a:ext cx="2995560" cy="485640"/>
              </a:xfrm>
              <a:custGeom>
                <a:avLst/>
                <a:gdLst>
                  <a:gd name="textAreaLeft" fmla="*/ 0 w 2995560"/>
                  <a:gd name="textAreaRight" fmla="*/ 2995920 w 299556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887" h="306">
                    <a:moveTo>
                      <a:pt x="1887" y="6"/>
                    </a:moveTo>
                    <a:lnTo>
                      <a:pt x="1635" y="303"/>
                    </a:lnTo>
                    <a:lnTo>
                      <a:pt x="264" y="306"/>
                    </a:lnTo>
                    <a:lnTo>
                      <a:pt x="0" y="6"/>
                    </a:lnTo>
                    <a:lnTo>
                      <a:pt x="642" y="0"/>
                    </a:lnTo>
                    <a:lnTo>
                      <a:pt x="1887" y="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623880" y="614520"/>
                <a:ext cx="809640" cy="27144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510" h="171">
                    <a:moveTo>
                      <a:pt x="0" y="0"/>
                    </a:moveTo>
                    <a:lnTo>
                      <a:pt x="510" y="102"/>
                    </a:lnTo>
                    <a:lnTo>
                      <a:pt x="54" y="1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Freeform 26"/>
            <p:cNvSpPr/>
            <p:nvPr/>
          </p:nvSpPr>
          <p:spPr>
            <a:xfrm>
              <a:off x="685800" y="905040"/>
              <a:ext cx="2328840" cy="1981080"/>
            </a:xfrm>
            <a:custGeom>
              <a:avLst/>
              <a:gdLst>
                <a:gd name="textAreaLeft" fmla="*/ 0 w 2328840"/>
                <a:gd name="textAreaRight" fmla="*/ 2328840 w 232884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1467" h="1248">
                  <a:moveTo>
                    <a:pt x="0" y="6"/>
                  </a:moveTo>
                  <a:lnTo>
                    <a:pt x="21" y="0"/>
                  </a:lnTo>
                  <a:lnTo>
                    <a:pt x="1272" y="207"/>
                  </a:lnTo>
                  <a:lnTo>
                    <a:pt x="1467" y="852"/>
                  </a:lnTo>
                  <a:lnTo>
                    <a:pt x="1302" y="1002"/>
                  </a:lnTo>
                  <a:lnTo>
                    <a:pt x="1239" y="1050"/>
                  </a:lnTo>
                  <a:lnTo>
                    <a:pt x="342" y="1248"/>
                  </a:lnTo>
                  <a:lnTo>
                    <a:pt x="621" y="963"/>
                  </a:lnTo>
                  <a:lnTo>
                    <a:pt x="669" y="720"/>
                  </a:lnTo>
                  <a:lnTo>
                    <a:pt x="624" y="633"/>
                  </a:lnTo>
                  <a:lnTo>
                    <a:pt x="462" y="43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42"/>
          <p:cNvGrpSpPr/>
          <p:nvPr/>
        </p:nvGrpSpPr>
        <p:grpSpPr>
          <a:xfrm>
            <a:off x="4800240" y="609480"/>
            <a:ext cx="2995560" cy="2757240"/>
            <a:chOff x="4800240" y="609480"/>
            <a:chExt cx="2995560" cy="2757240"/>
          </a:xfrm>
        </p:grpSpPr>
        <p:sp>
          <p:nvSpPr>
            <p:cNvPr id="81" name="Freeform 37"/>
            <p:cNvSpPr/>
            <p:nvPr/>
          </p:nvSpPr>
          <p:spPr>
            <a:xfrm flipH="1">
              <a:off x="7181280" y="609480"/>
              <a:ext cx="609480" cy="226224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2262240"/>
                <a:gd name="textAreaBottom" fmla="*/ 2262600 h 2262240"/>
              </a:gdLst>
              <a:ahLst/>
              <a:rect l="textAreaLeft" t="textAreaTop" r="textAreaRight" b="textAreaBottom"/>
              <a:pathLst>
                <a:path w="384" h="1425">
                  <a:moveTo>
                    <a:pt x="384" y="1425"/>
                  </a:move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38"/>
            <p:cNvGrpSpPr/>
            <p:nvPr/>
          </p:nvGrpSpPr>
          <p:grpSpPr>
            <a:xfrm>
              <a:off x="4800240" y="609480"/>
              <a:ext cx="2995560" cy="2757240"/>
              <a:chOff x="4800240" y="609480"/>
              <a:chExt cx="2995560" cy="2757240"/>
            </a:xfrm>
          </p:grpSpPr>
          <p:sp>
            <p:nvSpPr>
              <p:cNvPr id="83" name="Freeform 39"/>
              <p:cNvSpPr/>
              <p:nvPr/>
            </p:nvSpPr>
            <p:spPr>
              <a:xfrm flipH="1">
                <a:off x="4799880" y="2881080"/>
                <a:ext cx="2995560" cy="485640"/>
              </a:xfrm>
              <a:custGeom>
                <a:avLst/>
                <a:gdLst>
                  <a:gd name="textAreaLeft" fmla="*/ -360 w 2995560"/>
                  <a:gd name="textAreaRight" fmla="*/ 2995560 w 299556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1887" h="306">
                    <a:moveTo>
                      <a:pt x="1887" y="6"/>
                    </a:moveTo>
                    <a:lnTo>
                      <a:pt x="1635" y="303"/>
                    </a:lnTo>
                    <a:lnTo>
                      <a:pt x="264" y="306"/>
                    </a:lnTo>
                    <a:lnTo>
                      <a:pt x="0" y="6"/>
                    </a:lnTo>
                    <a:lnTo>
                      <a:pt x="642" y="0"/>
                    </a:lnTo>
                    <a:lnTo>
                      <a:pt x="1887" y="6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40"/>
              <p:cNvSpPr/>
              <p:nvPr/>
            </p:nvSpPr>
            <p:spPr>
              <a:xfrm flipH="1">
                <a:off x="6976440" y="609480"/>
                <a:ext cx="809640" cy="271440"/>
              </a:xfrm>
              <a:custGeom>
                <a:avLst/>
                <a:gdLst>
                  <a:gd name="textAreaLeft" fmla="*/ -360 w 809640"/>
                  <a:gd name="textAreaRight" fmla="*/ 809640 w 80964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510" h="171">
                    <a:moveTo>
                      <a:pt x="0" y="0"/>
                    </a:moveTo>
                    <a:lnTo>
                      <a:pt x="510" y="102"/>
                    </a:lnTo>
                    <a:lnTo>
                      <a:pt x="54" y="1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41"/>
            <p:cNvSpPr/>
            <p:nvPr/>
          </p:nvSpPr>
          <p:spPr>
            <a:xfrm flipH="1">
              <a:off x="5395320" y="900000"/>
              <a:ext cx="2328840" cy="1981440"/>
            </a:xfrm>
            <a:custGeom>
              <a:avLst/>
              <a:gdLst>
                <a:gd name="textAreaLeft" fmla="*/ 0 w 2328840"/>
                <a:gd name="textAreaRight" fmla="*/ 2328840 w 2328840"/>
                <a:gd name="textAreaTop" fmla="*/ 0 h 1981440"/>
                <a:gd name="textAreaBottom" fmla="*/ 1981800 h 1981440"/>
              </a:gdLst>
              <a:ahLst/>
              <a:rect l="textAreaLeft" t="textAreaTop" r="textAreaRight" b="textAreaBottom"/>
              <a:pathLst>
                <a:path w="1467" h="1248">
                  <a:moveTo>
                    <a:pt x="0" y="6"/>
                  </a:moveTo>
                  <a:lnTo>
                    <a:pt x="21" y="0"/>
                  </a:lnTo>
                  <a:lnTo>
                    <a:pt x="1272" y="207"/>
                  </a:lnTo>
                  <a:lnTo>
                    <a:pt x="1467" y="852"/>
                  </a:lnTo>
                  <a:lnTo>
                    <a:pt x="1302" y="1002"/>
                  </a:lnTo>
                  <a:lnTo>
                    <a:pt x="1239" y="1050"/>
                  </a:lnTo>
                  <a:lnTo>
                    <a:pt x="342" y="1248"/>
                  </a:lnTo>
                  <a:lnTo>
                    <a:pt x="621" y="963"/>
                  </a:lnTo>
                  <a:lnTo>
                    <a:pt x="669" y="720"/>
                  </a:lnTo>
                  <a:lnTo>
                    <a:pt x="624" y="633"/>
                  </a:lnTo>
                  <a:lnTo>
                    <a:pt x="462" y="43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2.96296E-006 L 0.45834 -2.96296E-006 E">
                                      <p:cBhvr>
                                        <p:cTn id="41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0.00069 L -0.46319 -0.00023 E">
                                      <p:cBhvr>
                                        <p:cTn id="59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rcRect l="517" t="0" r="0" b="42964"/>
          <a:stretch/>
        </p:blipFill>
        <p:spPr>
          <a:xfrm>
            <a:off x="609480" y="457200"/>
            <a:ext cx="6019920" cy="2793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3429000" cy="2860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14"/>
          <p:cNvSpPr txBox="1"/>
          <p:nvPr/>
        </p:nvSpPr>
        <p:spPr>
          <a:xfrm>
            <a:off x="685800" y="3048120"/>
            <a:ext cx="1819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733920" y="30481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можно развернуть парусник в том же самом месте, но ориентировать его в обратную сторону справа - налево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733920" y="4038480"/>
            <a:ext cx="4647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это можно сделать, используя перемещение вправо – влево и симметричное отображение от оси ордина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352680" y="4952880"/>
            <a:ext cx="4496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исходного изображения при его развороте на мет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20"/>
          <p:cNvSpPr txBox="1"/>
          <p:nvPr/>
        </p:nvSpPr>
        <p:spPr>
          <a:xfrm>
            <a:off x="685800" y="3048120"/>
            <a:ext cx="1819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533520" y="1143000"/>
            <a:ext cx="7924680" cy="522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орот изображений в координатах можно получить выполнив два движения последовательно: симметрию относительно осей координат, в данном случае относительно оси ОУ и параллельный перенос, в данном случае вдоль оси ОХ, заданный формулами 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х + а,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у, где а  - число единиц, на которое было выполнено перемещ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, позволяющая вычислить значения координат развернутой фигуры будет иметь вид: 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'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- х + а, где х – абсцисса узловых точек исходной фигуры, а – число единиц, на которое было выполнено перемещение;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''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у, где у – ордината узловых точек исходной фиг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752480" y="609480"/>
            <a:ext cx="495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зультаты исслед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