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A5E-8559-41A1-BF00-9EF0F387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9FC-4DCF-442C-8C1B-A9040C5B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E46-D02C-49A3-98DF-3BA620C2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379-2F39-4D12-BAA5-B982C61E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4806-D637-494F-B347-59CC3C77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76B4-E3F5-4C75-BDF9-A4509D29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BF8F-340F-466A-8BA4-25E6BC7E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1498-9CDD-4871-B80F-D8A4581B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C2C5-606C-4B69-B0D9-1D26B112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E446-91B9-4CB3-8FE1-891843B4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C0A0-BE51-4387-888C-FB171ABF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DF5-213A-4E56-BBFB-39E97408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7340-66EC-4B17-8B42-BBC61AD3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3475-326A-4903-A0A3-CEBD93EC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84ED-585E-4153-9291-5E18329C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0E8D-39D1-4317-9215-5FA199E9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0F1D-4F90-4D6D-9C92-E39FCB6E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DF0-F7A6-4C58-9B28-C86B7140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089-7D7E-479C-9652-75DA781C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AD1-56AA-4738-8719-263B42B3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3165-0AFE-4AAF-B2E8-365A9CB9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8C1-CB98-4572-BC6B-0A356FA8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9AD-3616-4CA6-AF55-AEF8EC0F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3BD-5824-4579-9D98-3CD6AB09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352B-EF64-4F55-A2C5-5F3D239FB3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3C48-9B2E-4401-A700-CC6FAD8554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0" descr="чистый"/>
          <p:cNvPicPr/>
          <p:nvPr/>
        </p:nvPicPr>
        <p:blipFill>
          <a:blip r:embed="rId1"/>
          <a:stretch/>
        </p:blipFill>
        <p:spPr>
          <a:xfrm>
            <a:off x="457200" y="2057400"/>
            <a:ext cx="5257800" cy="4108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1105200" cy="1971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1876320" cy="1990800"/>
          </a:xfrm>
          <a:prstGeom prst="rect">
            <a:avLst/>
          </a:prstGeom>
          <a:ln w="0">
            <a:noFill/>
          </a:ln>
        </p:spPr>
      </p:pic>
      <p:sp>
        <p:nvSpPr>
          <p:cNvPr id="215" name="WordArt 12"/>
          <p:cNvSpPr txBox="1"/>
          <p:nvPr/>
        </p:nvSpPr>
        <p:spPr>
          <a:xfrm>
            <a:off x="1981080" y="762120"/>
            <a:ext cx="5267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47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ремещение фигур на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f47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47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ординатной плоско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2f47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6" name="WordArt 15"/>
          <p:cNvSpPr txBox="1"/>
          <p:nvPr/>
        </p:nvSpPr>
        <p:spPr>
          <a:xfrm rot="20634600">
            <a:off x="5486400" y="2133720"/>
            <a:ext cx="3424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емещение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5e4700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извольном направлени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636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533520" y="40384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 flipV="1">
            <a:off x="3200400" y="2057400"/>
            <a:ext cx="0" cy="4038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8">
            <a:hlinkClick r:id="" action="ppaction://hlinkshowjump?jump=nextslide"/>
          </p:cNvPr>
          <p:cNvSpPr/>
          <p:nvPr/>
        </p:nvSpPr>
        <p:spPr>
          <a:xfrm>
            <a:off x="7238880" y="5867280"/>
            <a:ext cx="1067040" cy="30492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5524" h="21600">
                <a:moveTo>
                  <a:pt x="0" y="0"/>
                </a:moveTo>
                <a:lnTo>
                  <a:pt x="75524" y="0"/>
                </a:lnTo>
                <a:lnTo>
                  <a:pt x="75524" y="21600"/>
                </a:lnTo>
                <a:lnTo>
                  <a:pt x="0" y="21600"/>
                </a:lnTo>
                <a:close/>
              </a:path>
              <a:path fill="lightenLess" w="75524" h="21600">
                <a:moveTo>
                  <a:pt x="0" y="0"/>
                </a:moveTo>
                <a:lnTo>
                  <a:pt x="75524" y="0"/>
                </a:lnTo>
                <a:lnTo>
                  <a:pt x="74124" y="1400"/>
                </a:lnTo>
                <a:lnTo>
                  <a:pt x="1400" y="1400"/>
                </a:lnTo>
                <a:close/>
              </a:path>
              <a:path fill="darken" w="75524" h="21600">
                <a:moveTo>
                  <a:pt x="75524" y="0"/>
                </a:moveTo>
                <a:lnTo>
                  <a:pt x="75524" y="21600"/>
                </a:lnTo>
                <a:lnTo>
                  <a:pt x="74124" y="20200"/>
                </a:lnTo>
                <a:lnTo>
                  <a:pt x="74124" y="1400"/>
                </a:lnTo>
                <a:close/>
              </a:path>
              <a:path fill="darkenLess" w="75524" h="21600">
                <a:moveTo>
                  <a:pt x="75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24" y="20200"/>
                </a:lnTo>
                <a:close/>
              </a:path>
              <a:path fill="lighten" w="75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24" h="21600">
                <a:moveTo>
                  <a:pt x="30755" y="3794"/>
                </a:moveTo>
                <a:lnTo>
                  <a:pt x="44768" y="10800"/>
                </a:lnTo>
                <a:lnTo>
                  <a:pt x="30755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8952 L -0.00208 0.28938 E">
                                      <p:cBhvr>
                                        <p:cTn id="9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6.03747E-006 L 0.30834 -6.03747E-006 E">
                                      <p:cBhvr>
                                        <p:cTn id="1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5" descr=""/>
          <p:cNvPicPr/>
          <p:nvPr/>
        </p:nvPicPr>
        <p:blipFill>
          <a:blip r:embed="rId1"/>
          <a:stretch/>
        </p:blipFill>
        <p:spPr>
          <a:xfrm>
            <a:off x="0" y="1676520"/>
            <a:ext cx="6637320" cy="48574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914400" y="228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рисунке изображен ландыш, у которого четыре цветка. Изображения второго и четвертого цветков совершенно одинак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762120" y="838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третий цветок переместить на 6 единиц вниз строго по вертикали и 6 единиц влево строго по горизонтали, то он в точности совпадет с пер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7010280" y="1905120"/>
            <a:ext cx="1905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первый цветок переместить на 6 единиц вправо строго по горизонтали и 6 единиц вверх строго по вертикали, то он совпадет с третьим цве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>
            <a:hlinkClick r:id="" action="ppaction://hlinkshowjump?jump=nextslide"/>
          </p:cNvPr>
          <p:cNvSpPr/>
          <p:nvPr/>
        </p:nvSpPr>
        <p:spPr>
          <a:xfrm>
            <a:off x="7315200" y="6019920"/>
            <a:ext cx="1066680" cy="304560"/>
          </a:xfrm>
          <a:custGeom>
            <a:avLst/>
            <a:gdLst>
              <a:gd name="textAreaLeft" fmla="*/ 19440 w 1066680"/>
              <a:gd name="textAreaRight" fmla="*/ 1047240 w 10666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587" h="21600">
                <a:moveTo>
                  <a:pt x="0" y="0"/>
                </a:moveTo>
                <a:lnTo>
                  <a:pt x="75587" y="0"/>
                </a:lnTo>
                <a:lnTo>
                  <a:pt x="75587" y="21600"/>
                </a:lnTo>
                <a:lnTo>
                  <a:pt x="0" y="21600"/>
                </a:lnTo>
                <a:close/>
              </a:path>
              <a:path fill="lightenLess" w="75587" h="21600">
                <a:moveTo>
                  <a:pt x="0" y="0"/>
                </a:moveTo>
                <a:lnTo>
                  <a:pt x="75587" y="0"/>
                </a:lnTo>
                <a:lnTo>
                  <a:pt x="74187" y="1400"/>
                </a:lnTo>
                <a:lnTo>
                  <a:pt x="1400" y="1400"/>
                </a:lnTo>
                <a:close/>
              </a:path>
              <a:path fill="darken" w="75587" h="21600">
                <a:moveTo>
                  <a:pt x="75587" y="0"/>
                </a:moveTo>
                <a:lnTo>
                  <a:pt x="75587" y="21600"/>
                </a:lnTo>
                <a:lnTo>
                  <a:pt x="74187" y="20200"/>
                </a:lnTo>
                <a:lnTo>
                  <a:pt x="74187" y="1400"/>
                </a:lnTo>
                <a:close/>
              </a:path>
              <a:path fill="darkenLess" w="75587" h="21600">
                <a:moveTo>
                  <a:pt x="75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7" y="20200"/>
                </a:lnTo>
                <a:close/>
              </a:path>
              <a:path fill="lighten" w="75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87" h="21600">
                <a:moveTo>
                  <a:pt x="30787" y="3794"/>
                </a:moveTo>
                <a:lnTo>
                  <a:pt x="44800" y="10800"/>
                </a:lnTo>
                <a:lnTo>
                  <a:pt x="30787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7"/>
          <p:cNvSpPr/>
          <p:nvPr/>
        </p:nvSpPr>
        <p:spPr>
          <a:xfrm>
            <a:off x="4267080" y="243828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80" h="480">
                <a:moveTo>
                  <a:pt x="240" y="0"/>
                </a:moveTo>
                <a:lnTo>
                  <a:pt x="336" y="55"/>
                </a:lnTo>
                <a:lnTo>
                  <a:pt x="480" y="384"/>
                </a:lnTo>
                <a:lnTo>
                  <a:pt x="336" y="300"/>
                </a:lnTo>
                <a:lnTo>
                  <a:pt x="232" y="480"/>
                </a:lnTo>
                <a:lnTo>
                  <a:pt x="144" y="288"/>
                </a:lnTo>
                <a:lnTo>
                  <a:pt x="0" y="384"/>
                </a:lnTo>
                <a:lnTo>
                  <a:pt x="96" y="96"/>
                </a:lnTo>
                <a:lnTo>
                  <a:pt x="19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8"/>
          <p:cNvSpPr/>
          <p:nvPr/>
        </p:nvSpPr>
        <p:spPr>
          <a:xfrm>
            <a:off x="3048120" y="3429000"/>
            <a:ext cx="761760" cy="762120"/>
          </a:xfrm>
          <a:custGeom>
            <a:avLst/>
            <a:gdLst>
              <a:gd name="textAreaLeft" fmla="*/ 0 w 761760"/>
              <a:gd name="textAreaRight" fmla="*/ 762120 w 7617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80" h="480">
                <a:moveTo>
                  <a:pt x="240" y="0"/>
                </a:moveTo>
                <a:lnTo>
                  <a:pt x="336" y="55"/>
                </a:lnTo>
                <a:lnTo>
                  <a:pt x="480" y="384"/>
                </a:lnTo>
                <a:lnTo>
                  <a:pt x="336" y="300"/>
                </a:lnTo>
                <a:lnTo>
                  <a:pt x="232" y="480"/>
                </a:lnTo>
                <a:lnTo>
                  <a:pt x="144" y="288"/>
                </a:lnTo>
                <a:lnTo>
                  <a:pt x="0" y="384"/>
                </a:lnTo>
                <a:lnTo>
                  <a:pt x="96" y="96"/>
                </a:lnTo>
                <a:lnTo>
                  <a:pt x="192" y="0"/>
                </a:lnTo>
                <a:lnTo>
                  <a:pt x="240" y="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-3.33333E-006 0.14445 E">
                                      <p:cBhvr>
                                        <p:cTn id="3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4445 L -0.13333 0.14445 E">
                                      <p:cBhvr>
                                        <p:cTn id="38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0.14445 L -3.33333E-006 0.14445 E">
                                      <p:cBhvr>
                                        <p:cTn id="41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4445 L -3.33333E-006 -1.11111E-006 E">
                                      <p:cBhvr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14166 -4.44444E-006 E">
                                      <p:cBhvr>
                                        <p:cTn id="5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4.44444E-006 L 0.13333 -0.14445 E">
                                      <p:cBhvr>
                                        <p:cTn id="5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-0.14445 L 0.13333 4.44444E-006 E">
                                      <p:cBhvr>
                                        <p:cTn id="57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4.44444E-006 L 5.55112E-017 4.44444E-006 E">
                                      <p:cBhvr>
                                        <p:cTn id="6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8920" cy="424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609480" y="4800600"/>
            <a:ext cx="7772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заимосвязаны координаты первого и третьего цветка ландыш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менятся координаты точек фигуры, если переместить эту фигуру в произвольном направлении по горизонтали и вертикал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6400800" y="1066680"/>
            <a:ext cx="152280" cy="30492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8"/>
          <p:cNvSpPr txBox="1"/>
          <p:nvPr/>
        </p:nvSpPr>
        <p:spPr>
          <a:xfrm>
            <a:off x="762120" y="533520"/>
            <a:ext cx="18190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Arial"/>
              </a:rPr>
              <a:t>подум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762120" y="533520"/>
            <a:ext cx="754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я, как изменяются координаты точек при перемещении по координатной плоскости в произвольном направлении  по горизонтали и вертикали можно записывать координаты перемещенных фигур, не прибегая к их изображениям. Для этого необходимо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ординаты исходной фиг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правление перемещения вправо или влево, вверх или вниз, при этом надо помнить, что если перемещение выполняется вправо или вверх, то абсцисса и ордината соответственно, увеличиваются, если влево и вниз - уменьш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Число единиц, на которое выполняется перемещение. Перемещение можно задавать положительными (вправо, вверх), отрицательными (влево, вниз) чис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рий</dc:creator>
  <dc:description/>
  <dc:language>en-US</dc:language>
  <cp:lastModifiedBy>Юрий</cp:lastModifiedBy>
  <dcterms:modified xsi:type="dcterms:W3CDTF">2013-02-14T08:04:1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