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3FC-5F05-43DE-98B4-1737DABF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926-0C4D-4576-BAE1-BA3901C9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64B-8A28-4C30-9C85-0F77FD01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C23-AB84-4C0D-8352-35C54733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82A5-5694-41F9-9ED7-936570B9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EFC7-FD5A-41DA-8CE6-6523931E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4A39-5003-40F6-80BA-47524638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E97B-BB3F-49AC-84D1-FB7AD43E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6A15-07F0-46DC-BA1F-2D044D92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9058-3012-4933-BACB-CE6EBF30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B1BE-BB8B-4CC6-AF6F-87B82F0F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0AD-EF63-40E3-B854-67467877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16BB-7DB2-4C3D-B5BC-693FE1DC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6F09-FC89-49C9-AD6A-8D1721E1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0245-4D8B-45B9-B5CB-41E42327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6AE4-84AD-40F6-A0BC-0CBA1667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8498-D450-41E8-9B14-49DEE289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A61-AE6E-427D-8036-F8717F87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AB2-9501-4925-AF2C-A809675A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C8C-F6B9-486F-977A-9422550E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EA6-6AE6-44C8-8124-3A86144B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F76-8F33-423E-9FEF-45A67BE3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76B-183F-4079-8E56-1F6C1E5A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CAD-13DB-4102-9669-057FAE47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65AE-AEB1-45E8-8333-19129BB040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5BF9-5B0E-465C-8133-D168B633D1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чистый"/>
          <p:cNvPicPr/>
          <p:nvPr/>
        </p:nvPicPr>
        <p:blipFill>
          <a:blip r:embed="rId1"/>
          <a:stretch/>
        </p:blipFill>
        <p:spPr>
          <a:xfrm>
            <a:off x="457200" y="2057400"/>
            <a:ext cx="5257800" cy="4108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105200" cy="1971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1876320" cy="19908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2"/>
          <p:cNvSpPr txBox="1"/>
          <p:nvPr/>
        </p:nvSpPr>
        <p:spPr>
          <a:xfrm>
            <a:off x="1981080" y="762120"/>
            <a:ext cx="5267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мещение фигур н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ординатной плоск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WordArt 15"/>
          <p:cNvSpPr txBox="1"/>
          <p:nvPr/>
        </p:nvSpPr>
        <p:spPr>
          <a:xfrm rot="20634600">
            <a:off x="5486400" y="2133720"/>
            <a:ext cx="3424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мещени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извольном направлени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33520" y="40384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 flipV="1">
            <a:off x="3200400" y="205740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>
            <a:hlinkClick r:id="" action="ppaction://hlinkshowjump?jump=nextslide"/>
          </p:cNvPr>
          <p:cNvSpPr/>
          <p:nvPr/>
        </p:nvSpPr>
        <p:spPr>
          <a:xfrm>
            <a:off x="7238880" y="5867280"/>
            <a:ext cx="1067040" cy="30492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524" h="21600">
                <a:moveTo>
                  <a:pt x="0" y="0"/>
                </a:moveTo>
                <a:lnTo>
                  <a:pt x="75524" y="0"/>
                </a:lnTo>
                <a:lnTo>
                  <a:pt x="75524" y="21600"/>
                </a:lnTo>
                <a:lnTo>
                  <a:pt x="0" y="21600"/>
                </a:lnTo>
                <a:close/>
              </a:path>
              <a:path fill="lightenLess" w="75524" h="21600">
                <a:moveTo>
                  <a:pt x="0" y="0"/>
                </a:moveTo>
                <a:lnTo>
                  <a:pt x="75524" y="0"/>
                </a:lnTo>
                <a:lnTo>
                  <a:pt x="74124" y="1400"/>
                </a:lnTo>
                <a:lnTo>
                  <a:pt x="1400" y="1400"/>
                </a:lnTo>
                <a:close/>
              </a:path>
              <a:path fill="darken" w="75524" h="21600">
                <a:moveTo>
                  <a:pt x="75524" y="0"/>
                </a:moveTo>
                <a:lnTo>
                  <a:pt x="75524" y="21600"/>
                </a:lnTo>
                <a:lnTo>
                  <a:pt x="74124" y="20200"/>
                </a:lnTo>
                <a:lnTo>
                  <a:pt x="74124" y="1400"/>
                </a:lnTo>
                <a:close/>
              </a:path>
              <a:path fill="darkenLess" w="75524" h="21600">
                <a:moveTo>
                  <a:pt x="75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24" y="20200"/>
                </a:lnTo>
                <a:close/>
              </a:path>
              <a:path fill="lighten" w="75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24" h="21600">
                <a:moveTo>
                  <a:pt x="30755" y="3794"/>
                </a:moveTo>
                <a:lnTo>
                  <a:pt x="44768" y="10800"/>
                </a:lnTo>
                <a:lnTo>
                  <a:pt x="30755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8952 L -0.00208 0.28938 E">
                                      <p:cBhvr>
                                        <p:cTn id="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6.03747E-006 L 0.30834 -6.03747E-006 E">
                                      <p:cBhvr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5" descr=""/>
          <p:cNvPicPr/>
          <p:nvPr/>
        </p:nvPicPr>
        <p:blipFill>
          <a:blip r:embed="rId1"/>
          <a:stretch/>
        </p:blipFill>
        <p:spPr>
          <a:xfrm>
            <a:off x="0" y="1676520"/>
            <a:ext cx="6637320" cy="4857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91440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рисунке изображен ландыш, у которого четыре цветка. Изображения второго и четвертого цветков совершенно одинак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62120" y="838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ретий цветок переместить на 6 единиц вниз строго по вертикали и 6 единиц влево строго по горизонтали, то он в точности совпадет с пер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010280" y="1905120"/>
            <a:ext cx="190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первый цветок переместить на 6 единиц вправо строго по горизонтали и 6 единиц вверх строго по вертикали, то он совпадет с третьим цве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>
            <a:hlinkClick r:id="" action="ppaction://hlinkshowjump?jump=nextslide"/>
          </p:cNvPr>
          <p:cNvSpPr/>
          <p:nvPr/>
        </p:nvSpPr>
        <p:spPr>
          <a:xfrm>
            <a:off x="7315200" y="6019920"/>
            <a:ext cx="1066680" cy="30456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187" y="1400"/>
                </a:lnTo>
                <a:lnTo>
                  <a:pt x="1400" y="140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187" y="20200"/>
                </a:lnTo>
                <a:lnTo>
                  <a:pt x="74187" y="140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7" y="2020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87" h="21600">
                <a:moveTo>
                  <a:pt x="30787" y="3794"/>
                </a:moveTo>
                <a:lnTo>
                  <a:pt x="44800" y="10800"/>
                </a:lnTo>
                <a:lnTo>
                  <a:pt x="30787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7"/>
          <p:cNvSpPr/>
          <p:nvPr/>
        </p:nvSpPr>
        <p:spPr>
          <a:xfrm>
            <a:off x="4267080" y="24382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"/>
          <p:cNvSpPr/>
          <p:nvPr/>
        </p:nvSpPr>
        <p:spPr>
          <a:xfrm>
            <a:off x="3048120" y="3429000"/>
            <a:ext cx="761760" cy="762120"/>
          </a:xfrm>
          <a:custGeom>
            <a:avLst/>
            <a:gdLst>
              <a:gd name="textAreaLeft" fmla="*/ 0 w 761760"/>
              <a:gd name="textAreaRight" fmla="*/ 762120 w 761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-3.33333E-006 0.14445 E">
                                      <p:cBhvr>
                                        <p:cTn id="3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0.13333 0.14445 E">
                                      <p:cBhvr>
                                        <p:cTn id="3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0.14445 L -3.33333E-006 0.14445 E">
                                      <p:cBhvr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3.33333E-006 -1.11111E-006 E">
                                      <p:cBhvr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14166 -4.44444E-006 E">
                                      <p:cBhvr>
                                        <p:cTn id="5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0.13333 -0.14445 E">
                                      <p:cBhvr>
                                        <p:cTn id="5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-0.14445 L 0.13333 4.44444E-006 E">
                                      <p:cBhvr>
                                        <p:cTn id="5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5.55112E-017 4.44444E-006 E">
                                      <p:cBhvr>
                                        <p:cTn id="6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8920" cy="424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09480" y="480060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заимосвязаны координаты первого и третьего цветка ландыш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фигуры, если переместить эту фигуру в произвольном направлении по горизонтали и вертика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400800" y="1066680"/>
            <a:ext cx="152280" cy="304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762120" y="533520"/>
            <a:ext cx="1819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762120" y="533520"/>
            <a:ext cx="754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я, как изменяются координаты точек при перемещении по координатной плоскости в произвольном направлении  по горизонтали и вертикали можно записывать координаты перемещенных фигур, не прибегая к их изображениям. Для этого необходимо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ординаты исходной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равление перемещения вправо или влево, вверх или вниз, при этом надо помнить, что если перемещение выполняется вправо или вверх, то абсцисса и ордината соответственно, увеличиваются, если влево и вниз - уменьш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Число единиц, на которое выполняется перемещение. Перемещение можно задавать положительными (вправо, вверх), отрицательными (влево, вниз) чис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ий</dc:creator>
  <dc:description/>
  <dc:language>en-US</dc:language>
  <cp:lastModifiedBy>Юрий</cp:lastModifiedBy>
  <dcterms:modified xsi:type="dcterms:W3CDTF">2013-02-14T08:04:1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