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DB7-0E90-4F60-A1C7-00C1ACAC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EB4-7BE8-4628-BF83-366F9CA7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470-A7E6-4E35-9A3E-93CDEC73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8F9-7C74-4CB2-BF92-F7688048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FB30-EB63-41B0-A6EE-1F8D5CF1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F9C-3BBE-4450-A040-ABCD708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445-DB8C-49B0-99AE-CE10B2A9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C305-6760-45DC-A774-0E8887AD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1A0F-03F7-4099-A67C-A6592B24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DE71-9077-4A8B-8310-35AB746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1827-2398-418F-A647-89751526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701-AC82-4F59-ABBB-014385D9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11C9-0D0D-47BF-A684-10A015A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990A-9056-48C1-80D3-9B79DD6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0BBD-131A-477D-8005-73EA6734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158B-4FBD-44B5-9E0D-28E95405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53FD-7647-43E6-9058-9832E700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45B-4374-4369-868A-7E0D1E49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07F-F8C4-46F8-B261-604538C7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82F-1042-48A1-BD94-DD11A2D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35E-8C46-41DA-8DDB-A2D39FA9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D7D-E99F-4A40-82BD-1E26DB4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5F0-079E-4565-A727-9470B0AA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DA7-94A9-4782-BA50-E1506ECF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034B-443C-4A82-B393-A6637FD169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1249-2AA1-444E-8332-17DB57B135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чистый"/>
          <p:cNvPicPr/>
          <p:nvPr/>
        </p:nvPicPr>
        <p:blipFill>
          <a:blip r:embed="rId1"/>
          <a:stretch/>
        </p:blipFill>
        <p:spPr>
          <a:xfrm>
            <a:off x="457200" y="2057400"/>
            <a:ext cx="5257800" cy="4108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105200" cy="1971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1876320" cy="19908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2"/>
          <p:cNvSpPr txBox="1"/>
          <p:nvPr/>
        </p:nvSpPr>
        <p:spPr>
          <a:xfrm>
            <a:off x="1981080" y="762120"/>
            <a:ext cx="5267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мещение фигур н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ординатной плоск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WordArt 15"/>
          <p:cNvSpPr txBox="1"/>
          <p:nvPr/>
        </p:nvSpPr>
        <p:spPr>
          <a:xfrm rot="20634600">
            <a:off x="5486400" y="2133720"/>
            <a:ext cx="3424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мещен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извольном направлени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33520" y="40384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320040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>
            <a:hlinkClick r:id="" action="ppaction://hlinkshowjump?jump=nextslide"/>
          </p:cNvPr>
          <p:cNvSpPr/>
          <p:nvPr/>
        </p:nvSpPr>
        <p:spPr>
          <a:xfrm>
            <a:off x="7238880" y="5867280"/>
            <a:ext cx="1067040" cy="30492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524" h="21600">
                <a:moveTo>
                  <a:pt x="0" y="0"/>
                </a:moveTo>
                <a:lnTo>
                  <a:pt x="75524" y="0"/>
                </a:lnTo>
                <a:lnTo>
                  <a:pt x="75524" y="21600"/>
                </a:lnTo>
                <a:lnTo>
                  <a:pt x="0" y="21600"/>
                </a:lnTo>
                <a:close/>
              </a:path>
              <a:path fill="lightenLess" w="75524" h="21600">
                <a:moveTo>
                  <a:pt x="0" y="0"/>
                </a:moveTo>
                <a:lnTo>
                  <a:pt x="75524" y="0"/>
                </a:lnTo>
                <a:lnTo>
                  <a:pt x="74124" y="1400"/>
                </a:lnTo>
                <a:lnTo>
                  <a:pt x="1400" y="1400"/>
                </a:lnTo>
                <a:close/>
              </a:path>
              <a:path fill="darken" w="75524" h="21600">
                <a:moveTo>
                  <a:pt x="75524" y="0"/>
                </a:moveTo>
                <a:lnTo>
                  <a:pt x="75524" y="21600"/>
                </a:lnTo>
                <a:lnTo>
                  <a:pt x="74124" y="20200"/>
                </a:lnTo>
                <a:lnTo>
                  <a:pt x="74124" y="1400"/>
                </a:lnTo>
                <a:close/>
              </a:path>
              <a:path fill="darkenLess" w="75524" h="21600">
                <a:moveTo>
                  <a:pt x="7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24" y="20200"/>
                </a:lnTo>
                <a:close/>
              </a:path>
              <a:path fill="lighten" w="7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24" h="21600">
                <a:moveTo>
                  <a:pt x="30755" y="3794"/>
                </a:moveTo>
                <a:lnTo>
                  <a:pt x="44768" y="10800"/>
                </a:lnTo>
                <a:lnTo>
                  <a:pt x="3075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8952 L -0.00208 0.28938 E">
                                      <p:cBhvr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6.03747E-006 L 0.30834 -6.03747E-006 E">
                                      <p:cBhvr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0" y="1676520"/>
            <a:ext cx="6637320" cy="4857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91440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рисунке изображен ландыш, у которого четыре цветка. Изображения второго и четвертого цветков совершенно одинак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2120" y="838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ретий цветок переместить на 6 единиц вниз строго по вертикали и 6 единиц влево строго по горизонтали, то он в точности совпадет с пер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010280" y="1905120"/>
            <a:ext cx="190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ервый цветок переместить на 6 единиц вправо строго по горизонтали и 6 единиц вверх строго по вертикали, то он совпадет с третьим цве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>
            <a:hlinkClick r:id="" action="ppaction://hlinkshowjump?jump=nextslide"/>
          </p:cNvPr>
          <p:cNvSpPr/>
          <p:nvPr/>
        </p:nvSpPr>
        <p:spPr>
          <a:xfrm>
            <a:off x="7315200" y="6019920"/>
            <a:ext cx="1066680" cy="30456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87" h="21600">
                <a:moveTo>
                  <a:pt x="30787" y="3794"/>
                </a:moveTo>
                <a:lnTo>
                  <a:pt x="44800" y="10800"/>
                </a:lnTo>
                <a:lnTo>
                  <a:pt x="3078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>
            <a:off x="4267080" y="2438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"/>
          <p:cNvSpPr/>
          <p:nvPr/>
        </p:nvSpPr>
        <p:spPr>
          <a:xfrm>
            <a:off x="3048120" y="3429000"/>
            <a:ext cx="761760" cy="762120"/>
          </a:xfrm>
          <a:custGeom>
            <a:avLst/>
            <a:gdLst>
              <a:gd name="textAreaLeft" fmla="*/ 0 w 761760"/>
              <a:gd name="textAreaRight" fmla="*/ 762120 w 761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-3.33333E-006 0.14445 E">
                                      <p:cBhvr>
                                        <p:cTn id="3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0.13333 0.14445 E">
                                      <p:cBhvr>
                                        <p:cTn id="3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14445 L -3.33333E-006 0.14445 E">
                                      <p:cBhvr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3.33333E-006 -1.11111E-006 E">
                                      <p:cBhvr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14166 -4.44444E-006 E">
                                      <p:cBhvr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0.13333 -0.14445 E">
                                      <p:cBhvr>
                                        <p:cTn id="5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-0.14445 L 0.13333 4.44444E-006 E">
                                      <p:cBhvr>
                                        <p:cTn id="5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5.55112E-017 4.44444E-006 E">
                                      <p:cBhvr>
                                        <p:cTn id="6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8920" cy="424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09480" y="48006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заимосвязаны координаты первого и третьего цветка ландыш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в произвольном направлении по горизонтали и вертика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400800" y="1066680"/>
            <a:ext cx="152280" cy="304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762120" y="533520"/>
            <a:ext cx="1819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762120" y="533520"/>
            <a:ext cx="754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я, как изменяются координаты точек при перемещении по координатной плоскости в произвольном направлении  по горизонтали и вертикали можно записывать координаты перемещенных фигур, не прибегая к их изображениям. Для этого необходимо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ординаты исходн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авление перемещения вправо или влево, вверх или вниз, при этом надо помнить, что если перемещение выполняется вправо или вверх, то абсцисса и ордината соответственно, увеличиваются, если влево и вниз - уменьш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Число единиц, на которое выполняется перемещение. Перемещение можно задавать положительными (вправо, вверх), отрицательными (влево, вниз) чис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4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