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B18-DAE5-405F-9778-F4ABD32E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07F-179A-41D3-AE37-51876AFA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D9F6-38C6-408D-8B4F-4B017DB2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AD4-0438-4BC8-BC8E-BBF89F68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B3D8-EDA2-461B-BC1F-FECCD025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A9FB-B717-4876-BE5D-4E577260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0134-E1B9-4B37-81B4-8797FF05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EDD9-66C6-42A9-924A-AA95500A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8B5E-D4D4-4CA8-AD8C-11B715A7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5AE0-662B-47E1-9BA5-556E80B0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337A-91C1-4FFB-9220-D5C04190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3F32-C01B-4459-9ADF-A8BF3970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D0F4-E8C3-4C78-B6A9-3D563D13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0F95-6153-4936-967C-DFDEDB62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94CE-ECDA-470A-A346-9772133F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C9CC-AA01-4FBC-860D-B8F87CE4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E84A-6B87-451B-8DE8-A7FD1DBF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A655-C8C2-4620-9BB3-F70F4FCE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627-4DC8-41B7-A26B-097B50E3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FD83-A609-49C2-AA23-B7811B5C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6E67-9385-45A3-A7DC-722C48AE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139-02FA-41B5-B420-6E38656D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911-2DB7-42B7-9EE9-2EE98742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8BE6-E12D-4F95-B8B5-5A05FA19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2B43-79BA-44F3-9D70-D29E4783986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B8BB-9E5D-4F1F-9485-D0EBABDF38B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0" descr="чистый"/>
          <p:cNvPicPr/>
          <p:nvPr/>
        </p:nvPicPr>
        <p:blipFill>
          <a:blip r:embed="rId1"/>
          <a:stretch/>
        </p:blipFill>
        <p:spPr>
          <a:xfrm>
            <a:off x="457200" y="2057400"/>
            <a:ext cx="5257800" cy="4108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1105200" cy="1971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1876320" cy="1990800"/>
          </a:xfrm>
          <a:prstGeom prst="rect">
            <a:avLst/>
          </a:prstGeom>
          <a:ln w="0">
            <a:noFill/>
          </a:ln>
        </p:spPr>
      </p:pic>
      <p:sp>
        <p:nvSpPr>
          <p:cNvPr id="215" name="WordArt 12"/>
          <p:cNvSpPr txBox="1"/>
          <p:nvPr/>
        </p:nvSpPr>
        <p:spPr>
          <a:xfrm>
            <a:off x="1981080" y="762120"/>
            <a:ext cx="5267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47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емещение фигур н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2f47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47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ординатной плоскост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2f47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6" name="WordArt 15"/>
          <p:cNvSpPr txBox="1"/>
          <p:nvPr/>
        </p:nvSpPr>
        <p:spPr>
          <a:xfrm rot="20634600">
            <a:off x="5486400" y="2133720"/>
            <a:ext cx="34243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5e4700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ремещение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636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5e4700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636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5e4700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извольном направлени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636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533520" y="403848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 flipV="1">
            <a:off x="3200400" y="2057400"/>
            <a:ext cx="0" cy="4038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8">
            <a:hlinkClick r:id="" action="ppaction://hlinkshowjump?jump=nextslide"/>
          </p:cNvPr>
          <p:cNvSpPr/>
          <p:nvPr/>
        </p:nvSpPr>
        <p:spPr>
          <a:xfrm>
            <a:off x="7238880" y="5867280"/>
            <a:ext cx="1067040" cy="304920"/>
          </a:xfrm>
          <a:custGeom>
            <a:avLst/>
            <a:gdLst>
              <a:gd name="textAreaLeft" fmla="*/ 19440 w 1067040"/>
              <a:gd name="textAreaRight" fmla="*/ 1047600 w 10670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5524" h="21600">
                <a:moveTo>
                  <a:pt x="0" y="0"/>
                </a:moveTo>
                <a:lnTo>
                  <a:pt x="75524" y="0"/>
                </a:lnTo>
                <a:lnTo>
                  <a:pt x="75524" y="21600"/>
                </a:lnTo>
                <a:lnTo>
                  <a:pt x="0" y="21600"/>
                </a:lnTo>
                <a:close/>
              </a:path>
              <a:path fill="lightenLess" w="75524" h="21600">
                <a:moveTo>
                  <a:pt x="0" y="0"/>
                </a:moveTo>
                <a:lnTo>
                  <a:pt x="75524" y="0"/>
                </a:lnTo>
                <a:lnTo>
                  <a:pt x="74124" y="1400"/>
                </a:lnTo>
                <a:lnTo>
                  <a:pt x="1400" y="1400"/>
                </a:lnTo>
                <a:close/>
              </a:path>
              <a:path fill="darken" w="75524" h="21600">
                <a:moveTo>
                  <a:pt x="75524" y="0"/>
                </a:moveTo>
                <a:lnTo>
                  <a:pt x="75524" y="21600"/>
                </a:lnTo>
                <a:lnTo>
                  <a:pt x="74124" y="20200"/>
                </a:lnTo>
                <a:lnTo>
                  <a:pt x="74124" y="1400"/>
                </a:lnTo>
                <a:close/>
              </a:path>
              <a:path fill="darkenLess" w="75524" h="21600">
                <a:moveTo>
                  <a:pt x="75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24" y="20200"/>
                </a:lnTo>
                <a:close/>
              </a:path>
              <a:path fill="lighten" w="75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24" h="21600">
                <a:moveTo>
                  <a:pt x="30755" y="3794"/>
                </a:moveTo>
                <a:lnTo>
                  <a:pt x="44768" y="10800"/>
                </a:lnTo>
                <a:lnTo>
                  <a:pt x="30755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8952 L -0.00208 0.28938 E">
                                      <p:cBhvr>
                                        <p:cTn id="9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6.03747E-006 L 0.30834 -6.03747E-006 E">
                                      <p:cBhvr>
                                        <p:cTn id="18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5" descr=""/>
          <p:cNvPicPr/>
          <p:nvPr/>
        </p:nvPicPr>
        <p:blipFill>
          <a:blip r:embed="rId1"/>
          <a:stretch/>
        </p:blipFill>
        <p:spPr>
          <a:xfrm>
            <a:off x="0" y="1676520"/>
            <a:ext cx="6637320" cy="48574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914400" y="228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рисунке изображен ландыш, у которого четыре цветка. Изображения второго и четвертого цветков совершенно одинако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762120" y="8380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третий цветок переместить на 6 единиц вниз строго по вертикали и 6 единиц влево строго по горизонтали, то он в точности совпадет с пер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7010280" y="1905120"/>
            <a:ext cx="1905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первый цветок переместить на 6 единиц вправо строго по горизонтали и 6 единиц вверх строго по вертикали, то он совпадет с третьим цве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>
            <a:hlinkClick r:id="" action="ppaction://hlinkshowjump?jump=nextslide"/>
          </p:cNvPr>
          <p:cNvSpPr/>
          <p:nvPr/>
        </p:nvSpPr>
        <p:spPr>
          <a:xfrm>
            <a:off x="7315200" y="6019920"/>
            <a:ext cx="1066680" cy="304560"/>
          </a:xfrm>
          <a:custGeom>
            <a:avLst/>
            <a:gdLst>
              <a:gd name="textAreaLeft" fmla="*/ 19440 w 1066680"/>
              <a:gd name="textAreaRight" fmla="*/ 1047240 w 10666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5587" h="21600">
                <a:moveTo>
                  <a:pt x="0" y="0"/>
                </a:moveTo>
                <a:lnTo>
                  <a:pt x="75587" y="0"/>
                </a:lnTo>
                <a:lnTo>
                  <a:pt x="75587" y="21600"/>
                </a:lnTo>
                <a:lnTo>
                  <a:pt x="0" y="21600"/>
                </a:lnTo>
                <a:close/>
              </a:path>
              <a:path fill="lightenLess" w="75587" h="21600">
                <a:moveTo>
                  <a:pt x="0" y="0"/>
                </a:moveTo>
                <a:lnTo>
                  <a:pt x="75587" y="0"/>
                </a:lnTo>
                <a:lnTo>
                  <a:pt x="74187" y="1400"/>
                </a:lnTo>
                <a:lnTo>
                  <a:pt x="1400" y="1400"/>
                </a:lnTo>
                <a:close/>
              </a:path>
              <a:path fill="darken" w="75587" h="21600">
                <a:moveTo>
                  <a:pt x="75587" y="0"/>
                </a:moveTo>
                <a:lnTo>
                  <a:pt x="75587" y="21600"/>
                </a:lnTo>
                <a:lnTo>
                  <a:pt x="74187" y="20200"/>
                </a:lnTo>
                <a:lnTo>
                  <a:pt x="74187" y="1400"/>
                </a:lnTo>
                <a:close/>
              </a:path>
              <a:path fill="darkenLess" w="75587" h="21600">
                <a:moveTo>
                  <a:pt x="75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87" y="20200"/>
                </a:lnTo>
                <a:close/>
              </a:path>
              <a:path fill="lighten" w="75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87" h="21600">
                <a:moveTo>
                  <a:pt x="30787" y="3794"/>
                </a:moveTo>
                <a:lnTo>
                  <a:pt x="44800" y="10800"/>
                </a:lnTo>
                <a:lnTo>
                  <a:pt x="30787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7"/>
          <p:cNvSpPr/>
          <p:nvPr/>
        </p:nvSpPr>
        <p:spPr>
          <a:xfrm>
            <a:off x="4267080" y="2438280"/>
            <a:ext cx="762120" cy="762120"/>
          </a:xfrm>
          <a:custGeom>
            <a:avLst/>
            <a:gdLst>
              <a:gd name="textAreaLeft" fmla="*/ 0 w 762120"/>
              <a:gd name="textAreaRight" fmla="*/ 762480 w 7621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80" h="480">
                <a:moveTo>
                  <a:pt x="240" y="0"/>
                </a:moveTo>
                <a:lnTo>
                  <a:pt x="336" y="55"/>
                </a:lnTo>
                <a:lnTo>
                  <a:pt x="480" y="384"/>
                </a:lnTo>
                <a:lnTo>
                  <a:pt x="336" y="300"/>
                </a:lnTo>
                <a:lnTo>
                  <a:pt x="232" y="480"/>
                </a:lnTo>
                <a:lnTo>
                  <a:pt x="144" y="288"/>
                </a:lnTo>
                <a:lnTo>
                  <a:pt x="0" y="384"/>
                </a:lnTo>
                <a:lnTo>
                  <a:pt x="96" y="96"/>
                </a:lnTo>
                <a:lnTo>
                  <a:pt x="192" y="0"/>
                </a:lnTo>
                <a:lnTo>
                  <a:pt x="240" y="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8"/>
          <p:cNvSpPr/>
          <p:nvPr/>
        </p:nvSpPr>
        <p:spPr>
          <a:xfrm>
            <a:off x="3048120" y="3429000"/>
            <a:ext cx="761760" cy="762120"/>
          </a:xfrm>
          <a:custGeom>
            <a:avLst/>
            <a:gdLst>
              <a:gd name="textAreaLeft" fmla="*/ 0 w 761760"/>
              <a:gd name="textAreaRight" fmla="*/ 762120 w 7617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80" h="480">
                <a:moveTo>
                  <a:pt x="240" y="0"/>
                </a:moveTo>
                <a:lnTo>
                  <a:pt x="336" y="55"/>
                </a:lnTo>
                <a:lnTo>
                  <a:pt x="480" y="384"/>
                </a:lnTo>
                <a:lnTo>
                  <a:pt x="336" y="300"/>
                </a:lnTo>
                <a:lnTo>
                  <a:pt x="232" y="480"/>
                </a:lnTo>
                <a:lnTo>
                  <a:pt x="144" y="288"/>
                </a:lnTo>
                <a:lnTo>
                  <a:pt x="0" y="384"/>
                </a:lnTo>
                <a:lnTo>
                  <a:pt x="96" y="96"/>
                </a:lnTo>
                <a:lnTo>
                  <a:pt x="192" y="0"/>
                </a:lnTo>
                <a:lnTo>
                  <a:pt x="240" y="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-3.33333E-006 0.14445 E">
                                      <p:cBhvr>
                                        <p:cTn id="35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4445 L -0.13333 0.14445 E">
                                      <p:cBhvr>
                                        <p:cTn id="38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3 0.14445 L -3.33333E-006 0.14445 E">
                                      <p:cBhvr>
                                        <p:cTn id="41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4445 L -3.33333E-006 -1.11111E-006 E">
                                      <p:cBhvr>
                                        <p:cTn id="44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14166 -4.44444E-006 E">
                                      <p:cBhvr>
                                        <p:cTn id="5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4.44444E-006 L 0.13333 -0.14445 E">
                                      <p:cBhvr>
                                        <p:cTn id="5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-0.14445 L 0.13333 4.44444E-006 E">
                                      <p:cBhvr>
                                        <p:cTn id="57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4.44444E-006 L 5.55112E-017 4.44444E-006 E">
                                      <p:cBhvr>
                                        <p:cTn id="60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08920" cy="424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609480" y="4800600"/>
            <a:ext cx="7772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взаимосвязаны координаты первого и третьего цветка ландыш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изменятся координаты точек фигуры, если переместить эту фигуру в произвольном направлении по горизонтали и вертикал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6400800" y="1066680"/>
            <a:ext cx="152280" cy="304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8"/>
          <p:cNvSpPr txBox="1"/>
          <p:nvPr/>
        </p:nvSpPr>
        <p:spPr>
          <a:xfrm>
            <a:off x="762120" y="533520"/>
            <a:ext cx="18190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Arial"/>
              </a:rPr>
              <a:t>подум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5000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762120" y="533520"/>
            <a:ext cx="754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ная, как изменяются координаты точек при перемещении по координатной плоскости в произвольном направлении  по горизонтали и вертикали можно записывать координаты перемещенных фигур, не прибегая к их изображениям. Для этого необходимо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ординаты исходной фиг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правление перемещения вправо или влево, вверх или вниз, при этом надо помнить, что если перемещение выполняется вправо или вверх, то абсцисса и ордината соответственно, увеличиваются, если влево и вниз - уменьша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Число единиц, на которое выполняется перемещение. Перемещение можно задавать положительными (вправо, вверх), отрицательными (влево, вниз) чис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рий</dc:creator>
  <dc:description/>
  <dc:language>en-US</dc:language>
  <cp:lastModifiedBy>Юрий</cp:lastModifiedBy>
  <dcterms:modified xsi:type="dcterms:W3CDTF">2013-02-14T08:04:1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