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wmf" ContentType="image/x-wmf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F65-652A-482E-AEED-B00302AD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780-7BE6-41FD-84F4-A0ED9952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9918D-8E3D-4D1C-BFE8-32E8996D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D8946-7A3E-4DE0-ABDC-2CE2E3CA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4ADF2-02CE-4B54-B232-546268A0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3CFF3-7786-4ADE-8A20-4E0A6FA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06EC4-653E-4C27-9ACB-C65C2B02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21AA8-0646-4528-A1D8-898CE4AF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DEF44-72AA-47D2-A745-393A9598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DD5B7-EF1E-4CC8-8182-C2AA8CAF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B85ED-EB69-40B7-8092-F982CDE6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C57-24C3-4F13-9D88-70865F08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6C9-0098-4FDF-B9BE-F3F7ED55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CC149-E8AB-4AB2-9745-0C9E120D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E54CA-A8DB-4663-9FA8-73F59B59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4105D-0AF9-4C3A-8DF9-A2E4DAFC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C6CC5-87D2-44FC-B741-59951BDF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0B95E-E3E2-4FDB-BF4F-73155BC4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A146D-1CB6-4BE9-BDAC-1200074D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EA6FB-011F-4085-B3F9-7C4234F8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E78-FE10-434F-8724-7F880AE7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BD99C-955B-4562-B4E5-2ABC2FD9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02236-BEB8-45E5-85AB-E19C0733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AF0C4-F8A1-4B29-A56D-F82547EC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BE66C-34EB-4EB9-B42A-DFC91924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B4E1D-7B32-402B-837E-C5BE5433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EB3F-2E9A-45EC-BCAC-EA69E124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4C3D-24D9-4B23-8151-D958BEE6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2CA0-CB1A-432D-ADBB-9CD7CEED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46BF7-3249-4E0A-8F40-9E7A8BB7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FB3CD-255F-4FA1-BFB4-41DAA0BF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83D-3C99-45FA-94FE-2A7887D2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9890-0330-44B7-904C-E38712BB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BC2D1-D226-43F9-A794-B8CC375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A1B5-EE22-48E7-BCAF-11015D5F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3DBF-6F60-4260-94C4-AE68C731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CCB1-598F-474E-933E-3CE0C245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6D7F-455F-4F49-9573-06EE2FB4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F4CA-B899-46D8-AC0D-C991A801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444F2-D88C-4489-9A06-1FC7CFFA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A92B-43BE-4B15-8C1B-053D0114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C166-F38D-4DD0-8F4F-A29D6043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944-B170-47EC-8521-70AFFD7A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9235-9A20-4D8E-8820-0C000C78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9714F-E376-4AF1-AEC0-78DF2569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E8607-9048-4880-99DB-FD4E162A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843B8-9719-4BA7-BF8B-3EA21865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859AF-88A1-42B2-9E5C-7B69673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B821-85E4-4457-AB8B-99C1CDF1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E8946-B9B5-4AF1-A919-1825A753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8F2A2-F208-4264-82DB-6240D019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DA4DD-2BE5-4F57-A67E-F035590A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814C-5293-48F1-BA3C-70B69B81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8D7-EF41-4B20-847D-95210565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98949-FBA7-4778-9727-6C84971D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BA4F6-0426-4AE7-BC99-00444168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3B9BC-3DAB-41B9-ACD2-6B5F4FA7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FF41D-AF15-46AF-B00D-F6348880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AD4D1-02A8-423B-A936-0AD42C8F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4C1A3-61DB-4CEE-B392-2B3019A8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122F7-6483-4E8F-9A0F-8D31A4A3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A9C4C-7992-4249-A162-AECD65A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B1D8-FA61-491E-AB2B-A5893950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65D4C-D875-4021-BB84-547494A8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492-0922-4DD2-88B0-2B4DC396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05990-3D3C-4214-AC8D-E484A550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89070-412E-4AAB-BDB3-72E9EB4E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9A2CF-7CB1-4006-A777-65954823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AC8BC-C270-4F12-A59D-48BB22B3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77F9-BF72-474A-8DDC-31C41B16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82F2B-89D3-4495-B3DD-1E865F1C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6A7A4-BC66-481C-8878-A12A61FE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869A6-979F-4F81-B941-4E052383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B9C2-2B10-435D-9841-A36C054B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1536-EE6A-4C5A-8BA3-4184E63F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456-D917-4CD5-A891-DDFFD261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CE04D-06A7-430D-B88D-0519B9D5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77EAA-C976-4397-ABC6-64DE1204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BF4E3-A418-4544-86FB-350256F1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35C19-DF47-4443-8E47-50A077DF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6D3E6-3CC4-4379-8839-CDE46E66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3E405-B654-48C6-BB90-86D8D423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03C4D-C5B4-490B-B9C7-B080D1B2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03427-0640-4730-8727-82A752E8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14CE3-A22E-43BA-ABF5-8F244889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F22B3-D57B-4253-893F-00FBA5B8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76F-6F7B-43B9-9D96-8ECF613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9864F-9F73-4BD1-B741-971B1969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94CE5-9F33-462E-8254-4E781ADA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80225-A747-43F9-92E7-54DA2400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00260-A25C-4A7F-85C1-F7A2D354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7CDFD-DDA8-41F1-8CBA-C670DAAA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8EB60-FB6F-4A16-8ECC-33C499EE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EAFCE-ECA3-44C1-B178-144DDDCC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CD3D6-671E-44EA-8490-A178AD6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91BCB-8C36-4469-997E-D3B12A10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19EE2-A2DB-419D-A373-A75E15B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926-4AA4-4867-8773-F772EBB9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95A59-9E41-4AE8-A736-CD7D1A87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D5744-27FA-420A-AD70-D12A2C9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5FE39-7989-4693-9FB7-5987E87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2671C-9461-4449-83EA-1947D4BA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AA62B-0F47-4CEB-BE8B-4310F2C1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51E56-F894-4B87-B759-B715EAE4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EF9E6-1D5D-43B4-9671-E1B9DCA8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EF9C5-8F52-40D5-A49F-69D996D0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7E59F-BE5E-4FB4-8FA5-F0A162AD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FC9A4-2703-4506-A98D-9BCF3C2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7A3A-E036-49E9-ACE4-C4D80C05E0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C9C4-236C-4A48-9821-AC5680B12680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8645-5C67-4DF1-ACE7-C28903F8DB42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07A1-2252-42C6-BE6A-B42B2B1850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4851-D166-4092-90F9-EDAB099806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3378-87C2-4E70-8CFA-C161F2FEF928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6E4A-F97A-46AF-9835-8F0F942A6A17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3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5189-15CB-4FCD-BFAA-2F5E57A0D1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92BA-6DCA-4CC6-9034-9A77F41B8B6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00720" y="-3891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140000" y="5445000"/>
            <a:ext cx="5003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Заседание редакци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коллегии газ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5000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два лучи солнца освет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лею,  всё оживилось 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трепет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J0202104"/>
          <p:cNvPicPr/>
          <p:nvPr/>
        </p:nvPicPr>
        <p:blipFill>
          <a:blip r:embed="rId1"/>
          <a:stretch/>
        </p:blipFill>
        <p:spPr>
          <a:xfrm>
            <a:off x="826920" y="2349360"/>
            <a:ext cx="7129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892720" y="-543816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453000"/>
            <a:ext cx="324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97" name="Picture 4" descr="J0149088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J0289528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4862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J0182824"/>
          <p:cNvPicPr/>
          <p:nvPr/>
        </p:nvPicPr>
        <p:blipFill>
          <a:blip r:embed="rId3"/>
          <a:stretch/>
        </p:blipFill>
        <p:spPr>
          <a:xfrm>
            <a:off x="0" y="0"/>
            <a:ext cx="3132000" cy="3789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J0289879"/>
          <p:cNvPicPr/>
          <p:nvPr/>
        </p:nvPicPr>
        <p:blipFill>
          <a:blip r:embed="rId4"/>
          <a:stretch/>
        </p:blipFill>
        <p:spPr>
          <a:xfrm>
            <a:off x="3132000" y="0"/>
            <a:ext cx="2880000" cy="3789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J0202066"/>
          <p:cNvPicPr/>
          <p:nvPr/>
        </p:nvPicPr>
        <p:blipFill>
          <a:blip r:embed="rId5"/>
          <a:stretch/>
        </p:blipFill>
        <p:spPr>
          <a:xfrm>
            <a:off x="3348000" y="3789360"/>
            <a:ext cx="2664000" cy="3068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J0182822"/>
          <p:cNvPicPr/>
          <p:nvPr/>
        </p:nvPicPr>
        <p:blipFill>
          <a:blip r:embed="rId6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074160" y="-51764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172000" y="6668640"/>
            <a:ext cx="97164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05" name="Picture 6" descr="J0216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J0216004"/>
          <p:cNvPicPr/>
          <p:nvPr/>
        </p:nvPicPr>
        <p:blipFill>
          <a:blip r:embed="rId1"/>
          <a:stretch/>
        </p:blipFill>
        <p:spPr>
          <a:xfrm>
            <a:off x="0" y="4508640"/>
            <a:ext cx="4859280" cy="23493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842320" y="-5445360"/>
            <a:ext cx="122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93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лово «газета» пришло к нам из итальянского языка, где оно имело значение «мелкая монета». Появившиеся в 1563 году в итальянском городе Венеция, газеты были рукописные и продавались только для прочтения. За прочтение платили мелкую монету, потом газету возвращали продав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J0178998"/>
          <p:cNvPicPr/>
          <p:nvPr/>
        </p:nvPicPr>
        <p:blipFill>
          <a:blip r:embed="rId2"/>
          <a:stretch/>
        </p:blipFill>
        <p:spPr>
          <a:xfrm>
            <a:off x="485928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J0216008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илипп играет в хокк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ассажиры вышли на перр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ла собрала коллекцию ма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476360" y="105264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илипп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ассажиры пер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ла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лле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4" descr="J0178633"/>
          <p:cNvPicPr/>
          <p:nvPr/>
        </p:nvPicPr>
        <p:blipFill>
          <a:blip r:embed="rId1"/>
          <a:stretch/>
        </p:blipFill>
        <p:spPr>
          <a:xfrm>
            <a:off x="2340000" y="4111560"/>
            <a:ext cx="4160880" cy="274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18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ятельности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85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385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Admin</cp:lastModifiedBy>
  <dcterms:modified xsi:type="dcterms:W3CDTF">2011-10-24T18:25:34Z</dcterms:modified>
  <cp:revision>18</cp:revision>
  <dc:subject/>
  <dc:title>Слайд 1</dc:title>
</cp:coreProperties>
</file>