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wmf" ContentType="image/x-wmf"/>
  <Override PartName="/ppt/media/image1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FD8-D40C-472E-B55D-7B3E27B7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A2A-87BC-461D-980B-A3F500C2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185D6-F953-4DB9-A670-4ED8BC8F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2220C-C453-43DD-B3F0-3145BAA8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B85ED-E049-415D-A335-A572C208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F5CC6-3E09-488C-B797-8F0E887F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71F00-A4D0-400E-A1ED-C8613065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C485B-35FD-44B9-BF44-1855C381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DA7C1-CF4D-4604-A81F-B651FADA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DC2E9-E892-4DAF-8D3E-6ADCF8CF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95C81-1F50-4824-8358-C0CCD949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CDE9-A16B-43F7-9B15-0A963557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729-46DB-49F3-9FC3-649C7C6A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1B32B-7F89-4049-A985-FC70025C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51E5B-F6C3-4EDB-89F3-E0F57CEF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17259-2B9C-49ED-8C77-7D6AC351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A0688-448F-4563-8BE7-CA038FBF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C5757-BB34-4DE5-9993-40E0B8EB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A5F89-FD05-4914-B5A9-D0F88C80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8C024-A3FA-484B-B73E-330A5D7F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BCB-0F15-44AA-8019-7028D974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DC28E-92F7-400E-A372-89860EB1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E3F35-A7C4-4AA6-9D74-F5A9A9D1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C94D4-B08E-4C5C-A137-E173280F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3D852-9C93-4FDB-8631-9E0FD3C1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E73CC-7C9F-40AB-A83A-243DFD75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89830-8A74-4B5A-A0FD-90F41D83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5FB27-4AEE-44AC-9E79-E4ADDF20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44A7D-2B74-4C2F-8D35-520B3E90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76F0E-809C-4B61-A241-B2AA70E7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91B67-02F2-46B0-9538-384A4474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F5A-BDCA-4471-B798-698EB986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F5C19-A1B2-4186-BE60-3C1E793C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6AD2E-E294-4081-B4FC-14500268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70A3A-4DA0-48E8-85C5-8856B9FB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38624-1BCC-4598-A5AB-2D546942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919D5-9924-45B8-A636-DAF5528F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3FEF8-CE82-4ADE-A7DC-54C493A6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80A5E-5DA3-411D-9748-EC20374C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E9CE8-85FB-4A82-A8E5-C429A530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2E159-41FD-4901-B920-DFFB7079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8CF69-3345-4EDC-8A89-F3E927D2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F28-2732-4101-B648-FBACC6B0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21734-3644-4549-9A43-935DAFC5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8FED0-41B5-45D2-9002-7C11FBF7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4E826-040C-41BB-AD6D-0351ACB7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F673B-8283-4C17-9C1B-48F9D4FC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A2791-4A10-41CE-AD36-77877121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698C5-7BFC-44C4-896F-03ED9C99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99C14-1A4A-4FF9-8727-68380B6B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99B96-9ED2-4C34-85A8-35647FBD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5FDED-797F-4463-A476-ECE1F354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68E52-92DA-47F6-8FC0-4E47AC18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FCBA-4F98-49B7-9204-B7D10677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6FC04-3B5A-4973-9F25-1C6B5157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AD7BA-4D19-4177-9FF1-CDC53AD4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FA7F5-F5FB-4499-B545-68EF8971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B250B-0632-4347-80BC-A909F3B5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8512B-D795-438B-9156-0E507BB8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71196-58E7-44A8-91EE-4B78E74E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DC5FA-9068-4237-A1FE-60787CEF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A6E0F-BE03-4799-8533-D0552C45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31DB8-98CD-49B2-AED3-32F8DF84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73273-E5CE-4F5C-9C0E-409AA52A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4DF5-F035-4E66-9C41-6B1159DF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65503-AA63-470E-AFA5-46F81D28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F189D-C7F8-40F4-B50A-7737440B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06791-5360-4D2B-A130-B12A7291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694CE-D381-410C-B74A-F6274ED9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2C278-3CA5-4313-A67E-D9249BC4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26F17-40E6-4687-B076-A46D9483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6B977-513F-4116-B537-376E79C8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5BC23-6F03-4B3C-ADF1-5F62CF4D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92702-3E37-49DB-895D-7E942424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86947-D312-4101-97C4-39F05E4D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B72-894F-4CC1-9FCD-3FEA981D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7071D-4A91-4F9D-82EF-95B238D2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DC9CA-6E1C-4553-B3CA-33B31D8D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CC399-6096-4562-85DC-280F59A0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81A6A-4874-42B8-8A2B-EF0EDFBD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E7512-8B28-462E-BD68-013DB48C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32977-4C19-4C49-B8CA-77412BB6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21E94-EBA6-416D-9BB2-F1F8D11D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FECCE-BBE1-4EC3-9838-8B005057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EA077-6EAC-492B-853C-D14D12E1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66D38-5529-4693-8D25-D61B5DC8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9AD3-7DE0-4916-A2F5-18FC11A8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C649C-D777-4C97-8C76-380F492F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41799-BA1C-47B1-A93B-B5379E10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112B9-15E5-44E2-9B28-C3ADC245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0CFFD-7C92-4F66-B199-B8E47ABE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F568C-2FFE-4B46-A79D-F217072B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9DAB0-0B47-4E33-ACD3-5F4617DD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DC28A-C2D7-4D4F-82CE-AB49EA2E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0F5FC-7A25-4BCF-A18A-1FB437CD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382B2-E953-43D0-B93A-6EF91FFE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13DBD-7B04-4A8F-AC5C-35E75557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07A-1A35-4F2F-B2DB-971F86D7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7F467-7D54-4898-A5D8-C819539C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FCD1D-05F1-43E0-9F3D-58EB801C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078AE-185C-439A-AAC4-86F72D28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11606-9BBC-4924-B603-23658A3F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28177-8E8E-49D9-B10A-2D925529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04EE2-028D-47C3-A581-C1A31CD7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7DB6A-A293-4727-A59F-B260B0EE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29E1B-8EEF-4987-BC20-793B351C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71A06-19AE-499A-9648-98FD759F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2E215-F530-4B37-B90C-B289E469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7515-E3B7-4213-BEBC-4CE5162A0E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8F9D-854C-48B1-87EE-7440794D1B00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A63E-E71C-4571-94EA-A96C6008F18F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B864-F744-47F1-AA21-B43759ED68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7DEF-83A9-46A6-BCCE-73C16EFC98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1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3F48-1932-4EDF-95B8-DCE35D00679B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8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269F-557C-42D8-9606-0FD90906DC58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3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7AF6-BC74-4495-853A-88DA7E53A3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8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8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0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1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4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510A-895A-423A-A8AB-48A8922B71D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00720" y="-3891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140000" y="5445000"/>
            <a:ext cx="5003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Заседание редакцио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коллегии газ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WordArt 4"/>
          <p:cNvSpPr txBox="1"/>
          <p:nvPr/>
        </p:nvSpPr>
        <p:spPr>
          <a:xfrm>
            <a:off x="1332000" y="0"/>
            <a:ext cx="6697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военные соглас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рне слов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9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5000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Едва лучи солнца освети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ллею,  всё оживилось 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трепета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J0202104"/>
          <p:cNvPicPr/>
          <p:nvPr/>
        </p:nvPicPr>
        <p:blipFill>
          <a:blip r:embed="rId1"/>
          <a:stretch/>
        </p:blipFill>
        <p:spPr>
          <a:xfrm>
            <a:off x="826920" y="2349360"/>
            <a:ext cx="7129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892720" y="-5438160"/>
            <a:ext cx="250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6453000"/>
            <a:ext cx="324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597" name="Picture 4" descr="J0149088"/>
          <p:cNvPicPr/>
          <p:nvPr/>
        </p:nvPicPr>
        <p:blipFill>
          <a:blip r:embed="rId1"/>
          <a:stretch/>
        </p:blipFill>
        <p:spPr>
          <a:xfrm>
            <a:off x="0" y="3789360"/>
            <a:ext cx="3419640" cy="30686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J0289528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34862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6" descr="J0182824"/>
          <p:cNvPicPr/>
          <p:nvPr/>
        </p:nvPicPr>
        <p:blipFill>
          <a:blip r:embed="rId3"/>
          <a:stretch/>
        </p:blipFill>
        <p:spPr>
          <a:xfrm>
            <a:off x="0" y="0"/>
            <a:ext cx="3132000" cy="37893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J0289879"/>
          <p:cNvPicPr/>
          <p:nvPr/>
        </p:nvPicPr>
        <p:blipFill>
          <a:blip r:embed="rId4"/>
          <a:stretch/>
        </p:blipFill>
        <p:spPr>
          <a:xfrm>
            <a:off x="3132000" y="0"/>
            <a:ext cx="2880000" cy="37893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J0202066"/>
          <p:cNvPicPr/>
          <p:nvPr/>
        </p:nvPicPr>
        <p:blipFill>
          <a:blip r:embed="rId5"/>
          <a:stretch/>
        </p:blipFill>
        <p:spPr>
          <a:xfrm>
            <a:off x="3348000" y="3789360"/>
            <a:ext cx="2664000" cy="30686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9" descr="J0182822"/>
          <p:cNvPicPr/>
          <p:nvPr/>
        </p:nvPicPr>
        <p:blipFill>
          <a:blip r:embed="rId6"/>
          <a:stretch/>
        </p:blipFill>
        <p:spPr>
          <a:xfrm>
            <a:off x="6012000" y="3429000"/>
            <a:ext cx="3132000" cy="3429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074160" y="-517644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172000" y="6668640"/>
            <a:ext cx="97164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05" name="Picture 6" descr="J0216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5"/>
          <p:cNvSpPr/>
          <p:nvPr/>
        </p:nvSpPr>
        <p:spPr>
          <a:xfrm>
            <a:off x="324000" y="981000"/>
            <a:ext cx="828036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137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ние слов с удвоенной согласной буквой надо запом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4" descr="J0078733"/>
          <p:cNvPicPr/>
          <p:nvPr/>
        </p:nvPicPr>
        <p:blipFill>
          <a:blip r:embed="rId1"/>
          <a:stretch/>
        </p:blipFill>
        <p:spPr>
          <a:xfrm>
            <a:off x="539640" y="2637000"/>
            <a:ext cx="1395360" cy="392724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6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5" descr="J0216004"/>
          <p:cNvPicPr/>
          <p:nvPr/>
        </p:nvPicPr>
        <p:blipFill>
          <a:blip r:embed="rId1"/>
          <a:stretch/>
        </p:blipFill>
        <p:spPr>
          <a:xfrm>
            <a:off x="0" y="4508640"/>
            <a:ext cx="4859280" cy="23493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842320" y="-5445360"/>
            <a:ext cx="1224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932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лово «газета» пришло к нам из итальянского языка, где оно имело значение «мелкая монета». Появившиеся в 1563 году в итальянском городе Венеция, газеты были рукописные и продавались только для прочтения. За прочтение платили мелкую монету, потом газету возвращали продав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4" descr="J0178998"/>
          <p:cNvPicPr/>
          <p:nvPr/>
        </p:nvPicPr>
        <p:blipFill>
          <a:blip r:embed="rId2"/>
          <a:stretch/>
        </p:blipFill>
        <p:spPr>
          <a:xfrm>
            <a:off x="4859280" y="3357720"/>
            <a:ext cx="4284720" cy="3500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J0216008"/>
          <p:cNvPicPr/>
          <p:nvPr/>
        </p:nvPicPr>
        <p:blipFill>
          <a:blip r:embed="rId3"/>
          <a:stretch/>
        </p:blipFill>
        <p:spPr>
          <a:xfrm>
            <a:off x="6084720" y="0"/>
            <a:ext cx="3059280" cy="3429000"/>
          </a:xfrm>
          <a:prstGeom prst="rect">
            <a:avLst/>
          </a:prstGeom>
          <a:ln w="0">
            <a:noFill/>
          </a:ln>
        </p:spPr>
      </p:pic>
    </p:spTree>
  </p:cSld>
  <p:transition advTm="12000"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Филипп играет в хокк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ассажиры вышли на перро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лла собрала коллекцию мар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1476360" y="105264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Филипп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хокк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ассажиры пер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лла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лле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4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4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9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8686440" y="6021000"/>
            <a:ext cx="2062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Picture 4" descr="J0178633"/>
          <p:cNvPicPr/>
          <p:nvPr/>
        </p:nvPicPr>
        <p:blipFill>
          <a:blip r:embed="rId1"/>
          <a:stretch/>
        </p:blipFill>
        <p:spPr>
          <a:xfrm>
            <a:off x="2340000" y="4111560"/>
            <a:ext cx="4160880" cy="2746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618" name="WordArt 6"/>
          <p:cNvSpPr txBox="1"/>
          <p:nvPr/>
        </p:nvSpPr>
        <p:spPr>
          <a:xfrm>
            <a:off x="1042920" y="0"/>
            <a:ext cx="6481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 успеха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самостоятельной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ятельности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85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385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38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38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8:32:51Z</dcterms:created>
  <dc:creator>155</dc:creator>
  <dc:description/>
  <dc:language>en-US</dc:language>
  <cp:lastModifiedBy>Admin</cp:lastModifiedBy>
  <dcterms:modified xsi:type="dcterms:W3CDTF">2011-10-24T18:25:34Z</dcterms:modified>
  <cp:revision>18</cp:revision>
  <dc:subject/>
  <dc:title>Слайд 1</dc:title>
</cp:coreProperties>
</file>