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7D7-73D7-483A-AC1E-B6BC23D7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DBE-3039-44FE-B666-555E4E78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31E-EFAE-45A3-8A0D-A9A75DE6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94E-AF91-49D6-B84A-374EDE89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8D68-F7B8-43E6-94B2-DCBA83CE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EE11-BA61-4563-A531-CB77EF1C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7761-C604-4FD3-8E55-1808CC97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295-F2E0-4CDD-BD9D-CF0C1C80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7D9B-DF0C-43F0-BA93-2211941C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C014-48CE-4E2E-AA48-84C05A91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62A5-0F1C-48DB-B64C-02F3A817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0F3-E0FC-4BBD-A9B9-EAD80BBF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88CE-0823-440A-B44C-7E5AE874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ED38-226A-4011-BE44-7FF52A3C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4909-A185-40AE-9056-D4E55F50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69B1-1282-4423-AE71-4061F133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32D8-D738-4EBE-94B5-E91E50FC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A22-BACE-49B5-A1B5-73B19F1A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9E3-39D7-4455-86A6-707C800F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9C3-2A86-43B8-AF1A-0FB995DE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2A5-8ABF-4C2C-92E6-02DD7018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045-B19C-4280-ACF1-D90E9E3D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C87-1C5F-4C3B-AB49-3D6FBE0B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4D1-327D-4A35-888C-F3F21868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AA52-675F-4E1B-8F15-0D04A9534F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F517-A8D6-4F94-B03C-767B80651B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8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302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b8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</a:rPr>
              <a:t>Признаки параллельности прямых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205000"/>
            <a:ext cx="9144000" cy="106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Аксиома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утверждение, не требующее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2924280"/>
            <a:ext cx="40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Само слово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 аксиома »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происходит от греческого «аксиос», что означает «ценный, достойный». Древнегреческий ученый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Евклид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первым придумал аксиомы, которые были изложены в его знаменитом сочинении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Начала»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816360" cy="3716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459640" y="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16" h="21600">
                <a:moveTo>
                  <a:pt x="13014" y="14281"/>
                </a:moveTo>
                <a:lnTo>
                  <a:pt x="13014" y="12323"/>
                </a:lnTo>
                <a:cubicBezTo>
                  <a:pt x="13014" y="11496"/>
                  <a:pt x="13344" y="10800"/>
                  <a:pt x="13945" y="10800"/>
                </a:cubicBezTo>
                <a:cubicBezTo>
                  <a:pt x="15076" y="10800"/>
                  <a:pt x="15973" y="9434"/>
                  <a:pt x="15973" y="7849"/>
                </a:cubicBezTo>
                <a:cubicBezTo>
                  <a:pt x="15973" y="5534"/>
                  <a:pt x="14119" y="3794"/>
                  <a:pt x="11908" y="3794"/>
                </a:cubicBezTo>
                <a:cubicBezTo>
                  <a:pt x="9697" y="3794"/>
                  <a:pt x="8026" y="5534"/>
                  <a:pt x="8026" y="7849"/>
                </a:cubicBezTo>
                <a:lnTo>
                  <a:pt x="9880" y="7849"/>
                </a:lnTo>
                <a:cubicBezTo>
                  <a:pt x="9880" y="6709"/>
                  <a:pt x="10803" y="5821"/>
                  <a:pt x="11908" y="5821"/>
                </a:cubicBezTo>
                <a:cubicBezTo>
                  <a:pt x="13014" y="5821"/>
                  <a:pt x="13945" y="6709"/>
                  <a:pt x="13945" y="7849"/>
                </a:cubicBezTo>
                <a:cubicBezTo>
                  <a:pt x="13945" y="8589"/>
                  <a:pt x="13475" y="9320"/>
                  <a:pt x="13014" y="9320"/>
                </a:cubicBezTo>
                <a:cubicBezTo>
                  <a:pt x="11908" y="9320"/>
                  <a:pt x="10803" y="10800"/>
                  <a:pt x="10803" y="12323"/>
                </a:cubicBezTo>
                <a:lnTo>
                  <a:pt x="1080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0000" y="3284640"/>
            <a:ext cx="547236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45040" y="2276640"/>
            <a:ext cx="409896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Через точку, не лежащую на данной прямой, проходит </a:t>
            </a:r>
            <a:r>
              <a:rPr b="0" i="1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только одна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прямая, параллельная дан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4508640"/>
            <a:ext cx="360036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4149720"/>
            <a:ext cx="71640" cy="71280"/>
          </a:xfrm>
          <a:prstGeom prst="ellipse">
            <a:avLst/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1280" y="3573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9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прямая пересекает одну из двух параллельных прямых, то она пересекает и друг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4076640"/>
            <a:ext cx="3097440" cy="237672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3280" y="2708280"/>
            <a:ext cx="4824360" cy="374508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76360" y="227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55640" y="3500280"/>
            <a:ext cx="3960720" cy="259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339640" y="2420640"/>
            <a:ext cx="647640" cy="40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14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931">
                <a:moveTo>
                  <a:pt x="11905" y="14447"/>
                </a:moveTo>
                <a:lnTo>
                  <a:pt x="11905" y="12488"/>
                </a:lnTo>
                <a:cubicBezTo>
                  <a:pt x="11905" y="11662"/>
                  <a:pt x="12236" y="10965"/>
                  <a:pt x="12837" y="10965"/>
                </a:cubicBezTo>
                <a:cubicBezTo>
                  <a:pt x="13968" y="10965"/>
                  <a:pt x="14865" y="9599"/>
                  <a:pt x="14865" y="8015"/>
                </a:cubicBezTo>
                <a:cubicBezTo>
                  <a:pt x="14865" y="5700"/>
                  <a:pt x="13011" y="3959"/>
                  <a:pt x="10800" y="3959"/>
                </a:cubicBezTo>
                <a:cubicBezTo>
                  <a:pt x="8589" y="3959"/>
                  <a:pt x="6918" y="5700"/>
                  <a:pt x="6918" y="8015"/>
                </a:cubicBezTo>
                <a:lnTo>
                  <a:pt x="8772" y="8015"/>
                </a:lnTo>
                <a:cubicBezTo>
                  <a:pt x="8772" y="6875"/>
                  <a:pt x="9695" y="5987"/>
                  <a:pt x="10800" y="5987"/>
                </a:cubicBezTo>
                <a:cubicBezTo>
                  <a:pt x="11905" y="5987"/>
                  <a:pt x="12837" y="6875"/>
                  <a:pt x="12837" y="8015"/>
                </a:cubicBezTo>
                <a:cubicBezTo>
                  <a:pt x="12837" y="8755"/>
                  <a:pt x="12367" y="9486"/>
                  <a:pt x="11905" y="9486"/>
                </a:cubicBezTo>
                <a:cubicBezTo>
                  <a:pt x="10800" y="9486"/>
                  <a:pt x="9695" y="10965"/>
                  <a:pt x="9695" y="12488"/>
                </a:cubicBezTo>
                <a:lnTo>
                  <a:pt x="9695" y="1444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98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98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98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98"/>
                            </p:stCondLst>
                            <p:childTnLst>
                              <p:par>
                                <p:cTn id="3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98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598"/>
                            </p:stCondLst>
                            <p:childTnLst>
                              <p:par>
                                <p:cTn id="35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две прямые параллельны третьей, то они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411280" y="2781360"/>
            <a:ext cx="5616720" cy="34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068640"/>
            <a:ext cx="5689440" cy="350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850920" y="2420640"/>
            <a:ext cx="4970520" cy="299700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1492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850">
                <a:moveTo>
                  <a:pt x="11905" y="14406"/>
                </a:moveTo>
                <a:lnTo>
                  <a:pt x="11905" y="12448"/>
                </a:lnTo>
                <a:cubicBezTo>
                  <a:pt x="11905" y="11621"/>
                  <a:pt x="12236" y="10925"/>
                  <a:pt x="12837" y="10925"/>
                </a:cubicBezTo>
                <a:cubicBezTo>
                  <a:pt x="13968" y="10925"/>
                  <a:pt x="14865" y="9558"/>
                  <a:pt x="14865" y="7974"/>
                </a:cubicBezTo>
                <a:cubicBezTo>
                  <a:pt x="14865" y="5659"/>
                  <a:pt x="13011" y="3918"/>
                  <a:pt x="10800" y="3918"/>
                </a:cubicBezTo>
                <a:cubicBezTo>
                  <a:pt x="8589" y="3918"/>
                  <a:pt x="6918" y="5659"/>
                  <a:pt x="6918" y="7974"/>
                </a:cubicBezTo>
                <a:lnTo>
                  <a:pt x="8772" y="7974"/>
                </a:lnTo>
                <a:cubicBezTo>
                  <a:pt x="8772" y="6834"/>
                  <a:pt x="9695" y="5946"/>
                  <a:pt x="10800" y="5946"/>
                </a:cubicBezTo>
                <a:cubicBezTo>
                  <a:pt x="11905" y="5946"/>
                  <a:pt x="12837" y="6834"/>
                  <a:pt x="12837" y="7974"/>
                </a:cubicBezTo>
                <a:cubicBezTo>
                  <a:pt x="12837" y="8714"/>
                  <a:pt x="12367" y="9445"/>
                  <a:pt x="11905" y="9445"/>
                </a:cubicBezTo>
                <a:cubicBezTo>
                  <a:pt x="10800" y="9445"/>
                  <a:pt x="9695" y="10925"/>
                  <a:pt x="9695" y="12448"/>
                </a:cubicBezTo>
                <a:lnTo>
                  <a:pt x="9695" y="144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900"/>
                            </p:stCondLst>
                            <p:childTnLst>
                              <p:par>
                                <p:cTn id="3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900"/>
                            </p:stCondLst>
                            <p:childTnLst>
                              <p:par>
                                <p:cTn id="3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900"/>
                            </p:stCondLst>
                            <p:childTnLst>
                              <p:par>
                                <p:cTn id="38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900"/>
                            </p:stCondLst>
                            <p:childTnLst>
                              <p:par>
                                <p:cTn id="3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900"/>
                            </p:stCondLst>
                            <p:childTnLst>
                              <p:par>
                                <p:cTn id="39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опросы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определен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то тако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секуща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глы называются накрест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лежащ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односторонн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соответственны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первы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второ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трети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ризнаки параллельности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тверждения называются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аксиома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ервое и второе следствие о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306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е прямые на плоскости называются 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параллельными,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08360" y="2708280"/>
            <a:ext cx="1368360" cy="22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27640" y="2565360"/>
            <a:ext cx="2160720" cy="352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256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96360" y="6219720"/>
            <a:ext cx="647640" cy="638280"/>
          </a:xfrm>
          <a:custGeom>
            <a:avLst/>
            <a:gdLst>
              <a:gd name="textAreaLeft" fmla="*/ 41040 w 647640"/>
              <a:gd name="textAreaRight" fmla="*/ 606600 w 64764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109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917" h="21600">
                <a:moveTo>
                  <a:pt x="12064" y="14281"/>
                </a:moveTo>
                <a:lnTo>
                  <a:pt x="12064" y="12323"/>
                </a:lnTo>
                <a:cubicBezTo>
                  <a:pt x="12064" y="11496"/>
                  <a:pt x="12394" y="10800"/>
                  <a:pt x="12995" y="10800"/>
                </a:cubicBezTo>
                <a:cubicBezTo>
                  <a:pt x="14126" y="10800"/>
                  <a:pt x="15023" y="9434"/>
                  <a:pt x="15023" y="7849"/>
                </a:cubicBezTo>
                <a:cubicBezTo>
                  <a:pt x="15023" y="5534"/>
                  <a:pt x="13169" y="3794"/>
                  <a:pt x="10958" y="3794"/>
                </a:cubicBezTo>
                <a:cubicBezTo>
                  <a:pt x="8748" y="3794"/>
                  <a:pt x="7076" y="5534"/>
                  <a:pt x="7076" y="7849"/>
                </a:cubicBezTo>
                <a:lnTo>
                  <a:pt x="8930" y="7849"/>
                </a:lnTo>
                <a:cubicBezTo>
                  <a:pt x="8930" y="6709"/>
                  <a:pt x="9853" y="5821"/>
                  <a:pt x="10958" y="5821"/>
                </a:cubicBezTo>
                <a:cubicBezTo>
                  <a:pt x="12064" y="5821"/>
                  <a:pt x="12995" y="6709"/>
                  <a:pt x="12995" y="7849"/>
                </a:cubicBezTo>
                <a:cubicBezTo>
                  <a:pt x="12995" y="8589"/>
                  <a:pt x="12525" y="9320"/>
                  <a:pt x="12064" y="9320"/>
                </a:cubicBezTo>
                <a:cubicBezTo>
                  <a:pt x="10958" y="9320"/>
                  <a:pt x="9853" y="10800"/>
                  <a:pt x="9853" y="12323"/>
                </a:cubicBezTo>
                <a:lnTo>
                  <a:pt x="985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118 0.15822 C -0.30607 0.14642 -0.27569 0.14272 -0.25885 0.1411 C -0.23975 0.13139 -0.2217 0.12005 -0.20364 0.10802 C -0.1809 0.09276 -0.15434 0.08211 -0.13541 0.05783 C -0.09045 0.000230000000000001 -0.06718 -0.05552 -0.046 -0.13325 C -0.0434 -0.18136 -0.0401 -0.21583 -0.04236 -0.26811 C -0.04305 -0.28545 -0.05017 -0.30812 -0.05538 -0.32293 C -0.0802 -0.39256 -0.10607 -0.44044 -0.15191 -0.48763 C -0.17656 -0.51307 -0.20104 -0.53875 -0.23298 -0.54245 C -0.24305 -0.53968 -0.25555 -0.54153 -0.2625 -0.53158 C -0.27934 -0.50775 -0.28507 -0.48624 -0.29409 -0.45779 C -0.30243 -0.43072 -0.31562 -0.40805 -0.32239 -0.38099 C -0.32691 -0.36248 -0.33263 -0.3449 -0.33645 -0.32594 C -0.33993 -0.30882 -0.34479 -0.27435 -0.34479 -0.27412 C -0.34895 -0.19501 -0.34097 -0.13186 -0.28246 -0.10502 C -0.27187 -0.10549 -0.26111 -0.1041 -0.25069 -0.10664 C -0.20833 -0.11728 -0.19132 -0.18205 -0.16718 -0.22115 C -0.16336 -0.22739 -0.15798 -0.23202 -0.15416 -0.23826 C -0.13038 -0.27805 -0.14409 -0.26579 -0.12239 -0.2917 C -0.10729 -0.30974 -0.11302 -0.30026 -0.09409 -0.31668 C -0.07291 -0.33496 -0.06354 -0.34421 -0.03767 -0.34629 C -0.00972 -0.34236 -0.00069 -0.34583 0.01754 -0.31969 C 0.02084 -0.31506 0.02431 -0.3109 0.02709 -0.30581 C 0.03125 -0.29818 0.03872 -0.28222 0.03872 -0.28198 C 0.04254 -0.26209 0.04983 -0.24451 0.05296 -0.22415 C 0.05174 -0.20495 0.05105 -0.18552 0.04931 -0.16632 C 0.04618 -0.13278 0.02431 -0.06824 -0.00468 -0.0613 C -0.02187 -0.05113 -0.0276 -0.05251 -0.0401 -0.06917 C -0.04479 -0.08698 -0.03941 -0.10294 -0.03177 -0.11613 C -0.01441 -0.14551 0.0132 -0.14805 0.03993 -0.15059 C 0.06233 -0.14805 0.08559 -0.15013 0.10695 -0.14111 C 0.13681 -0.12839 0.15973 -0.10063 0.18108 -0.07218 C 0.18021 -0.05691 0.17969 -0.04673 0.17292 -0.03447 C 0.17136 -0.03146 0.16858 -0.02984 0.16702 -0.02684 C 0.16459 -0.02244 0.16337 -0.01712 0.16112 -0.01273 C 0.1566 -0.00394 0.13733 0.01156 0.13646 0.01249 C 0.12032 0.02799 0.10539 0.03238 0.08577 0.03608 C 0.06563 0.03493 0.05382 0.04048 0.04462 0.01711 C 0.04688 0.0037 0.04705 -0.00648 0.05764 -0.01111 C 0.06355 -0.01689 0.07049 -0.0199 0.07761 -0.02198 C 0.08594 -0.02105 0.09219 -0.02406 0.09757 -0.01573 C 0.09914 -0.01342 0.10018 -0.01065 0.10105 -0.00787 C 0.10209 -0.00486 0.10348 0.00138 0.10348 0.00161 C 0.10278 0.00855 0.10296 0.01688 0.1 0.02336 C 0.09601 0.03169 0.08559 0.03701 0.07882 0.03909 C 0.05573 0.0458 0.0316 0.04719 0.00816 0.04857 C -0.00434 0.04811 -0.01701 0.0488 -0.02951 0.04695 C -0.03316 0.04649 -0.03159 0.03631 -0.03072 0.02822 C -0.02899 0.01064 -0.02465 -0.00556 -0.01059 -0.00949 C -0.00937 -0.00903 -0.00798 -0.00903 -0.00711 -0.00787 C -0.00416 -0.00394 -0.00694 4.37659E-006 -4.16667E-006 4.37659E-006 E">
                                      <p:cBhvr>
                                        <p:cTn id="2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0.57066 C 0.0316 0.57483 0.02223 0.57575 0.00938 0.57691 C -0.02048 0.57598 -0.05034 0.57714 -0.08003 0.5739 C -0.09374 0.57251 -0.1078 0.56627 -0.12117 0.5628 C -0.14513 0.55655 -0.16996 0.54984 -0.19409 0.54568 C -0.21301 0.53573 -0.2328 0.52949 -0.25069 0.51584 C -0.26718 0.50312 -0.28333 0.49039 -0.29999 0.47813 C -0.30607 0.46796 -0.31405 0.46217 -0.32117 0.45315 C -0.3328 0.43835 -0.33975 0.42377 -0.35069 0.4092 C -0.35798 0.38931 -0.3493 0.41105 -0.36353 0.38561 C -0.37135 0.37173 -0.37933 0.35715 -0.38593 0.34189 C -0.38437 0.33032 -0.38246 0.31898 -0.37777 0.30881 C -0.37465 0.26994 -0.37013 0.2216 -0.3401 0.2024 C -0.33437 0.19477 -0.32673 0.18621 -0.31892 0.18204 C -0.31701 0.18112 -0.31492 0.18112 -0.31301 0.18042 C -0.31058 0.1795 -0.30815 0.17857 -0.3059 0.17719 C -0.28801 0.16631 -0.28697 0.16585 -0.26718 0.16307 C -0.24548 0.16585 -0.22395 0.16839 -0.20242 0.17256 C -0.17239 0.1869 -0.14426 0.19315 -0.13298 0.23687 C -0.13333 0.2519 -0.13246 0.26717 -0.13419 0.2822 C -0.13489 0.28799 -0.13819 0.29261 -0.1401 0.29793 C -0.14131 0.3014 -0.14114 0.30534 -0.14235 0.30881 C -0.14774 0.32315 -0.16405 0.33934 -0.17534 0.34651 C -0.19183 0.34281 -0.19895 0.31991 -0.2118 0.30742 C -0.22846 0.29123 -0.25607 0.27156 -0.26596 0.24612 C -0.27135 0.20471 -0.25537 0.1832 -0.23888 0.15382 C -0.23124 0.14017 -0.22395 0.12676 -0.21649 0.11288 C -0.2151 0.1101 -0.21232 0.10918 -0.21058 0.10663 C -0.20798 0.1027 -0.20624 0.09784 -0.20364 0.09414 C -0.20155 0.09113 -0.1986 0.08928 -0.19652 0.08628 C -0.17829 0.0606 -0.1901 0.0724 -0.17412 0.05505 C -0.16874 0.04926 -0.16319 0.04348 -0.15763 0.0377 C -0.15277 0.03284 -0.14704 0.03053 -0.14235 0.02521 C -0.13819 0.02035 -0.13402 0.01364 -0.12951 0.00948 C -0.12603 0.00624 -0.12169 0.00508 -0.1177 0.00323 C -0.11458 0.00184 -0.10833 -7.17095E-006 -0.10833 -7.17095E-006 C -0.09756 0.00115 -0.09287 0.00323 -0.0835 0.00647 C -0.07274 0.01572 -0.05989 0.02567 -0.05173 0.03932 C -0.03628 0.06476 -0.05433 0.03677 -0.04478 0.05505 C -0.03975 0.06453 -0.03367 0.0754 -0.02829 0.08466 C -0.01423 0.10825 -0.02829 0.08304 -0.01892 0.09576 C -0.01718 0.09807 -0.01614 0.10154 -0.01423 0.10363 C -0.01232 0.10571 -0.00954 0.10548 -0.00711 0.10663 C -0.00086 0.10571 0.00539 0.10524 0.01164 0.10363 C 0.02015 0.10131 0.03056 0.09345 0.03872 0.08951 C 0.04358 0.0872 0.05747 0.07864 0.05886 0.07702 C 0.07154 0.06314 0.06563 0.06615 0.07414 0.06291 C 0.0823 0.05181 0.08265 0.05042 0.08577 0.03608 C 0.08542 0.00809 0.09063 -0.06015 0.07414 -0.09092 C 0.06963 -0.11127 0.06199 -0.13348 0.05053 -0.14875 C 0.0481 -0.15846 0.04549 -0.16702 0.03768 -0.17072 C 0.02449 -0.16864 0.02119 -0.16517 0.00938 -0.15985 C 0.00591 -0.15823 0.00226 -0.15823 -0.00121 -0.15661 C -0.01128 -0.15198 -0.02135 -0.14158 -0.03176 -0.13949 C -0.03367 -0.13787 -0.03558 -0.13602 -0.03767 -0.13464 C -0.03871 -0.13394 -0.04027 -0.1344 -0.04114 -0.13325 C -0.04374 -0.12978 -0.04669 -0.12029 -0.04826 -0.1159 C -0.0493 -0.10826 -0.05069 -0.10156 -0.05173 -0.09392 C -0.05103 -0.0775 -0.05329 -0.04465 -0.03767 -0.03748 C -0.03228 -0.03216 -0.02794 -0.02661 -0.02239 -0.02175 C -0.01787 -0.01782 -0.01215 -0.01435 -0.00833 -0.00926 C -0.00086 0.00046 -0.00451 -7.17095E-006 6.38889E-006 -7.17095E-006 E">
                                      <p:cBhvr>
                                        <p:cTn id="2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75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75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екущ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3357720"/>
            <a:ext cx="237672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4221000"/>
            <a:ext cx="266364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637000"/>
            <a:ext cx="208764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36" h="21600">
                <a:moveTo>
                  <a:pt x="13123" y="14281"/>
                </a:moveTo>
                <a:lnTo>
                  <a:pt x="13123" y="12323"/>
                </a:lnTo>
                <a:cubicBezTo>
                  <a:pt x="13123" y="11496"/>
                  <a:pt x="13454" y="10800"/>
                  <a:pt x="14055" y="10800"/>
                </a:cubicBezTo>
                <a:cubicBezTo>
                  <a:pt x="15186" y="10800"/>
                  <a:pt x="16083" y="9434"/>
                  <a:pt x="16083" y="7849"/>
                </a:cubicBezTo>
                <a:cubicBezTo>
                  <a:pt x="16083" y="5534"/>
                  <a:pt x="14229" y="3794"/>
                  <a:pt x="12018" y="3794"/>
                </a:cubicBezTo>
                <a:cubicBezTo>
                  <a:pt x="9807" y="3794"/>
                  <a:pt x="8136" y="5534"/>
                  <a:pt x="8136" y="7849"/>
                </a:cubicBezTo>
                <a:lnTo>
                  <a:pt x="9990" y="7849"/>
                </a:lnTo>
                <a:cubicBezTo>
                  <a:pt x="9990" y="6709"/>
                  <a:pt x="10913" y="5821"/>
                  <a:pt x="12018" y="5821"/>
                </a:cubicBezTo>
                <a:cubicBezTo>
                  <a:pt x="13123" y="5821"/>
                  <a:pt x="14055" y="6709"/>
                  <a:pt x="14055" y="7849"/>
                </a:cubicBezTo>
                <a:cubicBezTo>
                  <a:pt x="14055" y="8589"/>
                  <a:pt x="13585" y="9320"/>
                  <a:pt x="13123" y="9320"/>
                </a:cubicBezTo>
                <a:cubicBezTo>
                  <a:pt x="12018" y="9320"/>
                  <a:pt x="10913" y="10800"/>
                  <a:pt x="10913" y="12323"/>
                </a:cubicBezTo>
                <a:lnTo>
                  <a:pt x="109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изображение"/>
          <p:cNvPicPr/>
          <p:nvPr/>
        </p:nvPicPr>
        <p:blipFill>
          <a:blip r:embed="rId1"/>
          <a:stretch/>
        </p:blipFill>
        <p:spPr>
          <a:xfrm>
            <a:off x="2209680" y="2362320"/>
            <a:ext cx="3886200" cy="34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03542 -0.01526 L 0.03542 -0.08744 E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981000"/>
            <a:ext cx="61930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35280" y="2060640"/>
            <a:ext cx="547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131640" y="260280"/>
            <a:ext cx="1871640" cy="3745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956720" y="40464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77080" y="213372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4005360"/>
            <a:ext cx="358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62064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59280" y="62064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00720" y="1052640"/>
            <a:ext cx="35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95640" y="1052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2360" y="206064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11640" y="191628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76720" y="2565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95640" y="249228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224000" y="430200"/>
          <a:ext cx="7159680" cy="4975200"/>
        </p:xfrm>
        <a:graphic>
          <a:graphicData uri="http://schemas.openxmlformats.org/drawingml/2006/table">
            <a:tbl>
              <a:tblPr/>
              <a:tblGrid>
                <a:gridCol w="2387520"/>
                <a:gridCol w="2567160"/>
                <a:gridCol w="220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Накрест лежащ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дносторонн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оответственны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 flipV="1">
            <a:off x="1476360" y="2781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403280" y="3860280"/>
            <a:ext cx="1944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2492280"/>
            <a:ext cx="86508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242100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3645000"/>
            <a:ext cx="18716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2349360"/>
            <a:ext cx="8654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32720" y="270828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32720" y="3715920"/>
            <a:ext cx="187308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08720" y="2349360"/>
            <a:ext cx="86364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3500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20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191628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133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220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328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72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2472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852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92428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29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4005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9337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40360" y="2565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2637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270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33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56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764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8508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567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96360" y="6291360"/>
            <a:ext cx="647640" cy="566640"/>
          </a:xfrm>
          <a:custGeom>
            <a:avLst/>
            <a:gdLst>
              <a:gd name="textAreaLeft" fmla="*/ 36720 w 647640"/>
              <a:gd name="textAreaRight" fmla="*/ 610920 w 64764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4686" h="21600">
                <a:moveTo>
                  <a:pt x="0" y="0"/>
                </a:moveTo>
                <a:lnTo>
                  <a:pt x="24686" y="0"/>
                </a:lnTo>
                <a:lnTo>
                  <a:pt x="24686" y="21600"/>
                </a:lnTo>
                <a:lnTo>
                  <a:pt x="0" y="21600"/>
                </a:lnTo>
                <a:close/>
              </a:path>
              <a:path fill="lightenLess" w="24686" h="21600">
                <a:moveTo>
                  <a:pt x="0" y="0"/>
                </a:moveTo>
                <a:lnTo>
                  <a:pt x="24686" y="0"/>
                </a:lnTo>
                <a:lnTo>
                  <a:pt x="23286" y="1400"/>
                </a:lnTo>
                <a:lnTo>
                  <a:pt x="1400" y="1400"/>
                </a:lnTo>
                <a:close/>
              </a:path>
              <a:path fill="darken" w="24686" h="21600">
                <a:moveTo>
                  <a:pt x="24686" y="0"/>
                </a:moveTo>
                <a:lnTo>
                  <a:pt x="24686" y="21600"/>
                </a:lnTo>
                <a:lnTo>
                  <a:pt x="23286" y="20200"/>
                </a:lnTo>
                <a:lnTo>
                  <a:pt x="23286" y="1400"/>
                </a:lnTo>
                <a:close/>
              </a:path>
              <a:path fill="darkenLess" w="24686" h="21600">
                <a:moveTo>
                  <a:pt x="24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6" y="20200"/>
                </a:lnTo>
                <a:close/>
              </a:path>
              <a:path fill="lighten" w="24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6" h="21600">
                <a:moveTo>
                  <a:pt x="1234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6" h="21600">
                <a:moveTo>
                  <a:pt x="13448" y="14281"/>
                </a:moveTo>
                <a:lnTo>
                  <a:pt x="13448" y="12323"/>
                </a:lnTo>
                <a:cubicBezTo>
                  <a:pt x="13448" y="11496"/>
                  <a:pt x="13779" y="10800"/>
                  <a:pt x="14380" y="10800"/>
                </a:cubicBezTo>
                <a:cubicBezTo>
                  <a:pt x="15511" y="10800"/>
                  <a:pt x="16407" y="9434"/>
                  <a:pt x="16407" y="7849"/>
                </a:cubicBezTo>
                <a:cubicBezTo>
                  <a:pt x="16407" y="5534"/>
                  <a:pt x="14554" y="3794"/>
                  <a:pt x="12343" y="3794"/>
                </a:cubicBezTo>
                <a:cubicBezTo>
                  <a:pt x="10132" y="3794"/>
                  <a:pt x="8461" y="5534"/>
                  <a:pt x="8461" y="7849"/>
                </a:cubicBezTo>
                <a:lnTo>
                  <a:pt x="10315" y="7849"/>
                </a:lnTo>
                <a:cubicBezTo>
                  <a:pt x="10315" y="6709"/>
                  <a:pt x="11237" y="5821"/>
                  <a:pt x="12343" y="5821"/>
                </a:cubicBezTo>
                <a:cubicBezTo>
                  <a:pt x="13448" y="5821"/>
                  <a:pt x="14380" y="6709"/>
                  <a:pt x="14380" y="7849"/>
                </a:cubicBezTo>
                <a:cubicBezTo>
                  <a:pt x="14380" y="8589"/>
                  <a:pt x="13910" y="9320"/>
                  <a:pt x="13448" y="9320"/>
                </a:cubicBezTo>
                <a:cubicBezTo>
                  <a:pt x="12343" y="9320"/>
                  <a:pt x="11237" y="10800"/>
                  <a:pt x="11237" y="12323"/>
                </a:cubicBezTo>
                <a:lnTo>
                  <a:pt x="11237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46 0.55032 C -0.23576 0.53274 -0.23681 0.5036 -0.2283 0.48763 C -0.22691 0.48255 -0.22639 0.47699 -0.22483 0.4719 C -0.22205 0.46311 -0.21823 0.45525 -0.21528 0.44669 C -0.21181 0.43651 -0.21042 0.43004 -0.20365 0.42333 C -0.19896 0.41338 -0.19479 0.4106 -0.18837 0.40297 C -0.18681 0.40112 -0.18629 0.39834 -0.18472 0.39673 C -0.18142 0.39349 -0.17465 0.39164 -0.17066 0.39025 C -0.15868 0.37984 -0.14201 0.37914 -0.1283 0.37776 C -0.12274 0.37822 -0.11719 0.37822 -0.11181 0.37938 C -0.10695 0.38053 -0.10313 0.38539 -0.09896 0.38886 C -0.08195 0.40297 -0.07934 0.41176 -0.06597 0.42957 C -0.06267 0.44206 -0.06024 0.45386 -0.05886 0.46705 C -0.06233 0.48532 -0.06458 0.48625 -0.07778 0.49226 C -0.0849 0.4911 -0.09201 0.49064 -0.09896 0.48902 C -0.11198 0.48601 -0.12205 0.46658 -0.12951 0.45456 C -0.13403 0.44715 -0.13386 0.44577 -0.13767 0.43582 C -0.13906 0.43189 -0.14011 0.42333 -0.14011 0.42333 C -0.13976 0.41292 -0.13958 0.40228 -0.13889 0.39187 C -0.1382 0.38053 -0.13316 0.37174 -0.12951 0.36203 C -0.12639 0.3537 -0.12431 0.34375 -0.12118 0.33543 C -0.11441 0.31761 -0.09861 0.30512 -0.08472 0.30096 C -0.07465 0.29309 -0.06337 0.29379 -0.05191 0.29147 C -0.03264 0.29309 -0.01337 0.29402 0.0059 0.29633 C 0.01667 0.29772 0.02795 0.30466 0.03871 0.3072 C 0.05694 0.31784 0.075 0.32895 0.09288 0.34028 C 0.10121 0.3456 0.10903 0.35254 0.11753 0.3574 C 0.12448 0.36133 0.13212 0.36365 0.13871 0.3685 C 0.1566 0.38146 0.17517 0.39349 0.1941 0.40297 C 0.20295 0.40737 0.2151 0.40737 0.22465 0.40922 C 0.24375 0.40829 0.25364 0.40852 0.27049 0.40598 C 0.28437 0.4039 0.29757 0.39834 0.31163 0.39673 C 0.3243 0.39187 0.33403 0.38285 0.34705 0.37938 C 0.35764 0.36989 0.3691 0.36434 0.37882 0.35277 C 0.3901 0.33936 0.38437 0.34422 0.39531 0.33704 C 0.40989 0.31761 0.43125 0.30327 0.44462 0.28222 C 0.46233 0.25423 0.47465 0.22115 0.48229 0.18645 C 0.48351 0.17419 0.48507 0.16494 0.48229 0.15199 C 0.48177 0.14921 0.47899 0.14806 0.4776 0.14574 C 0.47205 0.13718 0.46719 0.12932 0.45989 0.12377 C 0.45694 0.12145 0.45469 0.11821 0.45174 0.11613 C 0.43142 0.10248 0.40121 0.09855 0.37882 0.09555 C 0.33299 0.07889 0.28316 0.08791 0.23646 0.09878 C 0.20347 0.09763 0.17049 0.09693 0.1375 0.09555 C 0.1217 0.09485 0.1066 0.08421 0.09167 0.07843 C 0.08229 0.07473 0.07326 0.07241 0.06354 0.07056 C 0.05955 0.06686 0.05573 0.06478 0.05174 0.06108 C 0.0434 0.04512 0.02882 0.03864 0.01875 0.02499 C 0.01198 0.01574 0.00434 0.00764 -0.00243 -0.00161 C -0.00712 -0.00786 -0.01094 -0.01526 -0.01649 -0.02035 C -0.01372 -0.00971 -0.00729 -0.00485 4.44444E-006 5.096E-006 E">
                                      <p:cBhvr>
                                        <p:cTn id="9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073 -0.55794 C 0.7217 -0.55401 0.7283 -0.55748 0.71424 -0.54221 C 0.70451 -0.53157 0.69375 -0.52 0.68125 -0.51746 C 0.67118 -0.50612 0.65903 -0.49872 0.64601 -0.49525 C 0.6382 -0.48854 0.63351 -0.48831 0.62483 -0.48438 C 0.61285 -0.47883 0.60833 -0.47351 0.59531 -0.47189 C 0.58247 -0.46842 0.56962 -0.46657 0.5566 -0.46402 C 0.39306 -0.46541 0.43368 -0.46079 0.35764 -0.47027 C 0.35208 -0.47305 0.34757 -0.47628 0.34236 -0.47975 C 0.33837 -0.49826 0.35625 -0.50589 0.36597 -0.51098 C 0.38524 -0.50983 0.40191 -0.50705 0.42014 -0.49988 C 0.4224 -0.4978 0.42465 -0.49548 0.42708 -0.49363 C 0.42899 -0.49225 0.43125 -0.49201 0.43299 -0.49063 C 0.45504 -0.47235 0.47448 -0.44945 0.48837 -0.42007 C 0.49184 -0.40319 0.49705 -0.38676 0.50122 -0.37011 C 0.5033 -0.34536 0.50451 -0.31852 0.49774 -0.2947 C 0.49445 -0.28336 0.48906 -0.27642 0.48368 -0.26648 C 0.46545 -0.2327 0.45226 -0.2179 0.42483 -0.19916 C 0.41267 -0.1906 0.40695 -0.1832 0.39306 -0.17881 C 0.37813 -0.17372 0.36337 -0.17233 0.34826 -0.17071 C 0.30833 -0.17302 0.27101 -0.18459 0.23299 -0.20055 C 0.21823 -0.2068 0.20434 -0.21674 0.18941 -0.22253 C 0.15747 -0.23502 0.12344 -0.24149 0.09063 -0.24751 C 0.0691 -0.25144 0.05 -0.25722 0.0283 -0.25861 C -0.00469 -0.25745 -0.0375 -0.25699 -0.07049 -0.25537 C -0.09687 -0.25399 -0.12205 -0.24219 -0.14809 -0.23826 C -0.1566 -0.23571 -0.16562 -0.23502 -0.17413 -0.23201 C -0.18646 -0.22785 -0.2 -0.21975 -0.21163 -0.21327 C -0.22396 -0.20587 -0.21805 -0.20795 -0.22587 -0.19916 C -0.22934 -0.195 -0.23646 -0.18806 -0.23646 -0.18806 C -0.23924 -0.18204 -0.24167 -0.17557 -0.24462 -0.16932 C -0.24496 -0.16701 -0.24514 -0.164 -0.24583 -0.16169 C -0.24635 -0.15961 -0.24774 -0.15845 -0.24809 -0.1566 C -0.25087 -0.14226 -0.25139 -0.12606 -0.25295 -0.11126 C -0.25226 -0.08882 -0.25469 -0.06569 -0.25052 -0.04395 C -0.24792 -0.0303 -0.24045 -0.01688 -0.23403 -0.00624 C -0.22621 0.00694 -0.21753 0.02198 -0.20694 0.03146 C -0.18437 0.05159 -0.15989 0.05506 -0.13403 0.05807 C -0.10868 0.06616 -0.08212 0.05598 -0.05642 0.05344 C -0.05399 0.05182 -0.05174 0.04997 -0.0493 0.04858 C -0.04583 0.04673 -0.04201 0.04604 -0.03871 0.04396 C -0.02969 0.0384 -0.02413 0.02799 -0.01632 0.02036 C -0.01476 0.01365 -0.01024 0.01065 -0.00694 0.00486 C -0.0033 -0.00971 0.00208 -0.02336 0.0059 -0.03747 C 0.00122 -0.05621 0.00695 -0.00462 -1.38889E-006 8.87115E-006 E">
                                      <p:cBhvr>
                                        <p:cTn id="94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-0.45315 C -0.0592 -0.44043 -0.04201 -0.43071 -0.03403 -0.42632 C -0.02778 -0.42285 -0.02066 -0.41637 -0.01406 -0.41382 C 0.01285 -0.40318 0.04045 -0.39647 0.06823 -0.39347 C 0.09444 -0.38491 0.07413 -0.39647 0.1 -0.39185 C 0.1158 -0.38907 0.13038 -0.38283 0.14601 -0.37936 C 0.16858 -0.3664 0.19288 -0.35692 0.21302 -0.33703 C 0.22014 -0.31019 0.18733 -0.30279 0.17413 -0.30256 C 0.11337 -0.30163 0.0526 -0.3014 -0.00816 -0.30094 C -0.01615 -0.29886 -0.02292 -0.29354 -0.03056 -0.29007 C -0.03316 -0.2866 -0.03628 -0.28428 -0.03872 -0.28058 C -0.04149 -0.27619 -0.04323 -0.2711 -0.04583 -0.26647 C -0.05122 -0.23177 -0.01997 -0.21813 -0.00104 -0.20702 C 0.00694 -0.21766 0.00017 -0.21142 0.02014 -0.20378 C 0.04132 -0.19569 0.0651 -0.19176 0.08715 -0.18967 C 0.12847 -0.17556 0.16979 -0.16515 0.21181 -0.15521 C 0.21927 -0.15336 0.22674 -0.15243 0.2342 -0.15058 C 0.2441 -0.14827 0.26354 -0.14272 0.26354 -0.14272 C 0.27847 -0.13161 0.29306 -0.12167 0.30712 -0.10825 C 0.31476 -0.10085 0.31753 -0.09275 0.32361 -0.08465 C 0.32326 -0.07933 0.32431 -0.07355 0.3224 -0.06892 C 0.32135 -0.06661 0.3184 -0.06823 0.31649 -0.06754 C 0.30503 -0.06337 0.30538 -0.06268 0.29184 -0.06106 C 0.28038 -0.06152 0.26892 -0.06129 0.25764 -0.06268 C 0.23906 -0.06522 0.22222 -0.07332 0.20365 -0.07517 C 0.18993 -0.07957 0.1776 -0.08165 0.16354 -0.08304 C 0.15174 -0.08674 0.1401 -0.08928 0.1283 -0.09252 C 0.10156 -0.09044 0.07691 -0.08627 0.05069 -0.08304 C 0.03021 -0.07702 0.0092 -0.07101 -0.01163 -0.06754 C -0.01684 -0.06522 -0.02083 -0.06268 -0.02587 -0.05967 C -0.03108 -0.05643 -0.03524 -0.05574 -0.03993 -0.05181 C -0.03681 -0.04556 -0.03351 -0.04417 -0.02934 -0.03932 C -0.02812 -0.03793 -0.02743 -0.03538 -0.02587 -0.03446 C -0.02257 -0.03261 -0.01528 -0.03145 -0.01528 -0.03145 C -0.0092 -0.02729 -0.00382 -0.01734 -4.72222E-006 -0.00948 C 0.00122 0.00047 0.00365 5.8501E-006 -4.72222E-006 5.8501E-006 E">
                                      <p:cBhvr>
                                        <p:cTn id="9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635 0.41707 C 0.69965 0.40458 0.69583 0.39186 0.69166 0.38099 C 0.68889 0.37335 0.68854 0.36479 0.68576 0.35739 C 0.67847 0.33819 0.67274 0.32038 0.66354 0.30257 C 0.65035 0.27689 0.63646 0.25237 0.61996 0.2304 C 0.61389 0.2223 0.6092 0.21212 0.60225 0.20541 C 0.59791 0.20125 0.59375 0.19686 0.58941 0.19292 C 0.58628 0.19015 0.58298 0.18783 0.57986 0.18506 C 0.57239 0.17789 0.56632 0.16817 0.55868 0.16146 C 0.55364 0.15707 0.5368 0.1492 0.53177 0.14596 C 0.52725 0.14319 0.52326 0.13926 0.51875 0.13648 C 0.51337 0.13324 0.50764 0.13162 0.50225 0.12862 C 0.49739 0.12584 0.49323 0.12098 0.48819 0.11913 C 0.47344 0.11358 0.45399 0.11265 0.43871 0.11127 C 0.39757 0.11751 0.35885 0.12792 0.33646 0.17881 C 0.33229 0.21629 0.35 0.24058 0.3717 0.26024 C 0.40937 0.29447 0.44844 0.30696 0.49288 0.31205 C 0.5125 0.3109 0.52361 0.3102 0.54114 0.30257 C 0.56319 0.28314 0.56857 0.26463 0.57517 0.23202 C 0.57621 0.21374 0.57743 0.19524 0.57986 0.17719 C 0.57969 0.1691 0.58298 0.11497 0.57517 0.09577 C 0.57361 0.09184 0.571 0.0886 0.56927 0.08466 C 0.56666 0.07865 0.56597 0.07079 0.56232 0.06593 C 0.53698 0.03215 0.50833 0.00417 0.47517 -0.01411 C 0.45955 -0.02267 0.446 -0.0303 0.42934 -0.03285 C 0.41337 -0.04164 0.39132 -0.03678 0.37517 -0.03608 C 0.36701 -0.03423 0.36111 -0.02915 0.35295 -0.0266 C 0.34253 -0.01735 0.33003 -0.01365 0.31875 -0.00624 C 0.3059 0.00231 0.29288 0.01087 0.27986 0.01897 C 0.26458 0.02845 0.27396 0.01804 0.26111 0.02984 C 0.21632 0.07079 0.17257 0.11312 0.12222 0.14111 C 0.09826 0.15452 0.07673 0.17002 0.05052 0.17257 C 0.03246 0.17719 0.01597 0.18205 -0.00243 0.18344 C -0.03646 0.19477 -0.02101 0.192 -0.04827 0.19454 C -0.07188 0.2038 -0.09254 0.20009 -0.11771 0.19917 C -0.12622 0.19732 -0.12934 0.19477 -0.13646 0.18807 C -0.14445 0.1728 -0.1309 0.19732 -0.14479 0.17881 C -0.14757 0.17511 -0.14861 0.16933 -0.1507 0.1647 C -0.15104 0.16308 -0.15226 0.15684 -0.15295 0.15522 C -0.15521 0.1499 -0.16007 0.13949 -0.16007 0.13949 C -0.16233 0.12746 -0.16771 0.11682 -0.17066 0.10502 C -0.16979 0.07796 -0.16719 0.05436 -0.16354 0.02822 C -0.16163 0.01481 -0.16146 0.00324 -0.15295 -0.00624 C -0.14705 -0.01272 -0.12795 -0.01758 -0.12118 -0.01874 C -0.08959 -0.02961 -0.05452 -0.01318 -0.0224 -0.00925 C -0.0165 -0.00555 -0.00955 0.00046 -0.00365 0.00324 C 0.00104 0.01203 -2.22222E-006 0.00602 -2.22222E-006 3.19917E-006 E">
                                      <p:cBhvr>
                                        <p:cTn id="9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43419 C -0.02898 -0.42632 -0.02586 -0.42748 -0.02117 -0.42471 C -0.01284 -0.41985 -0.00555 -0.41777 0.00348 -0.41522 C 0.00435 -0.41684 0.00452 -0.42008 0.00591 -0.42008 C 0.01459 -0.42054 0.03178 -0.41684 0.03178 -0.41684 C 0.05852 -0.40874 0.0856 -0.40227 0.11303 -0.3981 C 0.13334 -0.39139 0.154 -0.39047 0.17414 -0.38237 C 0.20747 -0.36896 0.23786 -0.34791 0.26824 -0.32593 C 0.27345 -0.32223 0.27935 -0.32015 0.28473 -0.31668 C 0.3014 -0.30557 0.29549 -0.30743 0.30938 -0.2947 C 0.32084 -0.28406 0.33525 -0.27597 0.34358 -0.26024 C 0.34671 -0.24751 0.34011 -0.24774 0.33299 -0.24613 C 0.30608 -0.24936 0.28091 -0.25792 0.25417 -0.26024 C 0.17362 -0.28776 0.09011 -0.30141 0.00834 -0.3213 C -0.07273 -0.34097 -0.15294 -0.356 -0.23523 -0.3604 C -0.40468 -0.35878 -0.57447 -0.37289 -0.74357 -0.35577 C -0.75537 -0.35461 -0.74444 -0.32431 -0.74235 -0.30881 C -0.74183 -0.30511 -0.73871 -0.30303 -0.73645 -0.30095 C -0.7269 -0.29193 -0.71701 -0.28383 -0.70711 -0.27573 C -0.671 -0.24659 -0.63437 -0.226 -0.59513 -0.20217 C -0.58176 -0.19385 -0.56822 -0.18506 -0.55416 -0.17858 C -0.46006 -0.13463 -0.3578 -0.11589 -0.2611 -0.08304 C -0.1394 -0.04187 -0.01857 0.000230000000000001 0.1047 0.03308 C 0.13716 0.04164 0.1698 0.04858 0.20244 0.05644 C 0.22622 0.06223 0.26025 0.07957 0.2823 0.0879 C 0.31338 0.09947 0.34549 0.1071 0.37657 0.11913 C 0.40817 0.13116 0.43942 0.14411 0.47067 0.15845 C 0.48056 0.16308 0.49029 0.16748 0.50001 0.17257 C 0.50539 0.17534 0.5165 0.18043 0.5165 0.18043 C 0.51858 0.18853 0.51129 0.19084 0.50591 0.19292 C 0.50157 0.19477 0.4974 0.19755 0.49289 0.19917 C 0.48334 0.20287 0.47223 0.20217 0.46233 0.20379 C 0.37171 0.20171 0.36077 0.20241 0.30122 0.19454 C 0.28004 0.1883 0.25921 0.18367 0.23768 0.18043 C 0.23299 0.17881 0.22831 0.17673 0.22362 0.17557 C 0.21928 0.17465 0.21494 0.17511 0.2106 0.17395 C 0.2073 0.17303 0.20452 0.17025 0.20122 0.16933 C 0.19497 0.16771 0.18855 0.16724 0.1823 0.16632 C 0.17883 0.16586 0.17171 0.1647 0.17171 0.1647 C 0.14602 0.14943 0.1198 0.13579 0.09289 0.12538 C 0.08161 0.12098 0.07102 0.11103 0.06008 0.10502 C 0.04654 0.09739 0.0323 0.09253 0.01772 0.09091 C 0.01529 0.06963 0.01251 0.04719 0.00713 0.02683 C 0.00626 0.01966 0.00574 0.0037 5.27778E-006 -4.72126E-006 E">
                                      <p:cBhvr>
                                        <p:cTn id="10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88 0.47953 C 0.09843 0.46912 0.10433 0.45964 0.11058 0.44992 C 0.11145 0.44853 0.11163 0.44599 0.11284 0.44506 C 0.12482 0.43512 0.13593 0.43165 0.1493 0.42795 C 0.16458 0.42887 0.18003 0.42956 0.19531 0.43095 C 0.20347 0.43165 0.21996 0.43419 0.21996 0.43419 C 0.24305 0.43303 0.26631 0.43373 0.2894 0.43095 C 0.29374 0.43049 0.31006 0.41291 0.31527 0.40898 C 0.32031 0.39996 0.31996 0.39047 0.32343 0.38076 C 0.32274 0.37197 0.32274 0.36294 0.32117 0.35415 C 0.31892 0.34166 0.31163 0.33079 0.3059 0.32131 C 0.2868 0.29008 0.27152 0.2688 0.24357 0.24913 C 0.2302 0.23965 0.21683 0.2304 0.20347 0.22091 C 0.16701 0.19524 0.121 0.19246 0.08107 0.18645 C 0.05364 0.18807 0.02604 0.18737 -0.00122 0.1913 C -0.06893 0.20102 -0.13455 0.23132 -0.20244 0.23988 C -0.24497 0.23526 -0.279 0.23202 -0.31528 0.20218 C -0.33004 0.19015 -0.3448 0.17396 -0.35643 0.15661 C -0.36042 0.15059 -0.36442 0.14411 -0.36823 0.13787 C -0.36945 0.13579 -0.37188 0.13162 -0.37188 0.13162 C -0.37622 0.11312 -0.37136 0.13093 -0.37883 0.11289 C -0.38334 0.10201 -0.38455 0.08906 -0.38594 0.0768 C -0.3856 0.06732 -0.3856 0.05783 -0.38473 0.04858 C -0.38403 0.0421 -0.38056 0.03655 -0.37761 0.03123 C -0.35921 -0.00254 -0.33698 -0.00486 -0.30834 -0.01411 C -0.27223 -0.0118 -0.23768 -0.0111 -0.20365 0.00625 C -0.19115 0.01249 -0.18021 0.02267 -0.16823 0.02984 C -0.15799 0.03586 -0.15105 0.03655 -0.14237 0.04534 C -0.12605 0.06176 -0.10851 0.0812 -0.0941 0.10016 C -0.08698 0.10965 -0.0823 0.12214 -0.07414 0.13 C -0.04931 0.15406 -0.02605 0.17789 0.00121 0.19755 C 0.01319 0.20611 0.01961 0.21328 0.03298 0.21929 C 0.05329 0.22832 0.07656 0.23086 0.09756 0.23664 C 0.11927 0.23456 0.14183 0.23803 0.16232 0.22878 C 0.18715 0.21767 0.17795 0.21767 0.19878 0.20541 C 0.20989 0.19894 0.22239 0.19431 0.23298 0.18645 C 0.26128 0.1654 0.28628 0.12584 0.29635 0.08467 C 0.29756 0.06963 0.29826 0.05321 0.30225 0.0391 C 0.29895 -0.00994 0.29427 -0.04672 0.26232 -0.0768 C 0.25017 -0.08813 0.24027 -0.09623 0.22586 -0.09877 C 0.22031 -0.0997 0.20937 -0.10201 0.20937 -0.10201 C 0.19895 -0.10155 0.18038 -0.10294 0.16822 -0.09715 C 0.15416 -0.09044 0.14114 -0.0805 0.12708 -0.07379 C 0.11979 -0.07032 0.11545 -0.0613 0.10815 -0.05806 C 0.10156 -0.04927 0.09652 -0.04302 0.08819 -0.0377 C 0.08281 -0.03053 0.08038 -0.02706 0.07291 -0.02521 C 0.06683 -0.02197 0.05642 -0.01457 0.0493 -0.01249 C 0.03923 -0.00948 0.02656 -0.00902 0.01649 -0.00786 C 0.01128 -0.00555 0.00399 -0.00532 -6.94444E-006 3.02105E-006 E">
                                      <p:cBhvr>
                                        <p:cTn id="10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416 -0.41222 C -0.54669 -0.40482 -0.55086 -0.40945 -0.54235 -0.39811 C -0.54079 -0.39603 -0.53836 -0.39534 -0.53663 -0.39348 C -0.53107 -0.3877 -0.52985 -0.384 -0.5236 -0.38099 C -0.5085 -0.36619 -0.48853 -0.36503 -0.47083 -0.36064 C -0.45763 -0.35763 -0.44461 -0.35347 -0.43176 -0.34953 C -0.42204 -0.34329 -0.42881 -0.34676 -0.41058 -0.34329 C -0.3901 -0.33936 -0.37013 -0.33311 -0.34947 -0.3308 C -0.33732 -0.32617 -0.32794 -0.32432 -0.31527 -0.32293 C -0.30294 -0.31784 -0.29079 -0.31692 -0.27777 -0.31507 C -0.25989 -0.30928 -0.24201 -0.30419 -0.2236 -0.30281 C -0.20329 -0.29379 -0.22326 -0.30119 -0.19531 -0.29633 C -0.18385 -0.29448 -0.17274 -0.29032 -0.16128 -0.28846 C -0.13124 -0.27875 -0.09999 -0.27459 -0.06961 -0.26811 C -0.06093 -0.26626 -0.05312 -0.26209 -0.04496 -0.26024 C -0.01805 -0.25446 0.00834 -0.24775 0.03525 -0.24313 C 0.04653 -0.23896 0.05417 -0.23665 0.06581 -0.23526 C 0.08942 -0.223 0.11285 -0.21074 0.13647 -0.19756 C 0.16754 -0.18021 0.18733 -0.16425 0.20001 -0.12076 C 0.20313 -0.08791 0.19862 -0.08028 0.18351 -0.05807 C 0.18178 -0.05552 0.18091 -0.05229 0.17883 -0.0502 C 0.17483 -0.04627 0.16285 -0.0435 0.15765 -0.04234 C 0.1441 -0.03563 0.15192 -0.03887 0.13647 -0.03447 C 0.1349 -0.03401 0.13178 -0.03309 0.13178 -0.03309 C 0.12796 -0.02962 0.11858 -0.02661 0.11858 -0.02661 C 0.11164 -0.02036 0.104 -0.01967 0.09636 -0.01574 C 0.08195 -0.00834 0.09914 -0.01551 0.0882 -0.01111 C 0.07188 0.00392 0.04237 0.00207 0.02466 0.003 C 0.02153 0.00231 0.01858 -6.41684E-006 0.01528 -6.41684E-006 C -0.00103 -6.41684E-006 0.0066 0.00462 6.38889E-006 -6.41684E-006 E">
                                      <p:cBhvr>
                                        <p:cTn id="10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1 0.48901 C -0.24514 0.48161 -0.26094 0.46611 -0.27066 0.4483 C -0.27378 0.44251 -0.27517 0.43557 -0.27778 0.42956 C -0.28281 0.41776 -0.28021 0.42933 -0.28368 0.41545 C -0.28646 0.40458 -0.28246 0.4136 -0.28715 0.39972 C -0.29184 0.38584 -0.29792 0.37173 -0.30365 0.35901 C -0.30833 0.34837 -0.31076 0.33749 -0.31649 0.32755 C -0.32187 0.31829 -0.32812 0.30904 -0.3342 0.30095 C -0.33559 0.29909 -0.33976 0.29609 -0.34132 0.2947 C -0.34861 0.28776 -0.35538 0.2799 -0.3625 0.27272 C -0.36944 0.26578 -0.36684 0.27064 -0.37309 0.26324 C -0.38125 0.25352 -0.38681 0.24057 -0.39306 0.22877 C -0.3941 0.22692 -0.3941 0.22438 -0.39531 0.22253 C -0.39705 0.21998 -0.39948 0.2186 -0.40121 0.21628 C -0.40538 0.21073 -0.40746 0.20402 -0.41059 0.19754 C -0.41406 0.19061 -0.41736 0.18598 -0.42014 0.17858 C -0.42153 0.17025 -0.42378 0.161 -0.42708 0.15359 C -0.42899 0.14943 -0.43177 0.14573 -0.43299 0.1411 C -0.43524 0.13208 -0.43681 0.12306 -0.4401 0.1145 C -0.44201 0.10409 -0.44271 0.09345 -0.44479 0.08304 C -0.44826 0.04302 -0.45087 0.00138 -0.44236 -0.03771 C -0.44097 -0.05737 -0.43941 -0.07773 -0.43663 -0.09716 C -0.43524 -0.10664 -0.43576 -0.11659 -0.43299 -0.12538 C -0.43073 -0.13232 -0.42656 -0.13787 -0.42361 -0.14435 C -0.42153 -0.17187 -0.42187 -0.16632 -0.4 -0.18182 C -0.39514 -0.20588 -0.38733 -0.22947 -0.38003 -0.25237 C -0.37795 -0.25885 -0.37431 -0.2644 -0.37309 -0.27111 C -0.37222 -0.27527 -0.37187 -0.27967 -0.37066 -0.28383 C -0.36875 -0.29031 -0.36354 -0.30257 -0.36354 -0.30257 C -0.36181 -0.31599 -0.36406 -0.30558 -0.35764 -0.31969 C -0.34774 -0.34143 -0.33507 -0.36665 -0.31649 -0.37613 C -0.31128 -0.38747 -0.30156 -0.387 -0.29306 -0.39186 C -0.27778 -0.40042 -0.28976 -0.39672 -0.27656 -0.39973 C -0.26337 -0.40898 -0.24549 -0.41013 -0.23073 -0.41222 C -0.20121 -0.42239 -0.13385 -0.41407 -0.12361 -0.41384 C -0.08785 -0.40065 -0.12257 -0.41245 -0.0309 -0.40921 C -0.00868 -0.40852 0.01354 -0.39764 0.03524 -0.39348 C 0.04219 -0.39024 0.05017 -0.38654 0.05642 -0.38099 C 0.05868 -0.37891 0.06024 -0.37544 0.06233 -0.37312 C 0.07205 -0.36248 0.08333 -0.35369 0.0941 -0.3449 C 0.1 -0.34004 0.10451 -0.33449 0.11163 -0.33241 C 0.11476 -0.33033 0.11823 -0.32871 0.12118 -0.32617 C 0.12674 -0.32177 0.13125 -0.3146 0.1375 -0.31205 C 0.14705 -0.29933 0.1599 -0.28869 0.16823 -0.27435 C 0.1783 -0.25677 0.18594 -0.23942 0.19514 -0.22115 C 0.1974 -0.20704 0.20521 -0.19663 0.20938 -0.18344 C 0.21337 -0.17095 0.21701 -0.15591 0.21997 -0.14273 C 0.22483 -0.12029 0.225 -0.09785 0.22813 -0.07518 C 0.22865 -0.07148 0.22986 -0.06801 0.23056 -0.06431 C 0.23108 -0.0613 0.23142 -0.05806 0.23177 -0.05483 C 0.2309 -0.03447 0.23038 -0.01411 0.22934 0.00624 C 0.22865 0.0192 0.22292 0.03516 0.21875 0.04696 C 0.21684 0.05228 0.21597 0.05852 0.21285 0.06268 C 0.2092 0.06754 0.20903 0.06754 0.20573 0.07356 C 0.20087 0.08258 0.19757 0.09253 0.19045 0.09877 C 0.18542 0.11288 0.1724 0.12028 0.16337 0.13 C 0.15139 0.14318 0.14236 0.15082 0.12691 0.15683 C 0.12153 0.15891 0.11545 0.15938 0.11059 0.16308 C 0.09618 0.17395 0.08351 0.17441 0.06684 0.17719 C 0.05069 0.1758 0.02639 0.17788 0.0092 0.1677 C -0.01996 0.15012 -0.03142 0.11635 -0.05295 0.08767 C -0.07431 0.05922 -0.0974 0.03331 -0.11892 0.00462 C -0.12396 -0.00208 -0.12552 -0.01249 -0.12951 -0.02036 C -0.1309 -0.02961 -0.13177 -0.0391 -0.13299 -0.04858 C -0.13559 -0.08929 -0.13559 -0.08073 -0.13299 -0.14735 C -0.13281 -0.15175 -0.12674 -0.16933 -0.12604 -0.17095 C -0.11701 -0.19501 -0.10451 -0.21282 -0.08854 -0.22878 C -0.08056 -0.23641 -0.07309 -0.24821 -0.06354 -0.25237 C -0.05625 -0.26209 -0.04653 -0.26579 -0.03663 -0.2681 C -0.03611 -0.2681 -0.01701 -0.26718 -0.01181 -0.26487 C -0.00625 -0.26232 -0.00226 -0.25885 0.00347 -0.257 C 0.0066 -0.25446 0.0092 -0.25052 0.01285 -0.24937 C 0.01597 -0.24821 0.02205 -0.24613 0.02205 -0.24613 C 0.03333 -0.23549 0.04427 -0.22623 0.05399 -0.21328 C 0.05972 -0.20542 0.06215 -0.19084 0.06458 -0.1802 C 0.06858 -0.12885 0.06858 -0.14065 0.0658 -0.0502 C 0.06545 -0.03748 0.05972 -0.01388 0.05295 -0.00463 C 0.04531 0.00555 0.0316 0.00532 0.02205 0.00786 C 0.02066 0.0074 0.0191 0.00647 0.01754 0.00624 C 0.01285 0.00555 0.00816 0.00578 0.00347 0.00462 C -0.00035 0.0037 -1.11111E-006 0.00277 -1.11111E-006 -1.50821E-006 E">
                                      <p:cBhvr>
                                        <p:cTn id="10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468 -0.03933 C -0.79253 -0.03354 -0.81215 -0.04419 -0.80364 -0.04557 C -0.78489 -0.04858 -0.76597 -0.04951 -0.74704 -0.0502 C -0.71024 -0.05159 -0.67326 -0.05136 -0.63645 -0.05182 C -0.61892 -0.0583 -0.60277 -0.05992 -0.58489 -0.06107 C -0.55798 -0.07495 -0.58715 -0.0613 -0.52482 -0.06894 C -0.51996 -0.06963 -0.51545 -0.07287 -0.51058 -0.07379 C -0.50208 -0.07541 -0.48472 -0.0768 -0.48472 -0.0768 C -0.46579 -0.08212 -0.44635 -0.08721 -0.42708 -0.08929 C -0.40538 -0.09831 -0.3835 -0.1004 -0.36128 -0.10664 C -0.3467 -0.11081 -0.33315 -0.1189 -0.31892 -0.12376 C -0.31058 -0.12677 -0.29409 -0.12931 -0.28472 -0.13162 C -0.25729 -0.13833 -0.22899 -0.1462 -0.20138 -0.14897 C -0.17378 -0.15614 -0.14444 -0.16401 -0.11649 -0.16609 C -0.0684 -0.1772 -0.01909 -0.17049 0.02935 -0.16308 C 0.0415 -0.15892 0.05261 -0.15221 0.06459 -0.14735 C 0.07587 -0.13741 0.08334 -0.127 0.08942 -0.11127 C 0.08907 -0.10664 0.08924 -0.10155 0.0882 -0.09716 C 0.08768 -0.09508 0.08577 -0.09415 0.08473 -0.09253 C 0.08299 -0.08952 0.08212 -0.08559 0.08004 -0.08305 C 0.06997 -0.07102 0.04185 -0.07079 0.02935 -0.06732 C 0.00122 -0.05945 0.03698 -0.06454 5.83333E-006 -0.06107 C -0.03923 -0.05043 -0.02256 -0.05298 -0.04947 -0.0502 C -0.09427 -0.0354 -0.14027 -0.02614 -0.18593 -0.01735 C -0.22569 -0.00972 -0.2651 0.00115 -0.30468 0.00948 C -0.33611 0.01596 -0.36788 0.02105 -0.39878 0.03123 C -0.43506 0.05644 -0.46475 0.08003 -0.49409 0.11913 C -0.49808 0.12445 -0.50954 0.14064 -0.51302 0.14897 C -0.51927 0.164 -0.52204 0.18181 -0.52708 0.19754 C -0.53124 0.23571 -0.53281 0.27596 -0.52482 0.31344 C -0.51024 0.38121 -0.45416 0.44436 -0.40468 0.46403 C -0.36753 0.47883 -0.36302 0.47744 -0.33298 0.47952 C -0.29322 0.47606 -0.27777 0.47744 -0.24114 0.46565 C -0.21874 0.45847 -0.19913 0.44136 -0.17881 0.42794 C -0.17274 0.42378 -0.16614 0.421 -0.16006 0.41684 C -0.14652 0.40782 -0.13333 0.3981 -0.11996 0.38862 C -0.09895 0.37335 -0.08177 0.35369 -0.06701 0.32917 C -0.05642 0.31159 -0.05538 0.322 -0.04704 0.29308 C -0.03958 0.26694 -0.03107 0.23965 -0.02708 0.21166 C -0.02378 0.18922 -0.02499 0.16562 -0.01892 0.14411 C -0.01857 0.11543 -0.0184 0.08674 -0.0177 0.05806 C -0.01736 0.04256 -0.00868 0.0266 -0.00468 0.01249 C -0.00364 0.00879 5.83333E-006 0.0037 5.83333E-006 -3.7474E-007 E">
                                      <p:cBhvr>
                                        <p:cTn id="108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056 0.33865 C -0.82569 0.34513 -0.82257 0.34536 -0.81528 0.3479 C -0.79878 0.36155 -0.77743 0.36155 -0.75868 0.36525 C -0.74149 0.37196 -0.72378 0.37497 -0.70694 0.38399 C -0.6934 0.39139 -0.67795 0.39879 -0.66458 0.40758 C -0.65139 0.41638 -0.63802 0.42817 -0.62465 0.43581 C -0.59167 0.45454 -0.60781 0.44413 -0.57639 0.46727 C -0.55417 0.48369 -0.52882 0.49433 -0.50694 0.5126 C -0.48281 0.53296 -0.45382 0.54962 -0.42604 0.55956 C -0.42187 0.56095 -0.40712 0.56234 -0.40469 0.5628 C -0.39878 0.56373 -0.38698 0.56581 -0.38698 0.56581 C -0.36528 0.57321 -0.34479 0.5783 -0.32222 0.57992 C -0.26753 0.58825 -0.30121 0.58362 -0.17517 0.57992 C -0.14965 0.57922 -0.12448 0.56581 -0.09878 0.5628 C -0.07535 0.55563 -0.05139 0.55355 -0.02812 0.54545 C -0.01701 0.53712 -0.00903 0.53157 0.00347 0.52833 C 0.03767 0.49017 0.07483 0.45824 0.10955 0.4217 C 0.12951 0.40065 0.14462 0.3708 0.16354 0.3479 C 0.16649 0.34443 0.16719 0.33842 0.16944 0.33402 C 0.17569 0.3213 0.17969 0.31691 0.18472 0.30418 C 0.19219 0.28568 0.19531 0.27226 0.20122 0.25399 C 0.20313 0.23641 0.20365 0.23756 0.20122 0.21328 C 0.20035 0.20518 0.19375 0.19778 0.19063 0.1913 C 0.18524 0.18043 0.17917 0.17696 0.17066 0.17094 C 0.14896 0.15568 0.12691 0.14619 0.10243 0.14434 C 0.02361 0.11705 0.10625 0.14411 -0.10937 0.13786 C -0.13177 0.13717 -0.15399 0.12468 -0.17639 0.12237 C -0.21806 0.11219 -0.26111 0.10594 -0.30243 0.09253 C -0.31354 0.08882 -0.32396 0.08212 -0.33524 0.07842 C -0.37951 0.06407 -0.42292 0.06245 -0.4658 0.03608 C -0.48698 0.02313 -0.50816 0.00994 -0.52934 -0.00301 C -0.56059 -0.02198 -0.59097 -0.03748 -0.61406 -0.07356 C -0.62986 -0.09808 -0.63646 -0.12353 -0.64705 -0.15198 C -0.64844 -0.16308 -0.65052 -0.17396 -0.65174 -0.18506 C -0.65278 -0.19477 -0.65417 -0.21467 -0.65417 -0.21467 C -0.6533 -0.23549 -0.65521 -0.26463 -0.6375 -0.27435 C -0.62483 -0.28869 -0.60781 -0.28915 -0.59167 -0.29147 C -0.58611 -0.291 -0.53264 -0.28823 -0.51406 -0.2836 C -0.46528 -0.27134 -0.5033 -0.27597 -0.46458 -0.27273 C -0.4309 -0.26163 -0.39878 -0.24728 -0.36701 -0.22878 C -0.36215 -0.226 -0.35677 -0.22531 -0.35174 -0.22253 C -0.33663 -0.21374 -0.32257 -0.20033 -0.30833 -0.18969 C -0.30451 -0.18691 -0.30017 -0.18529 -0.29635 -0.18182 C -0.29045 -0.17627 -0.28576 -0.16887 -0.27986 -0.16308 C -0.25608 -0.13949 -0.23264 -0.11474 -0.20816 -0.09253 C -0.19809 -0.08351 -0.18854 -0.07148 -0.1776 -0.06431 C -0.16389 -0.05529 -0.14931 -0.04904 -0.13524 -0.04071 C -0.12674 -0.03539 -0.11806 -0.02892 -0.10937 -0.0236 C -0.10538 -0.02128 -0.09757 -0.01573 -0.09757 -0.01573 C -0.06701 -0.01689 -0.03437 -0.02175 -0.00486 -0.00787 C -0.00069 -0.00232 -0.00174 -0.00509 1.38889E-006 -1.88758E-006 E">
                                      <p:cBhvr>
                                        <p:cTn id="11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0.55332 C -0.22032 0.52255 -0.22691 0.48739 -0.23056 0.45616 C -0.23195 0.44483 -0.23646 0.42285 -0.23646 0.42285 C -0.24063 0.36919 -0.23368 0.45269 -0.24115 0.38839 C -0.24497 0.3567 -0.24514 0.32686 -0.25539 0.29609 C -0.26441 0.26903 -0.25834 0.28684 -0.27414 0.24289 C -0.28282 0.21837 -0.29254 0.21397 -0.30365 0.19755 C -0.30816 0.19107 -0.31164 0.18321 -0.3165 0.17696 C -0.31997 0.17303 -0.32448 0.17095 -0.3283 0.16771 C -0.34896 0.14943 -0.36372 0.13879 -0.38716 0.12376 C -0.39757 0.11705 -0.40851 0.1108 -0.41997 0.10965 C -0.43803 0.10779 -0.43959 0.10779 -0.46007 0.1034 C -0.4908 0.09646 -0.52188 0.08513 -0.55296 0.08142 C -0.57448 0.07425 -0.59462 0.07101 -0.61528 0.05945 C -0.67796 0.02452 -0.72639 -0.04418 -0.76823 -0.11289 C -0.77118 -0.11774 -0.77188 -0.12491 -0.77414 -0.13023 C -0.78125 -0.14758 -0.79115 -0.16331 -0.79653 -0.18182 C -0.80851 -0.22323 -0.79584 -0.19223 -0.80938 -0.22253 C -0.81164 -0.24335 -0.81528 -0.26139 -0.8165 -0.28221 C -0.81598 -0.30442 -0.81754 -0.32663 -0.81424 -0.34814 C -0.81112 -0.36919 -0.80191 -0.38631 -0.7941 -0.40435 C -0.78125 -0.43442 -0.76493 -0.45617 -0.73889 -0.46403 C -0.72865 -0.46357 -0.71841 -0.46357 -0.70834 -0.46241 C -0.69462 -0.46079 -0.6823 -0.4483 -0.66945 -0.44206 C -0.63507 -0.40759 -0.59931 -0.3759 -0.57188 -0.33079 C -0.55226 -0.2984 -0.53976 -0.26417 -0.52587 -0.22739 C -0.51841 -0.18459 -0.51667 -0.18668 -0.52483 -0.12538 C -0.52553 -0.11983 -0.53577 -0.09114 -0.54115 -0.08166 C -0.575 -0.02175 -0.62987 0.00555 -0.68473 0.01087 C -0.6908 0.01434 -0.69757 0.01503 -0.70365 0.01874 C -0.70573 0.01989 -0.70643 0.02336 -0.70834 0.02498 C -0.70973 0.02614 -0.71146 0.02614 -0.71303 0.0266 C -0.71702 0.03377 -0.71754 0.0384 -0.71893 0.04696 C -0.70834 0.15637 -0.65452 0.27203 -0.57882 0.32107 C -0.55973 0.33356 -0.53959 0.34073 -0.51997 0.35114 C -0.50608 0.35855 -0.49289 0.36803 -0.47882 0.37451 C -0.47292 0.37705 -0.46632 0.37636 -0.46007 0.37775 C -0.3849 0.39371 -0.45035 0.38168 -0.3941 0.39186 C -0.36754 0.39116 -0.33941 0.39371 -0.31303 0.38538 C -0.24688 0.36502 -0.21511 0.31853 -0.20469 0.23201 C -0.204 0.21628 -0.2 0.20079 -0.2 0.18459 C -0.2 0.15313 -0.20053 0.12144 -0.20591 0.09091 C -0.21355 0.04719 -0.22882 0.00463 -0.24237 -0.03609 C -0.25174 -0.06408 -0.2599 -0.08906 -0.26355 -0.11913 C -0.26528 -0.13324 -0.26823 -0.16146 -0.26823 -0.16146 C -0.26667 -0.1802 -0.26598 -0.19917 -0.26355 -0.21791 C -0.25799 -0.25954 -0.22136 -0.27689 -0.19532 -0.28522 C -0.17778 -0.28406 -0.14862 -0.28591 -0.12952 -0.27597 C -0.10365 -0.26301 -0.08351 -0.23919 -0.06129 -0.21791 C -0.04393 -0.20148 -0.02691 -0.18321 -0.01181 -0.16331 C 0.00626 -0.13902 0.0231 -0.11589 0.03403 -0.08466 C 0.03785 -0.07402 0.04462 -0.05182 0.04462 -0.05182 C 0.04636 -0.01504 0.04862 0.01064 0.03056 0.03909 C 0.0198 0.05598 0.02709 0.05066 0.0165 0.05644 C 0.00469 0.0761 -0.01771 0.0798 -0.03542 0.08466 C -0.03698 0.08397 -0.03889 0.08443 -0.04011 0.08281 C -0.04219 0.0805 -0.0448 0.07356 -0.0448 0.07356 C -0.04445 0.06778 -0.04653 0.04326 -0.03889 0.03747 C -0.0375 0.03632 -0.03577 0.03678 -0.03421 0.03609 C -0.03178 0.03516 -0.02917 0.03447 -0.02709 0.03285 C -0.02518 0.03123 -0.02327 0.02938 -0.02118 0.02822 C -0.01823 0.0266 -0.01181 0.02498 -0.01181 0.02498 C -0.00209 0.01573 -0.00556 0.01827 5E-006 0.00763 C 0.00157 0.00162 0.00174 0.00439 5E-006 -3.58779E-006 E">
                                      <p:cBhvr>
                                        <p:cTn id="11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64 0.18944 C 0.14844 0.19569 0.13368 0.19708 0.12344 0.19731 C 0.06389 0.1987 0.00417 0.19939 -0.05538 0.20055 C -0.06684 0.20355 -0.07778 0.20679 -0.08941 0.20841 C -0.13212 0.20795 -0.175 0.20864 -0.21771 0.20679 C -0.23073 0.20633 -0.24739 0.19893 -0.26007 0.19592 C -0.27639 0.19199 -0.29323 0.19083 -0.30937 0.18644 C -0.3401 0.17834 -0.37014 0.16932 -0.40121 0.16446 C -0.40521 0.16284 -0.40903 0.16076 -0.41302 0.15983 C -0.42153 0.15798 -0.43889 0.1566 -0.43889 0.1566 C -0.45312 0.15035 -0.46753 0.14919 -0.48229 0.14734 C -0.49201 0.14341 -0.50052 0.1411 -0.51059 0.13948 C -0.52656 0.13323 -0.54358 0.13161 -0.56007 0.12999 C -0.5717 0.12491 -0.58333 0.12398 -0.59531 0.12051 C -0.60712 0.11704 -0.61771 0.10848 -0.62934 0.10501 C -0.63663 0.10015 -0.64722 0.0946 -0.65295 0.08604 C -0.65521 0.0828 -0.65885 0.07517 -0.65885 0.07517 C -0.65851 0.07263 -0.65903 0.06916 -0.65764 0.06731 C -0.65417 0.06268 -0.63212 0.0599 -0.62934 0.05944 C -0.62118 0.05713 -0.61302 0.05597 -0.60469 0.05482 C -0.58646 0.04764 -0.56701 0.04464 -0.54826 0.04209 C -0.53177 0.03654 -0.51441 0.03215 -0.49757 0.0296 C -0.45 0.01387 -0.41146 0.02497 -0.35642 0.02659 C -0.34323 0.0296 -0.33055 0.03076 -0.31771 0.03585 C -0.26719 0.03538 -0.21649 0.03538 -0.16614 0.03446 C -0.14948 0.03423 -0.13177 0.02752 -0.11528 0.02497 C -0.10868 0.02197 -0.10243 0.02127 -0.09531 0.02035 C -0.07673 0.01387 -0.05434 0.00878 -0.03524 0.00624 C -0.02239 0.00277 -0.01319 -6.03747E-006 -3.88889E-006 -6.03747E-006 E">
                                      <p:cBhvr>
                                        <p:cTn id="114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83 -0.5362 C -0.39409 -0.52695 -0.40242 -0.52047 -0.40937 -0.51723 C -0.42083 -0.50266 -0.43836 -0.50289 -0.45294 -0.50011 C -0.46944 -0.50058 -0.48593 -0.50081 -0.50242 -0.50173 C -0.52065 -0.50266 -0.53958 -0.51052 -0.55763 -0.51446 C -0.57117 -0.52024 -0.58697 -0.52186 -0.60121 -0.52371 C -0.61614 -0.5281 -0.63124 -0.52348 -0.646 -0.52047 C -0.65538 -0.51399 -0.6651 -0.50983 -0.67534 -0.50636 C -0.68992 -0.49502 -0.7026 -0.48161 -0.70833 -0.4594 C -0.70659 -0.44807 -0.70156 -0.44251 -0.69409 -0.43743 C -0.68819 -0.42979 -0.67378 -0.42517 -0.66718 -0.4217 C -0.65781 -0.41661 -0.59513 -0.41452 -0.57881 -0.41383 C -0.42829 -0.39903 -0.346 -0.4099 -0.14114 -0.41082 C -0.12308 -0.41499 -0.10503 -0.41684 -0.08715 -0.4217 C -0.06874 -0.42678 -0.05051 -0.43187 -0.03176 -0.43419 C -0.0144 -0.4402 0.00348 -0.44367 0.02119 -0.44691 C 0.04271 -0.44529 0.05261 -0.4439 0.07049 -0.44043 C 0.07726 -0.43534 0.08369 -0.43396 0.08699 -0.42493 C 0.08629 -0.41429 0.0856 -0.39486 0.07761 -0.38723 C 0.05087 -0.36201 0.00643 -0.35253 -0.02586 -0.34952 C -0.05294 -0.34999 -0.08003 -0.34975 -0.10711 -0.35114 C -0.13315 -0.35253 -0.15885 -0.36502 -0.18472 -0.36849 C -0.20364 -0.37404 -0.22308 -0.37844 -0.24235 -0.38098 C -0.26579 -0.39116 -0.23784 -0.38052 -0.27065 -0.38723 C -0.27465 -0.38815 -0.27847 -0.39093 -0.28246 -0.39186 C -0.28784 -0.39301 -0.2934 -0.39301 -0.29878 -0.39347 C -0.31822 -0.40203 -0.30017 -0.39532 -0.32482 -0.39972 C -0.34444 -0.40319 -0.36371 -0.40805 -0.3835 -0.41082 C -0.40642 -0.41799 -0.43072 -0.41545 -0.45416 -0.41707 C -0.46163 -0.41846 -0.46926 -0.42008 -0.47656 -0.4217 C -0.48211 -0.42331 -0.48749 -0.4247 -0.49305 -0.42655 C -0.49496 -0.42678 -0.49878 -0.42794 -0.49878 -0.42794 C -0.57777 -0.42678 -0.5927 -0.43396 -0.646 -0.41869 C -0.65329 -0.41198 -0.66857 -0.41013 -0.67777 -0.40758 C -0.68958 -0.40088 -0.70156 -0.39648 -0.71301 -0.38885 C -0.72048 -0.3789 -0.72951 -0.37219 -0.73767 -0.36363 C -0.7394 -0.36178 -0.74027 -0.35854 -0.74235 -0.35762 C -0.74565 -0.35531 -0.74947 -0.35531 -0.75294 -0.35461 C -0.75902 -0.33564 -0.77013 -0.31853 -0.78003 -0.3028 C -0.78367 -0.28452 -0.79027 -0.26393 -0.79774 -0.24774 C -0.80173 -0.22808 -0.80729 -0.20795 -0.81423 -0.18968 C -0.81718 -0.14527 -0.81232 -0.19523 -0.81892 -0.1647 C -0.81979 -0.16077 -0.81944 -0.15637 -0.81996 -0.15221 C -0.82222 -0.13648 -0.82551 -0.12098 -0.82708 -0.10502 C -0.8276 -0.09993 -0.82742 -0.09438 -0.82829 -0.08929 C -0.82968 -0.08119 -0.83419 -0.06616 -0.83419 -0.06616 C -0.83576 -0.05089 -0.83645 -0.03516 -0.83888 -0.02059 C -0.84044 -0.01087 -0.84357 0.00787 -0.84357 0.00787 C -0.84461 0.02221 -0.84617 0.03216 -0.85069 0.04511 C -0.85312 0.06084 -0.85433 0.065 -0.85416 0.08305 C -0.85347 0.13533 -0.85242 0.1876 -0.85069 0.23965 C -0.84947 0.27458 -0.82517 0.30812 -0.80833 0.33056 C -0.78819 0.35809 -0.7618 0.37497 -0.73767 0.39487 C -0.72933 0.40158 -0.72065 0.41129 -0.7118 0.41684 C -0.70156 0.42332 -0.68906 0.42887 -0.67777 0.43095 C -0.66944 0.43257 -0.65294 0.43581 -0.65294 0.43581 C -0.64062 0.43558 -0.42308 0.4335 -0.36128 0.42957 C -0.32204 0.42702 -0.28281 0.40805 -0.24357 0.40273 C -0.22916 0.39741 -0.21371 0.39487 -0.19878 0.39325 C -0.18854 0.3914 -0.17829 0.38955 -0.16822 0.38723 C -0.16128 0.3833 -0.15451 0.38238 -0.14704 0.38053 C -0.14149 0.37937 -0.13055 0.37613 -0.13055 0.37613 C -0.12274 0.37012 -0.11649 0.36965 -0.10833 0.36526 C -0.09687 0.35901 -0.08749 0.34629 -0.08003 0.33357 C -0.07673 0.32154 -0.06475 0.31599 -0.05885 0.30535 C -0.05312 0.29517 -0.04479 0.28777 -0.03888 0.27736 C -0.03367 0.26833 -0.02985 0.25885 -0.0236 0.25052 C -0.02117 0.23132 -0.01371 0.21259 -0.00833 0.19431 C -0.00642 0.17743 -0.00503 0.16077 -0.00242 0.14388 C -0.00173 0.12214 -0.00208 0.09669 0.00348 0.07518 C 0.00521 0.05899 0.00643 0.05066 0.00469 0.03285 C 0.00278 0.01319 8.33333E-006 0.02337 8.33333E-006 1.88758E-006 E">
                                      <p:cBhvr>
                                        <p:cTn id="11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59 0.4608 C 0.10885 0.45155 0.1092 0.4416 0.10694 0.43258 C 0.10434 0.42194 0.09757 0.41315 0.09288 0.40436 C 0.08212 0.384 0.06997 0.3611 0.05521 0.34468 C 0.03646 0.32386 0.06267 0.35162 0.03646 0.32895 C 0.01788 0.31275 0.03924 0.32548 0.01754 0.31021 C 0.01458 0.30836 0.01111 0.30766 0.00816 0.30535 C 0.00434 0.30258 0.00139 0.29772 -0.00243 0.29448 C -0.00486 0.2924 -0.00799 0.2917 -0.01059 0.28985 C -0.02378 0.28037 -0.03628 0.26811 -0.04948 0.25862 C -0.06059 0.2503 -0.07326 0.2466 -0.08472 0.23966 C -0.09826 0.23202 -0.09149 0.2341 -0.10486 0.23202 C -0.14253 0.21745 -0.18264 0.21537 -0.22118 0.20658 C -0.36788 0.20727 -0.44062 0.19385 -0.55417 0.21606 C -0.55729 0.21791 -0.56024 0.21976 -0.56354 0.22069 C -0.57049 0.22254 -0.58472 0.22416 -0.58472 0.22416 C -0.59774 0.22809 -0.60903 0.23017 -0.6224 0.23202 C -0.63802 0.23642 -0.65503 0.23896 -0.67066 0.24428 C -0.67604 0.24845 -0.68142 0.25099 -0.68594 0.25677 C -0.6901 0.28361 -0.67795 0.30096 -0.6625 0.31484 C -0.66319 0.31275 -0.66649 0.30905 -0.66476 0.30859 C -0.65885 0.30651 -0.63507 0.32108 -0.6283 0.32293 C -0.60608 0.32895 -0.58368 0.33311 -0.56128 0.33704 C -0.55191 0.33589 -0.54236 0.33311 -0.53299 0.3338 C -0.51545 0.3345 -0.49757 0.3382 -0.48003 0.34005 C -0.45295 0.34514 -0.4934 0.33635 -0.4625 0.34606 C -0.46128 0.34653 -0.4408 0.3493 -0.4401 0.3493 C -0.39601 0.36642 -0.32587 0.35809 -0.29184 0.35879 C -0.25451 0.35948 -0.21736 0.3611 -0.18003 0.36179 C -0.17083 0.36364 -0.16198 0.36711 -0.15295 0.36966 C -0.14219 0.37267 -0.13056 0.37151 -0.12014 0.37776 C -0.10746 0.38469 -0.10139 0.39163 -0.09062 0.40112 C -0.08785 0.40713 -0.08472 0.41222 -0.08246 0.41847 C -0.08351 0.43397 -0.08351 0.44276 -0.09427 0.44993 C -0.13698 0.44576 -0.17865 0.43443 -0.22118 0.42795 C -0.27066 0.4106 -0.33003 0.41939 -0.38125 0.41685 C -0.39566 0.41384 -0.4092 0.40921 -0.42361 0.4076 C -0.44358 0.39695 -0.46736 0.39811 -0.48837 0.39163 C -0.49913 0.3884 -0.52118 0.384 -0.52118 0.384 C -0.53108 0.39048 -0.54132 0.38816 -0.55191 0.38724 C -0.56354 0.38308 -0.57448 0.38238 -0.58611 0.37914 C -0.61319 0.37151 -0.58924 0.37637 -0.60833 0.3729 C -0.61389 0.37082 -0.61927 0.36873 -0.62483 0.36688 C -0.62639 0.36619 -0.62951 0.36503 -0.62951 0.36503 C -0.62674 0.37914 -0.62674 0.37267 -0.64479 0.36017 C -0.64844 0.35763 -0.65191 0.35509 -0.65538 0.35254 C -0.67309 0.34005 -0.68194 0.33404 -0.70243 0.33057 C -0.71493 0.31969 -0.73021 0.31414 -0.74236 0.30258 C -0.74583 0.29934 -0.74844 0.29448 -0.75191 0.29124 C -0.75399 0.28916 -0.75694 0.28916 -0.75885 0.28661 C -0.79444 0.2466 -0.82951 0.16957 -0.83767 0.1078 C -0.83698 0.06779 -0.84792 0.04812 -0.82708 0.03286 C -0.82309 0.0236 -0.82101 0.01435 -0.81771 0.00463 C -0.81337 -0.00809 -0.81562 0.00116 -0.80955 -0.00948 C -0.80556 -0.01642 -0.80781 -0.0178 -0.80486 -0.02659 C -0.80399 -0.02891 -0.80226 -0.03053 -0.80121 -0.03284 C -0.80035 -0.03492 -0.79965 -0.03723 -0.79896 -0.03932 C -0.78976 -0.06893 -0.78229 -0.10015 -0.77187 -0.12861 C -0.77014 -0.14619 -0.77083 -0.14873 -0.75885 -0.15544 C -0.74931 -0.16816 -0.75573 -0.18782 -0.75069 -0.20217 C -0.74965 -0.20517 -0.7467 -0.20633 -0.74479 -0.20841 C -0.74444 -0.21049 -0.74045 -0.23131 -0.73889 -0.23363 C -0.73698 -0.2364 -0.7342 -0.23779 -0.73177 -0.23987 C -0.73212 -0.24242 -0.73333 -0.24519 -0.73299 -0.24774 C -0.73246 -0.25259 -0.72951 -0.26185 -0.72951 -0.26185 C -0.72587 -0.29516 -0.7033 -0.30811 -0.68472 -0.32615 C -0.67917 -0.33147 -0.67413 -0.33703 -0.66823 -0.34165 C -0.66424 -0.35021 -0.65434 -0.35206 -0.64705 -0.35438 C -0.63229 -0.3664 -0.61128 -0.37034 -0.59427 -0.37311 C -0.59115 -0.37358 -0.58785 -0.37404 -0.58472 -0.37473 C -0.57812 -0.37612 -0.56493 -0.37936 -0.56493 -0.37936 C -0.5566 -0.38306 -0.5474 -0.38283 -0.53889 -0.38398 C -0.52951 -0.38769 -0.52031 -0.38861 -0.51059 -0.39023 C -0.28177 -0.38884 -0.36215 -0.39254 -0.26823 -0.3826 C -0.25521 -0.37959 -0.26701 -0.3826 -0.24948 -0.37612 C -0.24358 -0.37381 -0.23177 -0.36987 -0.23177 -0.36987 C -0.22292 -0.36293 -0.21597 -0.35715 -0.2059 -0.35276 C -0.1941 -0.34212 -0.18229 -0.33309 -0.16944 -0.32454 C -0.16389 -0.32083 -0.15955 -0.31459 -0.15417 -0.31042 C -0.1401 -0.29978 -0.12621 -0.28729 -0.11181 -0.27758 C -0.0908 -0.26347 -0.06875 -0.2519 -0.04826 -0.23663 C -0.0401 -0.23062 -0.03333 -0.22206 -0.02604 -0.21466 C -0.02309 -0.21165 -0.01944 -0.21003 -0.01649 -0.20702 C -0.0066 -0.19754 0.00191 -0.18528 0.01163 -0.17556 C 0.01458 -0.17256 0.01545 -0.16724 0.01754 -0.16307 C 0.02413 -0.15104 0.0283 -0.15012 0.03403 -0.13346 C 0.04063 -0.11473 0.04601 -0.09622 0.05174 -0.07679 C 0.05538 -0.06453 0.05816 -0.05713 0.0599 -0.04394 C 0.05868 -0.02729 0.06076 -0.02359 0.04931 -0.02035 C 0.04028 -0.01433 0.03854 -0.01572 0.03056 -0.0111 C 0.02066 -0.00554 0.01111 6.78695E-006 -3.33333E-006 6.78695E-006 E">
                                      <p:cBhvr>
                                        <p:cTn id="11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76 0.36063 C -0.87344 0.3449 -0.87413 0.32801 -0.87066 0.31205 C -0.86372 0.28059 -0.85278 0.24983 -0.84358 0.21952 C -0.83316 0.18483 -0.82587 0.14967 -0.81649 0.1145 C -0.81024 0.06107 -0.80312 0.00717 -0.7941 -0.04534 C -0.79219 -0.07749 -0.7849 -0.1071 -0.77882 -0.13787 C -0.7776 -0.14411 -0.77778 -0.15059 -0.77639 -0.1566 C -0.77292 -0.17187 -0.76788 -0.17765 -0.76354 -0.19269 C -0.76198 -0.19824 -0.76163 -0.20449 -0.76007 -0.21004 C -0.74253 -0.26995 -0.70434 -0.31251 -0.65764 -0.32431 C -0.64427 -0.32339 -0.6309 -0.32315 -0.61771 -0.3213 C -0.59201 -0.3176 -0.57083 -0.28545 -0.56007 -0.257 C -0.55417 -0.2415 -0.55174 -0.22577 -0.54583 -0.21004 C -0.53993 -0.1721 -0.53681 -0.13393 -0.53177 -0.09553 C -0.52951 -0.05251 -0.52622 -0.00763 -0.5342 0.03447 C -0.5408 0.0694 -0.54983 0.1078 -0.56476 0.1381 C -0.58194 0.17303 -0.56858 0.14203 -0.58472 0.17095 C -0.60885 0.21397 -0.62934 0.24104 -0.66701 0.26024 C -0.66944 0.25931 -0.67361 0.26047 -0.67413 0.25723 C -0.67708 0.23757 -0.66997 0.21883 -0.66233 0.20379 C -0.65868 0.17789 -0.66267 0.192 -0.64479 0.1647 C -0.63958 0.1566 -0.63611 0.14689 -0.63177 0.1381 C -0.62656 0.12746 -0.61094 0.11427 -0.60469 0.10826 C -0.58924 0.09322 -0.58333 0.0879 -0.56476 0.07541 C -0.55017 0.0657 -0.53264 0.05991 -0.51649 0.05644 C -0.5099 0.05506 -0.49653 0.05344 -0.49653 0.05344 C -0.48316 0.05436 -0.47031 0.05367 -0.45764 0.05968 C -0.44861 0.06408 -0.44253 0.07055 -0.43524 0.07842 C -0.41163 0.10386 -0.39253 0.13579 -0.36823 0.16007 C -0.34601 0.18228 -0.31753 0.19639 -0.29062 0.20379 C -0.28628 0.19547 -0.28941 0.19871 -0.2776 0.20079 C -0.25937 0.20379 -0.26493 0.20264 -0.24948 0.20703 C -0.17344 0.20657 -0.09722 0.20634 -0.02118 0.20541 C 0.00451 0.20495 0.03003 0.18274 0.05295 0.17095 C 0.06441 0.15915 0.07778 0.14967 0.08594 0.13324 C 0.08733 0.12676 0.08854 0.12121 0.08941 0.1145 C 0.08889 0.10386 0.08733 0.07772 0.08125 0.06755 C 0.07066 0.04997 0.05677 0.03701 0.04358 0.0236 C 0.03889 0.01874 0.03247 0.01758 0.02708 0.01411 C 0.01892 0.00856 0.0092 3.96715E-006 -3.05556E-006 3.96715E-006 E">
                                      <p:cBhvr>
                                        <p:cTn id="120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Первы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41760" y="2570040"/>
            <a:ext cx="35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накрест лежащие угл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вны, то прямые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26920" y="2997360"/>
            <a:ext cx="3097080" cy="2096640"/>
            <a:chOff x="826920" y="2997360"/>
            <a:chExt cx="3097080" cy="2096640"/>
          </a:xfrm>
        </p:grpSpPr>
        <p:sp>
          <p:nvSpPr>
            <p:cNvPr id="233" name=""/>
            <p:cNvSpPr/>
            <p:nvPr/>
          </p:nvSpPr>
          <p:spPr>
            <a:xfrm>
              <a:off x="826920" y="335736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71280" y="4725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113840" y="3141720"/>
              <a:ext cx="2521080" cy="19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1280" y="3357360"/>
              <a:ext cx="0" cy="13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39640" y="4005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3717720"/>
              <a:ext cx="14436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6200" y="4365360"/>
              <a:ext cx="14472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4292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364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092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164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11280" y="4581360"/>
              <a:ext cx="144360" cy="14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66560" y="3357360"/>
              <a:ext cx="144720" cy="14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9640" y="3286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2920" y="32860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39640" y="3644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952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5280" y="407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3280" y="443700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2920" y="472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71280" y="43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6920" y="2997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1280" y="39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6560" y="2997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2000" y="29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508720" y="2060640"/>
            <a:ext cx="28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4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400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900"/>
                            </p:stCondLst>
                            <p:childTnLst>
                              <p:par>
                                <p:cTn id="1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0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400"/>
                            </p:stCondLst>
                            <p:childTnLst>
                              <p:par>
                                <p:cTn id="1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4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9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торо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соответственные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95640" y="5013360"/>
            <a:ext cx="2521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140360" y="5877000"/>
            <a:ext cx="2520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32000" y="4653000"/>
            <a:ext cx="64764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8360" y="566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47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732720" y="6237360"/>
            <a:ext cx="144360" cy="144360"/>
            <a:chOff x="6732720" y="6237360"/>
            <a:chExt cx="144360" cy="144360"/>
          </a:xfrm>
        </p:grpSpPr>
        <p:sp>
          <p:nvSpPr>
            <p:cNvPr id="270" name=""/>
            <p:cNvSpPr/>
            <p:nvPr/>
          </p:nvSpPr>
          <p:spPr>
            <a:xfrm flipH="1">
              <a:off x="6732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32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380360" y="6237360"/>
            <a:ext cx="144360" cy="144360"/>
            <a:chOff x="7380360" y="6237360"/>
            <a:chExt cx="144360" cy="144360"/>
          </a:xfrm>
        </p:grpSpPr>
        <p:sp>
          <p:nvSpPr>
            <p:cNvPr id="273" name=""/>
            <p:cNvSpPr/>
            <p:nvPr/>
          </p:nvSpPr>
          <p:spPr>
            <a:xfrm flipH="1">
              <a:off x="738036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8036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56720" y="6237360"/>
            <a:ext cx="144360" cy="144360"/>
            <a:chOff x="7956720" y="6237360"/>
            <a:chExt cx="144360" cy="144360"/>
          </a:xfrm>
        </p:grpSpPr>
        <p:sp>
          <p:nvSpPr>
            <p:cNvPr id="276" name=""/>
            <p:cNvSpPr/>
            <p:nvPr/>
          </p:nvSpPr>
          <p:spPr>
            <a:xfrm flipH="1">
              <a:off x="7956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020000" y="609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87080" y="609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28000" y="609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59640" y="6219720"/>
            <a:ext cx="684360" cy="638280"/>
          </a:xfrm>
          <a:custGeom>
            <a:avLst/>
            <a:gdLst>
              <a:gd name="textAreaLeft" fmla="*/ 41040 w 684360"/>
              <a:gd name="textAreaRight" fmla="*/ 643320 w 68436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3159" h="21600">
                <a:moveTo>
                  <a:pt x="0" y="0"/>
                </a:moveTo>
                <a:lnTo>
                  <a:pt x="23159" y="0"/>
                </a:lnTo>
                <a:lnTo>
                  <a:pt x="23159" y="21600"/>
                </a:lnTo>
                <a:lnTo>
                  <a:pt x="0" y="21600"/>
                </a:lnTo>
                <a:close/>
              </a:path>
              <a:path fill="lightenLess" w="23159" h="21600">
                <a:moveTo>
                  <a:pt x="0" y="0"/>
                </a:moveTo>
                <a:lnTo>
                  <a:pt x="23159" y="0"/>
                </a:lnTo>
                <a:lnTo>
                  <a:pt x="21759" y="1400"/>
                </a:lnTo>
                <a:lnTo>
                  <a:pt x="1400" y="1400"/>
                </a:lnTo>
                <a:close/>
              </a:path>
              <a:path fill="darken" w="23159" h="21600">
                <a:moveTo>
                  <a:pt x="23159" y="0"/>
                </a:moveTo>
                <a:lnTo>
                  <a:pt x="23159" y="21600"/>
                </a:lnTo>
                <a:lnTo>
                  <a:pt x="21759" y="20200"/>
                </a:lnTo>
                <a:lnTo>
                  <a:pt x="21759" y="1400"/>
                </a:lnTo>
                <a:close/>
              </a:path>
              <a:path fill="darkenLess" w="23159" h="21600">
                <a:moveTo>
                  <a:pt x="2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9" y="20200"/>
                </a:lnTo>
                <a:close/>
              </a:path>
              <a:path fill="lighten" w="2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9" h="21600">
                <a:moveTo>
                  <a:pt x="1157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159" h="21600">
                <a:moveTo>
                  <a:pt x="12685" y="14281"/>
                </a:moveTo>
                <a:lnTo>
                  <a:pt x="12685" y="12323"/>
                </a:lnTo>
                <a:cubicBezTo>
                  <a:pt x="12685" y="11496"/>
                  <a:pt x="13015" y="10800"/>
                  <a:pt x="13616" y="10800"/>
                </a:cubicBezTo>
                <a:cubicBezTo>
                  <a:pt x="14747" y="10800"/>
                  <a:pt x="15644" y="9434"/>
                  <a:pt x="15644" y="7849"/>
                </a:cubicBezTo>
                <a:cubicBezTo>
                  <a:pt x="15644" y="5534"/>
                  <a:pt x="13790" y="3794"/>
                  <a:pt x="11579" y="3794"/>
                </a:cubicBezTo>
                <a:cubicBezTo>
                  <a:pt x="9369" y="3794"/>
                  <a:pt x="7697" y="5534"/>
                  <a:pt x="7697" y="7849"/>
                </a:cubicBezTo>
                <a:lnTo>
                  <a:pt x="9551" y="7849"/>
                </a:lnTo>
                <a:cubicBezTo>
                  <a:pt x="9551" y="6709"/>
                  <a:pt x="10474" y="5821"/>
                  <a:pt x="11579" y="5821"/>
                </a:cubicBezTo>
                <a:cubicBezTo>
                  <a:pt x="12685" y="5821"/>
                  <a:pt x="13616" y="6709"/>
                  <a:pt x="13616" y="7849"/>
                </a:cubicBezTo>
                <a:cubicBezTo>
                  <a:pt x="13616" y="8589"/>
                  <a:pt x="13146" y="9320"/>
                  <a:pt x="12685" y="9320"/>
                </a:cubicBezTo>
                <a:cubicBezTo>
                  <a:pt x="11579" y="9320"/>
                  <a:pt x="10474" y="10800"/>
                  <a:pt x="10474" y="12323"/>
                </a:cubicBezTo>
                <a:lnTo>
                  <a:pt x="10474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400"/>
                            </p:stCondLst>
                            <p:childTnLst>
                              <p:par>
                                <p:cTn id="18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900"/>
                            </p:stCondLst>
                            <p:childTnLst>
                              <p:par>
                                <p:cTn id="19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9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7900"/>
                            </p:stCondLst>
                            <p:childTnLst>
                              <p:par>
                                <p:cTn id="2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Трети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Если при пересечении двух прямых секущей сумма </a:t>
            </a:r>
            <a:r>
              <a:rPr b="0" lang="ru-RU" sz="3200" spc="-1" strike="noStrike" u="sng">
                <a:solidFill>
                  <a:srgbClr val="ffb800"/>
                </a:solidFill>
                <a:uFillTx/>
                <a:latin typeface="Comic Sans MS"/>
              </a:rPr>
              <a:t>односторонних</a:t>
            </a:r>
            <a:r>
              <a:rPr b="0" i="1" lang="ru-RU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углов равна 180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°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850"/>
                            </p:stCondLst>
                            <p:childTnLst>
                              <p:par>
                                <p:cTn id="237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850"/>
                            </p:stCondLst>
                            <p:childTnLst>
                              <p:par>
                                <p:cTn id="24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9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0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35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изображение"/>
          <p:cNvPicPr/>
          <p:nvPr/>
        </p:nvPicPr>
        <p:blipFill>
          <a:blip r:embed="rId1"/>
          <a:stretch/>
        </p:blipFill>
        <p:spPr>
          <a:xfrm>
            <a:off x="1523880" y="2514600"/>
            <a:ext cx="7162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54:40Z</dcterms:created>
  <dc:creator>User</dc:creator>
  <dc:description/>
  <dc:language>en-US</dc:language>
  <cp:lastModifiedBy>User</cp:lastModifiedBy>
  <dcterms:modified xsi:type="dcterms:W3CDTF">2013-02-06T10:37:33Z</dcterms:modified>
  <cp:revision>6</cp:revision>
  <dc:subject/>
  <dc:title>Слайд 1</dc:title>
</cp:coreProperties>
</file>