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A32-09A2-44C2-A2EB-DBB31193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020-9301-4E73-8543-1BA8920D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D0057-C482-4902-AFE8-63A59E36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F352F-D26D-44BA-9925-4D8A54CC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0AE69-B8CF-4C0D-8251-96C8E764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941E6-941A-4DA7-96F9-FAF69C7A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A62D9-5986-44E0-9134-14E51420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343FA-CC90-42ED-BF63-8E7F7182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42A94-11C3-46FF-8AAA-B917EDFA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9081E-33D1-4CD4-8823-53B5D0E9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63F0B-1FB2-482D-9C32-2FEFA120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4A104-0F78-4593-8AFA-8D7295C7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43EB-E0F4-4DE6-B5FA-E64945CA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0C293-D4B0-4968-86EA-06CD7A4D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F04A6-F484-4E6D-A7B6-A892DB6F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9FB10-1323-49CE-AA3A-011A6E29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F5D1E-FEDE-4ADF-9FFA-6690EC28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1D468-5B3D-47C0-8CED-3096EA36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1E96C-A750-41F3-9DCB-4FAD9538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C4089-8FA4-4854-8513-F5C60C15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17673-7981-4F61-9B71-D60D3B67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C0C73-78A5-472C-A24B-5B4BE9C6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1790B-25A2-4E9E-9039-E6752058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6A8-6E2A-429D-934E-39F0975B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1CB60-C7C5-42F7-BF4B-023E178E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845BBF-17C5-4002-826F-FC0F9F5B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214D86-4254-40CC-9955-6EAD77C7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98F5BB-5320-4BDD-A15F-B698171D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6C35BE-DE04-490C-BD74-6D96EFF3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BE6DBE-99F8-451F-AFF4-AC83F1C8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CE458F-DD74-429A-8190-877E2E2A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F9D182-CCD2-4321-B920-8FCDA587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8A3862-5899-4E3F-B82D-285D5051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005F8C-F91A-4BA9-8044-EDDF0CEF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1FFBF-14AF-4714-B85A-B1FBA952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54D948-F872-47B8-B805-69571A4F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1F5A15-D773-465B-A22F-4B47F7D0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94B88B-6FCB-41D3-909B-A6102122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18B23-C9EE-431F-BEEA-FF061071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A8C63-A904-4ED6-A524-ECD1F77B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51966-D19D-43EA-A130-C4985CD1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137F6-BE14-4140-BC8E-DD030E99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0972E-AA91-4726-8DE6-C39D85E0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33208-BF2B-496F-B727-EF269828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2AC94-6344-4903-914E-AB99B968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F7BFE-70CA-4D32-AA71-6C09275B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1F434-5824-417B-AFA9-66DC2C85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DB36F-F4C7-4BDC-B5BB-6443473A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1DE14-16D8-4F67-99DC-028F2D4F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7BA1E-933E-4B5C-A1CD-AE62C215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089BE-EA0F-4A79-B558-8DCC1DDE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4AE92-7ED8-436B-BF09-EBE68F2A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72510-21CD-4CE2-B427-0B2B92D9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7DD19-F759-4BD9-A89F-5E6D01CB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7E810-A564-4863-9C03-266EC1A4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8FCFC-415E-46AC-BCA2-3AD2D458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545-FA21-4255-AED0-7145727B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222FC-92F9-446A-B127-48CAA643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995E1-A1BC-43BF-A108-51F8D7F0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F2953-BA85-490D-82A1-4103ACC2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B1503-00ED-4265-A71A-42FB0839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E9B4D-D5FD-48A5-B3A2-69DD6857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F34A-4107-4F50-978B-F9A0879A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61678-3DF8-413D-9079-4A9E5791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9837B-E8B5-4A5B-B995-2FD396D7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B1452-EC32-4C10-ADCF-EE050A49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26974-0035-4620-966B-4B265AC9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9B3-36A0-450D-A7DD-D0A672E2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1D47-CE51-43E3-85E0-002E709C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03799-049A-4A61-B614-14271575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DAFFE-A40B-41BA-8062-30A99664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DD207-F0F3-4041-9894-4B89F174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2653B-0D67-41F6-B7DA-967CD50A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CD12-762F-43F1-ABBD-E0D999A5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D1492-4AA3-43C6-9FA3-E161326A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1D20-E0E6-4791-A75E-61958279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D1968-062A-4C2A-BE16-6D155395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83493-5C73-49E5-88A8-9BAF4C51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E36-D965-4605-8121-6A4E5CDD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E874F-E7C3-4D20-B3B2-81D08BDE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966FA-CB51-4702-88A5-7611230E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51FEF-0230-4022-AD64-55C9E856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67780-D538-4F4C-A46B-3888A6E2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8D2FA-8154-4581-8221-A765781B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17AFD-DB12-4D60-B2B0-AD894C62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5B650-2DF3-4DF6-B268-87AF7392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91AE5-0BB9-452E-814F-D4820475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184D8-57F2-40A6-971D-547AF410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14002-B579-49AF-B662-0B3F535F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C3D-FF47-4002-9620-B26C6F74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AD4D6-AD2E-4089-B663-F6CBFB19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F1F78-AB61-4510-985B-4565DE63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D0A40-58A2-4288-BC16-F45DD550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88894-0B84-43CD-BEA9-5CD03434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ED893-D0AB-4CAC-BC99-7BE25938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73811-5C72-4F9B-86E3-ABB61669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35C63-4278-473A-834E-F32422C9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AC28C-7036-4EFA-8DBC-4868A553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D36CD-45A4-405F-8192-8BA5E928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E25C1-AFA3-4760-9E1A-971373BB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14C-520B-4E05-A8BF-C102D372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F8A08-AD19-49B3-8E7F-B880FDEF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4F0AA-B99E-46B9-A9CC-D53E28C8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3A84F-64AA-455C-90DB-8CA82DC6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4A402-2DB6-4765-9227-7629D326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116CD-DAEC-4A98-9F2A-81E4BF98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C4FD2-3054-450E-9613-1747742D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24AA1-1300-4063-AFDE-871A2BA6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D2DD0-CA72-460A-8285-45CB2A62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110BD-F756-4745-A8EC-A24604BA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021A6-5E54-47F7-AF93-FFEA9F79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9EB-08B6-4163-9CC8-6334247A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AD087-2500-4B44-99D9-1951907C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6E7B7-A4EF-496E-A365-D73A4117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62CA2-1863-4204-B41E-E99B4DDD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C773A-E504-4524-BAAB-C406EA39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7A228-C055-4733-B37E-647E77CB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B9739-62DF-4899-8F70-E526B860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C2F41-913F-405D-A5E6-DC513DD3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71575-F900-401C-A4D6-828BA10D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AED52-223C-4DA6-9702-0842C477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6B48B-29B6-4444-A6F3-AC01D18A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8A6-E8CA-4CE3-8EDB-9F13989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41655-BDDC-486B-9F11-265A51CE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DDD69-FFAB-411E-B352-5E6F5AD8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44CA2-AA2F-4F08-B957-4D6FFDBB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73EA4-9C1F-40E2-98B2-FC4C17E7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3C048-436A-470D-880B-095F49A9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4818E7-DF9F-420D-B3D4-1E608106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38A390-1E03-45F3-B240-B5A33F28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3F8658-D2E4-4676-B66F-ED5130E7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57657E-DE22-4E16-AF34-4EAB536B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C9F9D6-E868-489C-816E-7249FB3D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E3F-935F-4303-9718-E1FC6F0F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20E5F0-D31F-47A7-8C4C-4D071F1C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2C8D03-CD41-4A8B-BB30-CD71AF0B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1E651E-3E61-471B-882B-3418CD33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FD8908-6424-4621-9D74-1BC6288C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B65E90-300D-4D07-AADD-73DF782D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90C21F-0134-4F83-AB6D-21273C03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E025D8-4809-4D62-9771-691AEF85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FCCA0-0E3A-474A-80DC-045BACC8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99F37-2F39-4E00-80A5-C46B07B2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8BF4F-D66B-4ECC-B1A5-DC8A470A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8583-CD87-47EA-890F-68642F79E1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34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59E3-7C20-4183-BC12-9FFDFF41908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F823-A4B9-4A2C-AEFD-11DC6D3C00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1229-5EDD-4F66-AAE4-5EC417ACAD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2678-3844-4D5B-A939-4C1E4964B9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FC5A-6BF0-4BF2-9AAC-22C0B0B58A6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D7C7-02AD-4434-9F17-0FE355CB1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0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67F5-2AE9-460E-AD7D-ECBB9B797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D74F-0932-4FD0-88D5-9B2C9C37F6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D7ED-778C-4555-B9F9-39AF018A3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9D43-97B0-415B-A735-7508E6DB5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9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5777-12C8-4F79-A62B-96DD76AF6E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ikiznanie.ru/ru-wz/index.php/&#1047;&#1084;&#1077;&#1103;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leftpic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НУТРЕННИЕ ВОДЫ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ЮЖНОЙ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МЕРИКИ</a:t>
            </a:r>
            <a:br>
              <a:rPr sz="6000"/>
            </a:b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5562720" y="2894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Прямоугольник 4"/>
          <p:cNvSpPr/>
          <p:nvPr/>
        </p:nvSpPr>
        <p:spPr>
          <a:xfrm>
            <a:off x="468360" y="5661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c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36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Водопад Анхель</a:t>
            </a:r>
            <a:br>
              <a:rPr sz="40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5292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Самый высокий водопад на планете расположен в юго-восточной части Венесуэлы, в горном массиве Ауян-Тепуи, и носит имя своего первооткрывателя Хуана Анхеля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5" name="Picture 4" descr="АНХЕЛЬ"/>
          <p:cNvPicPr/>
          <p:nvPr/>
        </p:nvPicPr>
        <p:blipFill>
          <a:blip r:embed="rId1"/>
          <a:stretch/>
        </p:blipFill>
        <p:spPr>
          <a:xfrm>
            <a:off x="5364000" y="189000"/>
            <a:ext cx="3456000" cy="57150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5"/>
          <p:cNvSpPr/>
          <p:nvPr/>
        </p:nvSpPr>
        <p:spPr>
          <a:xfrm>
            <a:off x="6470280" y="5951520"/>
            <a:ext cx="17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ahoma"/>
              </a:rPr>
              <a:t>1054 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70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1" dur="250" autoRev="1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38894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ffff"/>
                </a:solidFill>
                <a:latin typeface="Arial"/>
              </a:rPr>
              <a:t>Парана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1940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ccff"/>
                </a:solidFill>
                <a:latin typeface="Arial"/>
              </a:rPr>
              <a:t>Характеризуется ярко выраженной сезонностью режима. Много порогов и водопадов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7" descr="парана"/>
          <p:cNvPicPr/>
          <p:nvPr/>
        </p:nvPicPr>
        <p:blipFill>
          <a:blip r:embed="rId2"/>
          <a:stretch/>
        </p:blipFill>
        <p:spPr>
          <a:xfrm>
            <a:off x="0" y="1700280"/>
            <a:ext cx="4788000" cy="4572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9"/>
          <p:cNvSpPr/>
          <p:nvPr/>
        </p:nvSpPr>
        <p:spPr>
          <a:xfrm>
            <a:off x="4802040" y="406440"/>
            <a:ext cx="189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ahoma"/>
              </a:rPr>
              <a:t>4380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Comic Sans MS"/>
              </a:rPr>
              <a:t>Водопад Игуас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2" name="Picture 4" descr="exig2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e941c"/>
                </a:solidFill>
                <a:latin typeface="Arial"/>
              </a:rPr>
              <a:t>Игуасу-великие воды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44" name="Picture 5" descr="459036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1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Озеро Титика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76720" y="1700280"/>
            <a:ext cx="406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"/>
              </a:rPr>
              <a:t>на языке индейцев-инков- “свинцовая скала”.</a:t>
            </a:r>
            <a:r>
              <a:rPr b="0" lang="ru-RU" sz="5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5" descr="Плавучий остров Урос"/>
          <p:cNvPicPr/>
          <p:nvPr/>
        </p:nvPicPr>
        <p:blipFill>
          <a:blip r:embed="rId1"/>
          <a:stretch/>
        </p:blipFill>
        <p:spPr>
          <a:xfrm>
            <a:off x="0" y="2421000"/>
            <a:ext cx="49323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Самая полноводная река</a:t>
            </a: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 в мире – Амазон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3883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Пиран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Анако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Arial"/>
              </a:rPr>
              <a:t>Виктория-Регия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merican Class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Самый высокий водопад в мире - Анхель.</a:t>
            </a:r>
            <a:br>
              <a:rPr sz="5400"/>
            </a:b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merican Class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merican Classic"/>
              </a:rPr>
              <a:t>Самое большое из высокогорных озер - Титика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43280" y="0"/>
            <a:ext cx="6300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К  р  у  п  н  е  й  ш  и  е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ре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363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А м а з о н к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Мараньо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Укаял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Мадей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Риу-Негр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Оринок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П а р а н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Парагва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Garamond"/>
              </a:rPr>
              <a:t>Сан-Франсиск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Бассейны океанов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468000" y="6858000"/>
            <a:ext cx="69840" cy="77760"/>
          </a:xfrm>
          <a:prstGeom prst="rect">
            <a:avLst/>
          </a:prstGeom>
          <a:noFill/>
          <a:ln w="0">
            <a:noFill/>
          </a:ln>
        </p:spPr>
        <p:txBody>
          <a:bodyPr tIns="32040" bIns="3204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0" name="Picture 4" descr="Image87"/>
          <p:cNvPicPr/>
          <p:nvPr/>
        </p:nvPicPr>
        <p:blipFill>
          <a:blip r:embed="rId1"/>
          <a:stretch/>
        </p:blipFill>
        <p:spPr>
          <a:xfrm>
            <a:off x="1835280" y="692280"/>
            <a:ext cx="5473440" cy="6165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5"/>
          <p:cNvSpPr/>
          <p:nvPr/>
        </p:nvSpPr>
        <p:spPr>
          <a:xfrm rot="16200000">
            <a:off x="-557280" y="30132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Тих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Text Box 7"/>
          <p:cNvSpPr/>
          <p:nvPr/>
        </p:nvSpPr>
        <p:spPr>
          <a:xfrm rot="5400000">
            <a:off x="6072480" y="3150360"/>
            <a:ext cx="45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ahoma"/>
              </a:rPr>
              <a:t>Атлантиче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91796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10" descr=""/>
          <p:cNvPicPr/>
          <p:nvPr/>
        </p:nvPicPr>
        <p:blipFill>
          <a:blip r:embed="rId1"/>
          <a:stretch/>
        </p:blipFill>
        <p:spPr>
          <a:xfrm>
            <a:off x="4427640" y="4076640"/>
            <a:ext cx="47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Бассейн Амазонки"/>
          <p:cNvPicPr/>
          <p:nvPr/>
        </p:nvPicPr>
        <p:blipFill>
          <a:blip r:embed="rId2"/>
          <a:stretch/>
        </p:blipFill>
        <p:spPr>
          <a:xfrm>
            <a:off x="250920" y="1413000"/>
            <a:ext cx="3960720" cy="4897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"/>
          <p:cNvPicPr/>
          <p:nvPr/>
        </p:nvPicPr>
        <p:blipFill>
          <a:blip r:embed="rId3"/>
          <a:stretch/>
        </p:blipFill>
        <p:spPr>
          <a:xfrm>
            <a:off x="4427640" y="1125360"/>
            <a:ext cx="4716360" cy="28069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0" y="10476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Tahoma"/>
              </a:rPr>
              <a:t>Амазон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4716360" y="333360"/>
            <a:ext cx="33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-6400к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Text Box 12"/>
          <p:cNvSpPr/>
          <p:nvPr/>
        </p:nvSpPr>
        <p:spPr>
          <a:xfrm>
            <a:off x="250920" y="623736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ahoma"/>
              </a:rPr>
              <a:t>7180тыс.кв.к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Обитатели Амазон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623" name="Picture 8" descr="анаконда"/>
          <p:cNvPicPr/>
          <p:nvPr/>
        </p:nvPicPr>
        <p:blipFill>
          <a:blip r:embed="rId1"/>
          <a:stretch/>
        </p:blipFill>
        <p:spPr>
          <a:xfrm>
            <a:off x="900000" y="1844640"/>
            <a:ext cx="3527640" cy="42483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9"/>
          <p:cNvSpPr/>
          <p:nvPr/>
        </p:nvSpPr>
        <p:spPr>
          <a:xfrm>
            <a:off x="1166760" y="59500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анако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Text Box 10"/>
          <p:cNvSpPr/>
          <p:nvPr/>
        </p:nvSpPr>
        <p:spPr>
          <a:xfrm>
            <a:off x="4676760" y="1989000"/>
            <a:ext cx="447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иктория-Рег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6" name="Picture 14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176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3970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 Black"/>
              </a:rPr>
              <a:t>пирань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427280" y="1196640"/>
            <a:ext cx="471636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пасны тигры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это ясно.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Пиранья –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более опасна.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Она без ры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и без воя</a:t>
            </a:r>
            <a:br>
              <a:rPr sz="4000"/>
            </a:b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Съедает в речке всё живое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7" descr="ПИРАНЬЯ"/>
          <p:cNvPicPr/>
          <p:nvPr/>
        </p:nvPicPr>
        <p:blipFill>
          <a:blip r:embed="rId1"/>
          <a:stretch/>
        </p:blipFill>
        <p:spPr>
          <a:xfrm>
            <a:off x="0" y="1989000"/>
            <a:ext cx="43560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ff"/>
                </a:solidFill>
                <a:latin typeface="Arial"/>
              </a:rPr>
              <a:t>Ориноко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0072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В переводе с языка индейцев - Кольчатая </a:t>
            </a:r>
            <a:r>
              <a:rPr b="0" lang="ru-RU" sz="4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змея</a:t>
            </a:r>
            <a:r>
              <a:rPr b="1" lang="ru-RU" sz="4000" spc="-1" strike="noStrike">
                <a:solidFill>
                  <a:srgbClr val="00ffff"/>
                </a:solidFill>
                <a:latin typeface="Verdana"/>
              </a:rPr>
              <a:t>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2"/>
          <a:stretch/>
        </p:blipFill>
        <p:spPr>
          <a:xfrm>
            <a:off x="0" y="1413000"/>
            <a:ext cx="4500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30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3:15:11Z</dcterms:created>
  <dc:creator>ioo</dc:creator>
  <dc:description/>
  <dc:language>en-US</dc:language>
  <cp:lastModifiedBy>гелюся</cp:lastModifiedBy>
  <dcterms:modified xsi:type="dcterms:W3CDTF">2013-02-07T19:28:31Z</dcterms:modified>
  <cp:revision>41</cp:revision>
  <dc:subject/>
  <dc:title>ВНУТРЕННИЕ ВОДЫ ЮЖНОЙ АМЕРИКИ</dc:title>
</cp:coreProperties>
</file>