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E5DD-2906-424C-B57A-A5CA27C0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2BD9-4A1C-4FFA-80AC-5D351B00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A1F60-2CC3-4327-BCE7-AF1F9EFD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9A92F-2813-405E-B0BC-B964D5A9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90760-37C2-422D-B29A-D588CDDC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A5572-DA41-4B94-9FDC-1FE93147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FA107-6DCF-43FE-AE91-0150181E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076C2-4375-4E45-B57E-343CFF47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58CBC-0B5D-4838-8F96-85D4D244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572DC-E71D-4AFC-A3F4-0439A06D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7949D-C978-4BF5-90D2-B814072A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29B0D-478B-4318-9546-8CEC2E25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53BF-D4DD-432D-9548-0C67106C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EDE2B-2B13-4F6B-8FA3-DF619E96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32B91-0FA5-464E-834F-C41FA104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1E007-3D37-4844-BA5D-90C76591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C9406-B3AB-485B-B66F-D76C0FBD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57295-6582-4ECF-9418-5F4E145A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4963C-B744-413A-AB07-04698BD4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8A303-D434-48C2-8354-6FA60C42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E25D4-0105-4E22-A8C2-294A4852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A3CD6-3C2B-4B29-8263-326C4D80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949DC-39FB-49E8-9DE1-8CF34B30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95DC-C885-47C1-90F3-FA9E37DF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7C0B2-CEB1-4678-A0AF-99D5EF14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022FD6-A24E-4271-BC18-143F8F1C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430EC4-2853-47F5-BAFC-BECA774E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9F317E-5718-4EEF-9CBE-007B7B72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450214-2921-4D7F-9BBC-2B3B2D18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3DF995-0EE0-4887-A299-1613DF1A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48EC83-8B91-4412-84AF-3BA9F456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87E430-F167-4A91-872D-81BF8DA7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7E3A80-B8F6-41A4-A80E-3CF65EC3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1AE0D5-A3A9-49BE-8A2F-AD81B08B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4E289-CCCD-462A-B29B-CE6E2470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0D92B5-8169-4B40-8265-5DA11FBA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BBBB6B-C603-4950-B0C7-9675A277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32A903-C3CB-4CEF-BAEE-AA32EB98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66C48-39A0-4CFA-9D6B-3AA3F604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64951-273A-42F4-A824-30DFF750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79D16-288A-4D17-B7A7-3E031414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7E806-EBBC-465F-A0D0-2B2D8BE0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70F91-61CB-4199-A814-91882C57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19AA2-5B11-4B0F-89EF-94BD2C53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6D3ED-C031-4140-A13B-CF8B5672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802A0-DFA3-4D4C-A2B7-3F41F05A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09808-251D-4D7C-A288-B2024B3A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726BC-9656-4D99-82C6-278D5472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12451-F339-4072-A55F-16E44E97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E008A-01B9-4D04-84EC-20A33AD3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338C1-7F3D-44A2-A671-ABDC7003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E791B-AAF0-4C35-9D69-2CEF21BF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9FA25-8999-4764-BE3D-E6C54375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A4370-5053-495B-8A51-88E71F5F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3E0A8-ADC7-4075-A64B-12D9FAB8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04774-82CD-48E2-825E-4E5E0018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738-0608-4EC3-B2B1-CD7D5180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3BC4B-6B65-4D26-BA7B-42889528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7EE85-2F6B-4511-9AE6-A3E07926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2B89F-D151-481E-9083-67477033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EC23D-0629-4D5E-8F0B-C6A9ADB1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F9203-0ED0-4736-99A9-F44A0BA9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CCB12-AC77-4032-BFB7-5E369698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88852-53AB-4893-88EC-1C99710D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EE9BC-07E4-4B56-9B1A-0BBB9289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722F9-ABE8-4790-92F0-CB5D9107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B91F1-90CC-4FDE-BCEA-2CCDECE9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53F9-37B3-4DBA-9235-B54C6707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8D7C5-7159-41C4-AE0D-841CE36A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4E646-624E-4C2C-B491-53287F02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A22DC-4F33-4ACD-B8B9-C2C77D25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E0969-F257-4916-96C9-D5C31C80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5BEDE-795A-4B41-A30E-1D038B06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33468-1BDE-4E02-AE07-EE8C2DE2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E608E-A3F5-4702-94B8-28BD81A4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4E5C3-D4B3-4334-8EE0-C01255C6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98984-BA4F-4FAC-A604-C144604A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1126E-479D-449B-A333-03595C79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E68B-3171-44C4-A44E-C8135BD3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E5130-D5CD-47F4-BCC3-B4C75B18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64C78-EDBD-47E1-85D8-182EBAFB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21921-A4CD-477B-8E1B-2E97558D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86936-21F0-495C-A10F-459BDB61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85CD0-4DCF-488E-8F26-5B5EB559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F55CD-F9D1-48C9-B7A9-E09376AD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333D6-881A-4353-8B1D-C407A32B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28400-C779-4CF1-9499-E196E056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614FD-4F43-467A-9BFE-B6E3E7D3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76286-9040-42A7-A465-702D99E9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52C6-813F-44EF-ADD8-0834B1CE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36636-DB5A-4BB0-881E-D78EE3D4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08453-C682-4A1C-9D94-A55D0EF0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14C0E-E57E-48E9-A8F5-0B6859DD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A3454-B88B-4031-8338-6FC6CE2E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6EE7C-15FC-4C71-9513-88F3BE44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C9945-CE28-4FE7-AC13-914F33E6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21F21-0557-4B22-BF41-18B200D2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2C999-DA71-4239-8FDC-F11401A9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D6A27-22E3-46D5-9514-7283A069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4E2B1-FB6C-4950-A1B7-CF217535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CE8B-9F3D-4A13-9917-5DF93D23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A2964-09FC-4D29-9F17-6C31A97F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03FEA-369D-4F32-B40D-BFAE4FF4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1E65C-888E-4557-BBF5-52A02456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4329D-2E31-47F1-865D-B6BEB36C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D5288-58AC-4EDE-970E-2AAE8730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EF718-B14B-4059-AFE8-2EC42C8B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1D56D-DF10-4AFB-BAD8-806FD1C7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36814-E810-46BF-894C-6EDA74EE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C10BE-00E1-4C0F-97D1-2E480451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C0A37-82A0-442E-95F9-FF59FEE3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2DA7-1BD7-4AF6-AC6A-0A691528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8BA93-A9F0-4DE1-9B6E-5C70B123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7D324-BC50-4679-83AE-484705D5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7C2E1-734C-4A6A-87C1-68C05950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FFAED-6E68-4183-AFAE-D452697F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7DDC0-A534-43F1-80A1-B604E497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86246-1FAF-4D0C-8923-EFD01711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A144C-43F0-4306-BD1F-D7B54AE5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F66DD-EE50-4563-B1CF-B47159A7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CEAE0-E7E9-4E2D-9C7E-10A109A1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94BB8-E071-4605-9B27-F03EEB8C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4709-DFB7-4D90-AF56-3DBE95C1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A90A3-2E05-44AD-A3FB-B4D12CA1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D896A-0AD7-4361-BD64-A7B4168C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8D4A9-A0F2-4D4C-B0DF-88C367DF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7AF4F-61A9-4318-A802-7A7796A1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46810-7FD2-42A1-9ECD-18C0074D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55413D-46FB-4CE1-8365-A6677F57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CC5A76-B10A-47A6-9981-517BD282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20FABF-D774-4D6A-AAB8-FE60F88F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CA26AF-CF3E-4EE5-84F9-799AE223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5B4B62-7191-4361-A28B-7E9C5763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2D9-52DC-494A-BEE3-530389F1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4E23A2-35C6-48F5-80F0-7A930745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2EBF30-6AE1-4417-A604-2D0DD550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2B60F6-42B1-4FDB-96D0-5123A4AD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CC38F5-B6F7-48A1-A45E-61A41EDE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681C1E-A4E4-4B76-8644-489C0361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D94400-3706-46BD-B7FD-50EF734D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627A20-7802-4A6A-AD96-DD1D084C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B0E2C-FD70-4E4B-87C2-663CE53B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C2A1D-F2FF-4D02-B7C5-69A8F5F5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74D90-BC91-47B2-9E52-43507AD6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10CF-2A67-43AB-A2FE-57C7EDAE0B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3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46B3-8ACA-475E-AED5-DE046CA7D6D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9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9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9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0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0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4249-E82C-4D2C-A25E-70555FD642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5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DEE1-5F62-4C0C-88DE-17E0FA64EE2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BB5B-801C-4A83-9112-F923E41BCC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22D4-06D1-4BD7-A185-E6C123B1E70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FA46-14EA-45CA-A7E6-A4DD70683E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94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9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0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9214-9A19-4A8D-B374-D6699E493E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9E3B-2A17-4923-8953-4DFDC01239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339D-6388-4196-ADB4-781655DD7E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49D9-A9E8-4D93-A8B2-257A9992F1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8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8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9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53AC-0AE8-49BD-9B03-0881A1E918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ikiznanie.ru/ru-wz/index.php/&#1047;&#1084;&#1077;&#1103;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4" descr="leftpic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ВНУТРЕННИЕ ВОДЫ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ЮЖНОЙ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АМЕРИКИ</a:t>
            </a:r>
            <a:br>
              <a:rPr sz="6000"/>
            </a:b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5562720" y="2894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Прямоугольник 4"/>
          <p:cNvSpPr/>
          <p:nvPr/>
        </p:nvSpPr>
        <p:spPr>
          <a:xfrm>
            <a:off x="468360" y="5661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c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536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99"/>
                </a:solidFill>
                <a:latin typeface="Arial"/>
              </a:rPr>
              <a:t>Водопад Анхель</a:t>
            </a:r>
            <a:br>
              <a:rPr sz="40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5292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Самый высокий водопад на планете расположен в юго-восточной части Венесуэлы, в горном массиве Ауян-Тепуи, и носит имя своего первооткрывателя Хуана Анхеля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5" name="Picture 4" descr="АНХЕЛЬ"/>
          <p:cNvPicPr/>
          <p:nvPr/>
        </p:nvPicPr>
        <p:blipFill>
          <a:blip r:embed="rId1"/>
          <a:stretch/>
        </p:blipFill>
        <p:spPr>
          <a:xfrm>
            <a:off x="5364000" y="189000"/>
            <a:ext cx="3456000" cy="571500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5"/>
          <p:cNvSpPr/>
          <p:nvPr/>
        </p:nvSpPr>
        <p:spPr>
          <a:xfrm>
            <a:off x="6470280" y="5951520"/>
            <a:ext cx="17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1054 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50" autoRev="1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70" dur="250" autoRev="1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1" dur="250" autoRev="1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3889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ffff"/>
                </a:solidFill>
                <a:latin typeface="Arial"/>
              </a:rPr>
              <a:t>Парана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1940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ccff"/>
                </a:solidFill>
                <a:latin typeface="Arial"/>
              </a:rPr>
              <a:t>Характеризуется ярко выраженной сезонностью режима. Много порогов и водопадов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9" name="Picture 7" descr="парана"/>
          <p:cNvPicPr/>
          <p:nvPr/>
        </p:nvPicPr>
        <p:blipFill>
          <a:blip r:embed="rId2"/>
          <a:stretch/>
        </p:blipFill>
        <p:spPr>
          <a:xfrm>
            <a:off x="0" y="1700280"/>
            <a:ext cx="4788000" cy="45720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9"/>
          <p:cNvSpPr/>
          <p:nvPr/>
        </p:nvSpPr>
        <p:spPr>
          <a:xfrm>
            <a:off x="4802040" y="406440"/>
            <a:ext cx="189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ahoma"/>
              </a:rPr>
              <a:t>4380к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Comic Sans MS"/>
              </a:rPr>
              <a:t>Водопад Игуас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42" name="Picture 4" descr="exig2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1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e941c"/>
                </a:solidFill>
                <a:latin typeface="Arial"/>
              </a:rPr>
              <a:t>Игуасу-великие воды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44" name="Picture 5" descr="459036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9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4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51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Озеро Титикак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76720" y="1700280"/>
            <a:ext cx="4067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"/>
              </a:rPr>
              <a:t>на языке индейцев-инков- “свинцовая скала”.</a:t>
            </a:r>
            <a:r>
              <a:rPr b="0" lang="ru-RU" sz="5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5" descr="Плавучий остров Урос"/>
          <p:cNvPicPr/>
          <p:nvPr/>
        </p:nvPicPr>
        <p:blipFill>
          <a:blip r:embed="rId1"/>
          <a:stretch/>
        </p:blipFill>
        <p:spPr>
          <a:xfrm>
            <a:off x="0" y="2421000"/>
            <a:ext cx="493236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Самая полноводная река</a:t>
            </a: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 в мире – Амазон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83883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Пирань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Анакон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Виктория-Регия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American Class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merican Classic"/>
              </a:rPr>
              <a:t>Самый высокий водопад в мире - Анхель.</a:t>
            </a:r>
            <a:br>
              <a:rPr sz="5400"/>
            </a:br>
            <a:r>
              <a:rPr b="0" lang="ru-RU" sz="5400" spc="-1" strike="noStrike">
                <a:solidFill>
                  <a:srgbClr val="0000ff"/>
                </a:solidFill>
                <a:latin typeface="American Class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American Class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merican Classic"/>
              </a:rPr>
              <a:t>Самое большое из высокогорных озер - Титика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843280" y="0"/>
            <a:ext cx="6300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К  р  у  п  н  е  й  ш  и  е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рек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3631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А м а з о н к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Мараньон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Укаял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Мадейр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Риу-Негр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Оринок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П а р а н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Парагва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Сан-Франсиск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Бассейны океанов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468000" y="6858000"/>
            <a:ext cx="69840" cy="77760"/>
          </a:xfrm>
          <a:prstGeom prst="rect">
            <a:avLst/>
          </a:prstGeom>
          <a:noFill/>
          <a:ln w="0">
            <a:noFill/>
          </a:ln>
        </p:spPr>
        <p:txBody>
          <a:bodyPr tIns="32040" bIns="3204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0" name="Picture 4" descr="Image87"/>
          <p:cNvPicPr/>
          <p:nvPr/>
        </p:nvPicPr>
        <p:blipFill>
          <a:blip r:embed="rId1"/>
          <a:stretch/>
        </p:blipFill>
        <p:spPr>
          <a:xfrm>
            <a:off x="1835280" y="692280"/>
            <a:ext cx="5473440" cy="61657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5"/>
          <p:cNvSpPr/>
          <p:nvPr/>
        </p:nvSpPr>
        <p:spPr>
          <a:xfrm rot="16200000">
            <a:off x="-557280" y="301320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ahoma"/>
              </a:rPr>
              <a:t>Тих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Text Box 7"/>
          <p:cNvSpPr/>
          <p:nvPr/>
        </p:nvSpPr>
        <p:spPr>
          <a:xfrm rot="5400000">
            <a:off x="6072480" y="3150360"/>
            <a:ext cx="45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ahoma"/>
              </a:rPr>
              <a:t>Атлантичес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917960" y="190476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10" descr=""/>
          <p:cNvPicPr/>
          <p:nvPr/>
        </p:nvPicPr>
        <p:blipFill>
          <a:blip r:embed="rId1"/>
          <a:stretch/>
        </p:blipFill>
        <p:spPr>
          <a:xfrm>
            <a:off x="4427640" y="4076640"/>
            <a:ext cx="4716360" cy="24480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4" descr="Бассейн Амазонки"/>
          <p:cNvPicPr/>
          <p:nvPr/>
        </p:nvPicPr>
        <p:blipFill>
          <a:blip r:embed="rId2"/>
          <a:stretch/>
        </p:blipFill>
        <p:spPr>
          <a:xfrm>
            <a:off x="250920" y="1413000"/>
            <a:ext cx="3960720" cy="4897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" descr=""/>
          <p:cNvPicPr/>
          <p:nvPr/>
        </p:nvPicPr>
        <p:blipFill>
          <a:blip r:embed="rId3"/>
          <a:stretch/>
        </p:blipFill>
        <p:spPr>
          <a:xfrm>
            <a:off x="4427640" y="1125360"/>
            <a:ext cx="4716360" cy="280692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6"/>
          <p:cNvSpPr/>
          <p:nvPr/>
        </p:nvSpPr>
        <p:spPr>
          <a:xfrm>
            <a:off x="0" y="10476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Tahoma"/>
              </a:rPr>
              <a:t>Амазонк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4716360" y="333360"/>
            <a:ext cx="33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-6400к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250920" y="623736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ahoma"/>
              </a:rPr>
              <a:t>7180тыс.кв.к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Обитатели Амазон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623" name="Picture 8" descr="анаконда"/>
          <p:cNvPicPr/>
          <p:nvPr/>
        </p:nvPicPr>
        <p:blipFill>
          <a:blip r:embed="rId1"/>
          <a:stretch/>
        </p:blipFill>
        <p:spPr>
          <a:xfrm>
            <a:off x="900000" y="1844640"/>
            <a:ext cx="3527640" cy="424836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9"/>
          <p:cNvSpPr/>
          <p:nvPr/>
        </p:nvSpPr>
        <p:spPr>
          <a:xfrm>
            <a:off x="1166760" y="5950080"/>
            <a:ext cx="30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анакон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Text Box 10"/>
          <p:cNvSpPr/>
          <p:nvPr/>
        </p:nvSpPr>
        <p:spPr>
          <a:xfrm>
            <a:off x="4676760" y="1989000"/>
            <a:ext cx="447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иктория-Рег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6" name="Picture 14" descr=""/>
          <p:cNvPicPr/>
          <p:nvPr/>
        </p:nvPicPr>
        <p:blipFill>
          <a:blip r:embed="rId2"/>
          <a:stretch/>
        </p:blipFill>
        <p:spPr>
          <a:xfrm>
            <a:off x="4788000" y="2924280"/>
            <a:ext cx="4176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970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 Black"/>
              </a:rPr>
              <a:t>пирань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427280" y="1196640"/>
            <a:ext cx="471636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Опасны тигры 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это ясно.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Пиранья –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более опасна.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Она без рык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и без воя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Съедает в речке всё живое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Picture 7" descr="ПИРАНЬЯ"/>
          <p:cNvPicPr/>
          <p:nvPr/>
        </p:nvPicPr>
        <p:blipFill>
          <a:blip r:embed="rId1"/>
          <a:stretch/>
        </p:blipFill>
        <p:spPr>
          <a:xfrm>
            <a:off x="0" y="1989000"/>
            <a:ext cx="43560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ff"/>
                </a:solidFill>
                <a:latin typeface="Arial"/>
              </a:rPr>
              <a:t>Ориноко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0072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00ffff"/>
                </a:solidFill>
                <a:latin typeface="Verdana"/>
              </a:rPr>
              <a:t>В переводе с языка индейцев - Кольчатая </a:t>
            </a:r>
            <a:r>
              <a:rPr b="0" lang="ru-RU" sz="4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змея</a:t>
            </a:r>
            <a:r>
              <a:rPr b="1" lang="ru-RU" sz="4000" spc="-1" strike="noStrike">
                <a:solidFill>
                  <a:srgbClr val="00ffff"/>
                </a:solidFill>
                <a:latin typeface="Verdana"/>
              </a:rPr>
              <a:t>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32" name="Picture 4" descr=""/>
          <p:cNvPicPr/>
          <p:nvPr/>
        </p:nvPicPr>
        <p:blipFill>
          <a:blip r:embed="rId2"/>
          <a:stretch/>
        </p:blipFill>
        <p:spPr>
          <a:xfrm>
            <a:off x="0" y="1413000"/>
            <a:ext cx="4500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heckerboard(across)" transition="out">
                                      <p:cBhvr additive="repl">
                                        <p:cTn id="30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05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13:15:11Z</dcterms:created>
  <dc:creator>ioo</dc:creator>
  <dc:description/>
  <dc:language>en-US</dc:language>
  <cp:lastModifiedBy>гелюся</cp:lastModifiedBy>
  <dcterms:modified xsi:type="dcterms:W3CDTF">2013-02-07T19:28:31Z</dcterms:modified>
  <cp:revision>41</cp:revision>
  <dc:subject/>
  <dc:title>ВНУТРЕННИЕ ВОДЫ ЮЖНОЙ АМЕРИКИ</dc:title>
</cp:coreProperties>
</file>