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B47-4FE2-47D0-B895-B9808CC3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698-513F-4256-99E3-1B68EAE3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05C5B-274F-49B9-8A2D-AFCF6552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CABB4-74D5-41A1-8E72-D37E2F77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5BE6D-4B46-418B-86C0-4982DCFC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1913B-C9C3-46E7-9EEB-1A0546E7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1BCBC-1D66-481D-A877-0D100AF9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50C86-9A5A-45EF-9BCC-1A428B80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4CD07-E01C-4B75-8BC8-AC18E0F2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4F908-7591-4B00-81E5-54A31EFB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E9EDD-EB35-453D-B044-B970748E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EEB5B-DF15-4116-B95F-BE798AE6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42D-ED15-48C4-B012-91EAF5FD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BA0A1-14D0-4EDD-8B06-453E0F65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E88CA-2A10-4C4E-AB23-8584483A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B4846-F139-42EC-B1CF-5A895846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433F9-6429-452C-8721-0E57672C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79E86-F727-4255-9390-D49F3880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448A9-7090-45B0-B603-AAB60671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7F4D3-AFBB-493D-8C59-6DC3D100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D1EEB-22C0-4AEE-A6E2-9D4BB0C2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2FB1E-920D-47CD-90C9-6B72BCFC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CE171-D996-4482-A70F-2F2647B5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8008-B664-4888-8D42-B3476B15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BBC16-D23C-4435-8822-AEEF7A88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DEC27E-8CF2-4969-A318-9E6D4EB1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2A9B93-05F1-4AAA-8851-D14E9764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2176E0-1A2F-46D6-8F17-1C558B81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3E7671-2449-4316-92B3-79BC9DBF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1824EC-9239-4954-9D21-9735529F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9CFF9E-B42C-4668-B4B8-47AF23A8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3A976B-A918-453F-A995-879E2481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AE5499-EE13-4172-8F2C-3990E81A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5CE31A-C04E-4E2D-AE34-C9C22514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4296B-9C2D-4F71-A8B1-229F176A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584D62-2AB3-4869-87DF-E9EF0BE1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5DA69E-A7FA-4893-8F08-AD420240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BCC1BF-86DC-4A6C-86A0-97BDC124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96CEE-6745-4F47-954F-260F23D5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3BE4B-69CA-40F4-BBD4-85F756D8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9A3F8-0642-4E7B-9C1B-17888D88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1F0CB-CEFB-4C9E-82A4-4442C800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7D5EF-2176-4616-8627-DDCFA0BA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E3545-ED23-483A-9685-6F904AFD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E84DD-0949-49F2-B1FA-17A6EB04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86439-A9C9-4863-960C-FEE83055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479E7-8540-4437-A3FA-EC4648C9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CA419-2D7F-4E89-AD7B-CF1B84B9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BB7CE-AED0-459F-BC09-153000C4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80713-201C-49EA-BD91-3A910F43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CC516-F698-40FC-8867-205D72FA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202C4-2056-4615-82F1-FB6C632C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B78B5-E7E1-472A-BCC1-06E94DAC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7F986-E8F2-4E7A-80AE-F0191261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13DA5-9ED8-4F44-870D-E05BC0D1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93F61-8EC9-4F07-815F-9D976BA2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8C5-0C6C-4665-BA7C-2F6E3F96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29571-7BCF-4344-9EBB-2C5CE251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E91EB-7B5A-4DDF-B771-42775CD1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2A327-D0E8-4120-84F4-3DA01BCD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72319-109C-4A0E-A2DA-0022B0D2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F09C7-CF18-4544-8418-FB25F5CD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ED49-FE6C-463D-9C36-02952562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27B61-03B9-4070-B7EA-CA7646A4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99B7-6C90-4E18-B5A5-50DB32B7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15D3B-D11B-4E41-944F-4A7BCB16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BB090-1037-4E05-A0CA-997E4391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D0C-B799-4FBD-82F7-E221ECBF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3AEF3-5988-42B1-B948-A1ADF540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C3EF-B3FE-4926-89B4-6BCD4345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B4FEA-4D08-4E84-8E21-492DBAA8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1333-BD9D-4320-9971-724292B7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34EF9-29B7-4133-89BA-FE9DBC6D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8FD8C-34B3-48C1-B441-85088F6A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E10F6-8035-400C-A801-E52C614A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55D42-EDCF-47AD-A857-DD86AFA9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61B57-09C4-445B-B4AC-5D1197C8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F36F3-87E9-4FE2-83B1-BC82D979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74F-3CAC-4F1C-80BA-62471BEB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83329-E17A-4E2D-905A-39B255B6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05498-AD3A-42A6-B9D5-8FA7E62D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014A0-AF8C-41AB-BDD1-4D7373D0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62F8B-A5B4-4B8C-891E-5D8084BC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E917D-4819-4632-8794-8D825B8A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68376-75D2-4173-8A77-E6A4BF72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C4B6B-9024-40C8-A2FE-C97BC5E7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55C2A-A823-4965-B6B1-637EFF46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1DA06-46CA-4243-BF8F-7F06BFB2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011CF-079B-4830-A221-867F4245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9BF-66F7-47E7-BA81-C38ACFD0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17ACB-1BCA-4501-92AB-31CC90D8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B874F-D4ED-41B5-8900-476C6B3B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96F80-277A-4084-9E2A-749D5DAF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2AA82-91B2-4619-A864-B25C7552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4B764-47C8-4D35-9098-B82B8DD7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16640-4643-4F25-AD39-138FD133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4F6E6-C450-4375-8571-C330B9FA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7B811-C249-43C5-A8CD-0287AC3D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A2950-812B-44EA-98E5-817B4698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2DBFC-5C26-4B08-A791-31D5D6E3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F97-27A6-4825-831D-6270C752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97CA7-64B8-45BB-B69E-F4A8ED40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7C3B5-4B82-429A-93BC-967EFC53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0F786-45D6-4243-BCB6-70400E51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560AE-0D73-46BB-B30C-D39FB79C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BE829-AFC8-40F9-AE1C-CC467AE8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E9D9F-65C2-40E0-87AD-5D0474E4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10D4B-CB7C-4A88-A5EA-C791BAF3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E8C7F-6141-405C-BC8C-AFD3F5E2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8B2D2-4FE4-4CE9-AD14-962D082C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42735-2D7E-42F9-8C2C-EB8EB5E1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814-FF00-45BC-B6F8-82EB55C9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50482-8428-4EBB-97DC-B9B22E78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5753E-D6DC-4448-BECC-B49DF913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36745-4814-473F-97AA-D6CB8D4F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1AD63-7EB2-4541-9D6F-297BD441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D1FEA-F9F1-45AA-A717-9526DF49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C2F1E-C216-4819-9FCD-6FE016F0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F3A86-4F76-493F-B369-5A0DD9E8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4F675-423E-4297-B595-EE889270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0454B-4879-4F9E-A3EA-A28277F4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3682D-268A-48BA-9420-57E56CF9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4F6-B1B4-46AD-B009-DDF4ECD0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5C23C-5495-4337-948A-69B2984C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5FCC2-A123-4DB6-AAC6-AB33B9F9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25630-1D40-471A-81D3-58B8877F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AADA0-E207-4834-8973-0E06B4D3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DB7D2-4524-4EEB-BC84-55E13D93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120D18-9A98-4427-9473-93ED37BD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90204C-1FB3-4F74-86E8-85EAC39D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3286A8-CF3E-4EC8-BCE2-B436C24C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7C1357-064E-4290-81F3-2A55C29C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11ED61-86DF-4A99-B469-83F857C4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68D-492F-4F88-9743-4FC8BB0B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C884C4-2678-4AFA-843D-BD4F0014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8B782E-AF12-4C2B-AD5E-5560D9C0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6820D0-6B51-42B5-B9C7-F9EB8887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027EC3-4E7A-46CB-99B3-31C988AE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7DAEC2-E0DE-4BC7-8BC6-CAC2E2A4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6DF844-57DE-40C2-94B4-5CEE3093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D66026-26AA-4E33-8C12-CD88268B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6C410-E6BD-48EE-A8BA-36610CB8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93B49-24B3-4AFC-A6B3-8E865681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A5147-12AD-426D-8083-6CA2B4FF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642E-32F7-460C-86DE-FCB3C275D5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3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852F-EC81-47DE-81D3-9B5228BDB3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3E58-D317-4B46-BB35-BCB295A2F0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5C98-D369-41BF-AEA3-8F6F9046490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3B9D-8FDD-4085-8DD7-4B5765C38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0291-564D-4BFB-BBE0-B276ACFD032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75A9-6C98-4C25-9C45-02D45F4DFA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5ACD-DB19-4C8F-B30E-6C3EEE27AF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7646-9141-40AA-BAFB-573656DB02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4A90-928B-40B3-AC89-902378C7F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598D-95AC-41ED-9F6F-DF8D663185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9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2EE7-A065-480B-A475-177A10697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ikiznanie.ru/ru-wz/index.php/&#1047;&#1084;&#1077;&#1103;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leftpic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НУТРЕННИЕ ВОДЫ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ЮЖНОЙ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МЕРИКИ</a:t>
            </a:r>
            <a:br>
              <a:rPr sz="6000"/>
            </a:b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5562720" y="2894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Прямоугольник 4"/>
          <p:cNvSpPr/>
          <p:nvPr/>
        </p:nvSpPr>
        <p:spPr>
          <a:xfrm>
            <a:off x="468360" y="5661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c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36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Водопад Анхель</a:t>
            </a:r>
            <a:br>
              <a:rPr sz="40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5292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Самый высокий водопад на планете расположен в юго-восточной части Венесуэлы, в горном массиве Ауян-Тепуи, и носит имя своего первооткрывателя Хуана Анхеля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Picture 4" descr="АНХЕЛЬ"/>
          <p:cNvPicPr/>
          <p:nvPr/>
        </p:nvPicPr>
        <p:blipFill>
          <a:blip r:embed="rId1"/>
          <a:stretch/>
        </p:blipFill>
        <p:spPr>
          <a:xfrm>
            <a:off x="5364000" y="189000"/>
            <a:ext cx="3456000" cy="57150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5"/>
          <p:cNvSpPr/>
          <p:nvPr/>
        </p:nvSpPr>
        <p:spPr>
          <a:xfrm>
            <a:off x="6470280" y="5951520"/>
            <a:ext cx="17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1054 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1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3889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ffff"/>
                </a:solidFill>
                <a:latin typeface="Arial"/>
              </a:rPr>
              <a:t>Парана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1940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ccff"/>
                </a:solidFill>
                <a:latin typeface="Arial"/>
              </a:rPr>
              <a:t>Характеризуется ярко выраженной сезонностью режима. Много порогов и водопадо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7" descr="парана"/>
          <p:cNvPicPr/>
          <p:nvPr/>
        </p:nvPicPr>
        <p:blipFill>
          <a:blip r:embed="rId2"/>
          <a:stretch/>
        </p:blipFill>
        <p:spPr>
          <a:xfrm>
            <a:off x="0" y="1700280"/>
            <a:ext cx="4788000" cy="4572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9"/>
          <p:cNvSpPr/>
          <p:nvPr/>
        </p:nvSpPr>
        <p:spPr>
          <a:xfrm>
            <a:off x="4802040" y="40644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ahoma"/>
              </a:rPr>
              <a:t>4380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Comic Sans MS"/>
              </a:rPr>
              <a:t>Водопад Игуас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2" name="Picture 4" descr="exig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941c"/>
                </a:solidFill>
                <a:latin typeface="Arial"/>
              </a:rPr>
              <a:t>Игуасу-великие воды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4" name="Picture 5" descr="459036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1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Озеро Титика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76720" y="1700280"/>
            <a:ext cx="406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"/>
              </a:rPr>
              <a:t>на языке индейцев-инков- “свинцовая скала”.</a:t>
            </a:r>
            <a:r>
              <a:rPr b="0" lang="ru-RU" sz="5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5" descr="Плавучий остров Урос"/>
          <p:cNvPicPr/>
          <p:nvPr/>
        </p:nvPicPr>
        <p:blipFill>
          <a:blip r:embed="rId1"/>
          <a:stretch/>
        </p:blipFill>
        <p:spPr>
          <a:xfrm>
            <a:off x="0" y="2421000"/>
            <a:ext cx="49323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амая полноводная река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 в мире – Амазон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3883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Пиран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Анако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Виктория-Регия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merican Class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Самый высокий водопад в мире - Анхель.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merican Class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Самое большое из высокогорных озер - Титика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43280" y="0"/>
            <a:ext cx="6300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К  р  у  п  н  е  й  ш  и  е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ре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363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А м а з о н к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Мараньо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Укаял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Мадей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Риу-Негр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Орино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П а р а н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Парагва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Сан-Франсиск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Бассейны океанов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468000" y="6858000"/>
            <a:ext cx="69840" cy="77760"/>
          </a:xfrm>
          <a:prstGeom prst="rect">
            <a:avLst/>
          </a:prstGeom>
          <a:noFill/>
          <a:ln w="0">
            <a:noFill/>
          </a:ln>
        </p:spPr>
        <p:txBody>
          <a:bodyPr tIns="32040" bIns="3204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0" name="Picture 4" descr="Image87"/>
          <p:cNvPicPr/>
          <p:nvPr/>
        </p:nvPicPr>
        <p:blipFill>
          <a:blip r:embed="rId1"/>
          <a:stretch/>
        </p:blipFill>
        <p:spPr>
          <a:xfrm>
            <a:off x="1835280" y="692280"/>
            <a:ext cx="5473440" cy="6165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5"/>
          <p:cNvSpPr/>
          <p:nvPr/>
        </p:nvSpPr>
        <p:spPr>
          <a:xfrm rot="16200000">
            <a:off x="-557280" y="30132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Тих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7"/>
          <p:cNvSpPr/>
          <p:nvPr/>
        </p:nvSpPr>
        <p:spPr>
          <a:xfrm rot="5400000">
            <a:off x="6072480" y="3150360"/>
            <a:ext cx="45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Атлантиче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91796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10" descr=""/>
          <p:cNvPicPr/>
          <p:nvPr/>
        </p:nvPicPr>
        <p:blipFill>
          <a:blip r:embed="rId1"/>
          <a:stretch/>
        </p:blipFill>
        <p:spPr>
          <a:xfrm>
            <a:off x="4427640" y="4076640"/>
            <a:ext cx="47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Бассейн Амазонки"/>
          <p:cNvPicPr/>
          <p:nvPr/>
        </p:nvPicPr>
        <p:blipFill>
          <a:blip r:embed="rId2"/>
          <a:stretch/>
        </p:blipFill>
        <p:spPr>
          <a:xfrm>
            <a:off x="250920" y="1413000"/>
            <a:ext cx="3960720" cy="4897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"/>
          <p:cNvPicPr/>
          <p:nvPr/>
        </p:nvPicPr>
        <p:blipFill>
          <a:blip r:embed="rId3"/>
          <a:stretch/>
        </p:blipFill>
        <p:spPr>
          <a:xfrm>
            <a:off x="4427640" y="1125360"/>
            <a:ext cx="4716360" cy="28069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0" y="10476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Tahoma"/>
              </a:rPr>
              <a:t>Амазон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4716360" y="333360"/>
            <a:ext cx="33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-6400к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250920" y="623736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ahoma"/>
              </a:rPr>
              <a:t>7180тыс.кв.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Обитатели Амазон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23" name="Picture 8" descr="анаконда"/>
          <p:cNvPicPr/>
          <p:nvPr/>
        </p:nvPicPr>
        <p:blipFill>
          <a:blip r:embed="rId1"/>
          <a:stretch/>
        </p:blipFill>
        <p:spPr>
          <a:xfrm>
            <a:off x="900000" y="1844640"/>
            <a:ext cx="3527640" cy="42483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9"/>
          <p:cNvSpPr/>
          <p:nvPr/>
        </p:nvSpPr>
        <p:spPr>
          <a:xfrm>
            <a:off x="1166760" y="59500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анако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4676760" y="1989000"/>
            <a:ext cx="447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иктория-Рег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6" name="Picture 14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970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 Black"/>
              </a:rPr>
              <a:t>пирань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427280" y="1196640"/>
            <a:ext cx="471636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пасны тигры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это ясно.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Пиранья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более опасна.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на без ры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и без воя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Съедает в речке всё живое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7" descr="ПИРАНЬЯ"/>
          <p:cNvPicPr/>
          <p:nvPr/>
        </p:nvPicPr>
        <p:blipFill>
          <a:blip r:embed="rId1"/>
          <a:stretch/>
        </p:blipFill>
        <p:spPr>
          <a:xfrm>
            <a:off x="0" y="1989000"/>
            <a:ext cx="43560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Arial"/>
              </a:rPr>
              <a:t>Ориноко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0072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В переводе с языка индейцев - Кольчатая </a:t>
            </a:r>
            <a:r>
              <a:rPr b="0" lang="ru-RU" sz="4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мея</a:t>
            </a: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2"/>
          <a:stretch/>
        </p:blipFill>
        <p:spPr>
          <a:xfrm>
            <a:off x="0" y="1413000"/>
            <a:ext cx="450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30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3:15:11Z</dcterms:created>
  <dc:creator>ioo</dc:creator>
  <dc:description/>
  <dc:language>en-US</dc:language>
  <cp:lastModifiedBy>гелюся</cp:lastModifiedBy>
  <dcterms:modified xsi:type="dcterms:W3CDTF">2013-02-07T19:28:31Z</dcterms:modified>
  <cp:revision>41</cp:revision>
  <dc:subject/>
  <dc:title>ВНУТРЕННИЕ ВОДЫ ЮЖНОЙ АМЕРИКИ</dc:title>
</cp:coreProperties>
</file>