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3BB-8DB6-49E9-ADAD-E2938376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92C-9C6E-4D9D-B4DB-EE812020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79193-E409-4F7B-A7E9-6EFADF3B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9EE57-622E-43F5-8F78-55996EAE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D601C-673E-48AB-94F9-FC525AEA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6CF36-2558-4B4E-BE2F-EE9ED906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239F6-182F-471A-A244-5BF7AF02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9AC00-559E-47F9-82C2-2326E97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84DF0-04CA-45BE-AA70-EBF6EE8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AF788-29B0-47B3-B9BB-4D7BA4AD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3DE3F-F4F8-42A0-A21C-B9E14BBB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0F0A3-9378-410D-97DF-E528E1A4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984-7995-4A88-80C3-37D5B08E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8111C-593E-4221-82D1-B9E7C977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050D2-7B82-44FA-A4A5-B62CAF98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CA2AB-8470-49D6-8917-C2602D91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16915-62C0-4327-A38C-08CDF97D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67159-4676-44F0-B953-3D38B6C7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54A32-EAB5-4DC9-9427-5B5387E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D75DA-7C72-447B-8E32-314E610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40196-6255-4975-A471-CE8D2CA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DCF18-57FB-4C6C-B2FF-B01EA115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BD904-0B13-4D36-9DEA-BB2257CE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ACB-79AD-4F9C-9265-45E1263D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96211-51EA-43A0-B791-33334B0E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13D054-F649-4B43-A934-E131C061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C73F2A-8F82-4B55-A442-592BCE75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AFFF00-35B2-4A47-99FA-55F19C18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492D41-C20B-4231-B4A7-785111AE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03F0A7-1B58-478E-B8D7-3AFEDB13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C5D1D0-A596-4F9F-8BD4-DC6F724F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51E716-6795-4D0B-97B1-BC0D9E09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F09D06-21B4-41DD-8C60-F2CC72F3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0DE79B-35CA-4688-9A22-CF9D784F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8AC7C-F4C4-429B-B595-3EE40AA9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B46205-9C1B-42DD-B7B8-A76CBA92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57B7B9-66D3-4A0C-98E0-B4CB9F6C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893DD9-3B7A-4B33-817B-99A9FD38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38A0E-0DD3-4176-B2DF-A3558F78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F20AA-12D0-4A73-8DD6-C422F6E1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DBBF8-8CBF-4778-BD92-156FED56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01DAC-83A6-4E3F-A828-4B9D30A9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A8358-8AC2-47D5-AB30-7BA15AC3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7480E-C69C-42CD-BA36-ABF81859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C413D-7248-47BC-943B-714CAEBB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612FE-F300-4395-AB12-33617A6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E05AE-7BB7-476E-8A4D-32DFE94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EABF8-5E3A-4C11-A3AE-0B6B4120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CCDF5-614A-4FAC-8374-792D4029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D23B9-E573-4BEE-ADE2-5795B4D2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6FBA6-C425-4324-AB88-CBEE56B3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8133B-C16E-4284-A2B9-33CCB69C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CEA69-BA88-4951-AED6-F13F4E06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82AB4-AD6E-4C2C-84F9-E69DAEBD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D5326-EE5F-4299-B4CD-91A3999E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39F5A-5CC8-4006-93D0-F25E8C13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EFB-2D36-4A74-BC9A-46A4235F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4EEE2-4C8C-494A-B78C-369DD0EC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87808-6BDF-4D0F-9B4E-F08DACEC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FF5A6-86F3-46D6-AB2B-095D790A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9CB8D-081F-4A59-9E32-CFFCE76C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FB7AB-C783-4C06-B39D-A66566B8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2CD9-132B-4892-83B1-4E76D3ED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C159-000A-45E9-9723-BA777A83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9B24-5AEE-4539-BED8-261369F1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5B0E9-B29F-4834-B852-58ADD7B0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AA507-EB1B-413F-BB6A-102767D6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D95-EB40-415A-AA1E-6A6FF045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F7F51-16EF-433F-988E-6A9F6FA4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89A0-CA78-4834-B597-CCEF12CF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9617-FC66-44AA-B977-3B2C2BE2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81E8-8AAE-451C-8025-B871B7DF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C8ECC-BB17-497A-BC72-A5236853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386D9-6D3E-434C-BC64-C92DDC02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AE2A-7EE8-4E8D-83A8-4EB1EC65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FF47D-A8B0-43F6-91E9-D6ACCA19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C8BDB-6E85-45BD-A055-553B96B7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C9252-F909-443D-8A0F-345EFBF1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C43-10A7-4E1A-BCC5-8687A1A6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F5CEA-6E01-41E8-8D3D-1CC14A07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5781-77A8-4A46-9CA9-191C6726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21D67-6F33-4341-B4C7-F9E362D0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6366-F42B-4783-BF54-FDF99674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5305-5E79-4AA5-978F-C49C717A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F7DA-26C4-4607-942A-C61E6284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ED5E-8CA0-48AA-9D7F-B8E16FAC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8D10-BE6C-4D90-98CC-3D43C802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33A40-DDB9-4334-A2DA-988D0301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B1C7-EF96-49DB-970E-46F94A30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83E-194B-41A3-828A-662B250D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91FFA-73E6-4AE0-AEB1-0A155A79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E4C94-F645-4DF6-8B6B-7E9F4A6C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C131F-8492-4E78-8564-D90C8116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88F29-0164-4B38-BF8C-93BDB172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3193-C27E-4B44-895D-93464486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662B4-1938-401B-A3FB-6E9653BF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6BA1F-D06D-46A7-8629-B019719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9F21-D6A6-48B9-ABBB-19EC831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17F21-2034-45F9-8A86-757828D2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F68C6-6BB0-4027-89F6-B97F28A8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56C-D92F-4236-B229-6E8EF559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FF52A-91CB-44D0-9C67-2521FDB3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3A124-E39E-42CC-ABC3-50442B23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D71EF-43A4-4A6E-8715-905A3F5A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BB3C7-0CB7-44FC-8A9D-82A61A48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B59FF-BFA4-41ED-B2C3-E6FB403E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8FCAA-2863-4250-8F9D-C6C919F0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9C67C-F40E-4EF8-9ADC-E50ACF8F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12A7A-128F-4E2A-9C30-C9340A72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B9F52-F513-47BD-BA65-4A9D4847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79BC-DE24-4F6C-BEDB-DD2748F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AB4-3872-4488-9E8E-F7D07FAA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98627-3CD8-4714-9B0E-78F41B71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58275-8600-4A1F-A808-CA688642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5A1E8-29D5-49F0-928C-2F16E7AB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328C6-8074-4ADC-8CD7-50A95420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88E3C-A4A3-489E-A078-35F46DF4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B5688-E45F-4F7A-A45D-83936C2D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A7795-4792-453E-A3DD-61B76E09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23AEC-E530-4DBF-A442-0B61B564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B258-D28F-478A-AAEE-51DF6A7F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976A6-AD26-4CE6-8D59-B4C0C62A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A71-7C7D-4D93-83F3-6097231D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6CE5F-4943-4368-9066-012C0B39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7F7D5-1417-4C0C-82A7-A7FC69E3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839E1-6599-4058-9935-9280AF4C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C006-7999-40C3-A8F8-CE56C62B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6BABE-6EBD-4411-83F7-60A9AF1F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674D78-AC54-47DD-BC78-2DE58FF8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EFF5C8-82FB-495B-8155-9399EE63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B95E0C-997E-4B6E-B631-439D30C5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3C861F-78D9-4CA2-8A93-A914ACE5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8182B3-7DF6-46AE-AB33-F0B6420E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69D-D625-4DDF-9471-60382CF8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CB7478-7D45-40F1-AD05-2A49AFCB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3B366-87D5-4B90-8B86-40F00794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C8AD33-EAE0-4B96-A948-2648FA05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C8EBAF-9A4C-43E1-A7FD-0CFCABEF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F6599D-6BEE-4D86-8C0B-1FE497A3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5E3A6E-09EE-4308-8EF0-CC28EF5D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085620-1CD5-4A30-B494-84E973EF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8D2C1-3716-4193-894F-F0858CD5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06E04-65CC-4903-A06D-97F78BC8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40C81-C9FC-4929-A8A4-4EDBAFB6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387D-6F92-4D39-85E8-9D2D01773C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3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A7EE-D983-4215-B762-E62B4D4FC8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0171-9381-4116-8337-0E2EE6CBD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B192-81BD-45FD-B207-3FA2351F38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E49E-84E3-4C00-B997-9EE79ABAA6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623D-F775-473B-9D9A-EC37C837B33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D42F-C35B-4BAD-83DE-A603866C5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B979-531D-41BF-9C8D-DE18610F2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706C-6E9A-4513-94BB-84440E8C7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8EA-85D9-4BCA-9AD9-BD3721784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1440-8221-4653-B867-EFA621F11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459A-0C94-42EB-906F-53896EE2E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/&#1047;&#1084;&#1077;&#1103;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leftpic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НУТРЕННИЕ ВОДЫ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ЮЖНОЙ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МЕРИКИ</a:t>
            </a:r>
            <a:br>
              <a:rPr sz="60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5562720" y="2894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Прямоугольник 4"/>
          <p:cNvSpPr/>
          <p:nvPr/>
        </p:nvSpPr>
        <p:spPr>
          <a:xfrm>
            <a:off x="468360" y="5661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c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36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Водопад Анхель</a:t>
            </a:r>
            <a:br>
              <a:rPr sz="40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2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Самый высокий водопад на планете расположен в юго-восточной части Венесуэлы, в горном массиве Ауян-Тепуи, и носит имя своего первооткрывателя Хуана Анхел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4" descr="АНХЕЛЬ"/>
          <p:cNvPicPr/>
          <p:nvPr/>
        </p:nvPicPr>
        <p:blipFill>
          <a:blip r:embed="rId1"/>
          <a:stretch/>
        </p:blipFill>
        <p:spPr>
          <a:xfrm>
            <a:off x="5364000" y="189000"/>
            <a:ext cx="3456000" cy="5715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5"/>
          <p:cNvSpPr/>
          <p:nvPr/>
        </p:nvSpPr>
        <p:spPr>
          <a:xfrm>
            <a:off x="6470280" y="595152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1054 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3889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Arial"/>
              </a:rPr>
              <a:t>Парана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1940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Характеризуется ярко выраженной сезонностью режима. Много порогов и водопад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7" descr="парана"/>
          <p:cNvPicPr/>
          <p:nvPr/>
        </p:nvPicPr>
        <p:blipFill>
          <a:blip r:embed="rId2"/>
          <a:stretch/>
        </p:blipFill>
        <p:spPr>
          <a:xfrm>
            <a:off x="0" y="1700280"/>
            <a:ext cx="4788000" cy="4572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9"/>
          <p:cNvSpPr/>
          <p:nvPr/>
        </p:nvSpPr>
        <p:spPr>
          <a:xfrm>
            <a:off x="4802040" y="40644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4380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Comic Sans MS"/>
              </a:rPr>
              <a:t>Водопад Игуас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2" name="Picture 4" descr="exig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941c"/>
                </a:solidFill>
                <a:latin typeface="Arial"/>
              </a:rPr>
              <a:t>Игуасу-великие воды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4" name="Picture 5" descr="459036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Озеро Титика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406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на языке индейцев-инков- “свинцовая скала”.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Плавучий остров Урос"/>
          <p:cNvPicPr/>
          <p:nvPr/>
        </p:nvPicPr>
        <p:blipFill>
          <a:blip r:embed="rId1"/>
          <a:stretch/>
        </p:blipFill>
        <p:spPr>
          <a:xfrm>
            <a:off x="0" y="2421000"/>
            <a:ext cx="49323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амая полноводная река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 в мире – Амазон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3883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Пиран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Анако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Виктория-Реги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ый высокий водопад в мире - Анхель.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ое большое из высокогорных озер - Титика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6300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  р  у  п  н  е  й  ш  и  е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ре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363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А м а з о н к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раньо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Укаял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дей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Риу-Негр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Орино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 а р а н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арагва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Сан-Франсиск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Бассейны океанов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468000" y="6858000"/>
            <a:ext cx="6984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Image87"/>
          <p:cNvPicPr/>
          <p:nvPr/>
        </p:nvPicPr>
        <p:blipFill>
          <a:blip r:embed="rId1"/>
          <a:stretch/>
        </p:blipFill>
        <p:spPr>
          <a:xfrm>
            <a:off x="1835280" y="692280"/>
            <a:ext cx="5473440" cy="616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 rot="16200000">
            <a:off x="-557280" y="30132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Тих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7"/>
          <p:cNvSpPr/>
          <p:nvPr/>
        </p:nvSpPr>
        <p:spPr>
          <a:xfrm rot="5400000">
            <a:off x="6072480" y="3150360"/>
            <a:ext cx="45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Атлант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10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7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Бассейн Амазонки"/>
          <p:cNvPicPr/>
          <p:nvPr/>
        </p:nvPicPr>
        <p:blipFill>
          <a:blip r:embed="rId2"/>
          <a:stretch/>
        </p:blipFill>
        <p:spPr>
          <a:xfrm>
            <a:off x="250920" y="1413000"/>
            <a:ext cx="3960720" cy="4897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716360" cy="28069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0" y="1047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ahoma"/>
              </a:rPr>
              <a:t>Амазон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716360" y="333360"/>
            <a:ext cx="33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-6400к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250920" y="623736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7180тыс.кв.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Обитатели Амазон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23" name="Picture 8" descr="анаконда"/>
          <p:cNvPicPr/>
          <p:nvPr/>
        </p:nvPicPr>
        <p:blipFill>
          <a:blip r:embed="rId1"/>
          <a:stretch/>
        </p:blipFill>
        <p:spPr>
          <a:xfrm>
            <a:off x="900000" y="1844640"/>
            <a:ext cx="3527640" cy="4248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1166760" y="59500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анак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676760" y="1989000"/>
            <a:ext cx="447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иктория-Ре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Picture 14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970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Black"/>
              </a:rPr>
              <a:t>пиран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27280" y="1196640"/>
            <a:ext cx="4716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пасны тигры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это ясно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иранья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более опасна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на без ры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и без воя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Съедает в речке всё живо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7" descr="ПИРАНЬЯ"/>
          <p:cNvPicPr/>
          <p:nvPr/>
        </p:nvPicPr>
        <p:blipFill>
          <a:blip r:embed="rId1"/>
          <a:stretch/>
        </p:blipFill>
        <p:spPr>
          <a:xfrm>
            <a:off x="0" y="1989000"/>
            <a:ext cx="4356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Arial"/>
              </a:rPr>
              <a:t>Ориноко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007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В переводе с языка индейцев - Кольчатая 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мея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45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3:15:11Z</dcterms:created>
  <dc:creator>ioo</dc:creator>
  <dc:description/>
  <dc:language>en-US</dc:language>
  <cp:lastModifiedBy>гелюся</cp:lastModifiedBy>
  <dcterms:modified xsi:type="dcterms:W3CDTF">2013-02-07T19:28:31Z</dcterms:modified>
  <cp:revision>41</cp:revision>
  <dc:subject/>
  <dc:title>ВНУТРЕННИЕ ВОДЫ ЮЖНОЙ АМЕРИКИ</dc:title>
</cp:coreProperties>
</file>