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A1B-1354-493C-8382-77C22900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C25-14FB-48FD-B23C-CE426848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367D3-5E91-41BE-8FCC-6A530B6A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24B68-D2C1-4313-A375-1CDD4CDF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A7138-36E4-4F3A-A222-960CCDAD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EAA71-4A13-46FC-9F05-7159422D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0C3AD-F60A-4A6E-84FE-7F32212B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7F082-566C-4CF3-8B5D-5AA70F7F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AC947-3D02-4B8F-8B48-28D5FCD6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E0E7A-773D-4435-9118-15320981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9C18C-D667-47E2-835E-F9CAD67C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683C1-3293-40A9-AC53-0CB29F88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62B-7C74-4921-AA16-746F0968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4B1BC-B302-44F4-B5C4-6A9B0A81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F7AE4-40BF-4D59-9AFE-B0BF366C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BE81D-2BB5-4DE7-96CE-E6C6F3F5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5C1B2-78B7-4532-AA7A-1C5F9194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A9A3E-ADF7-44BB-B743-ABD4E66A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D75E5-2568-4ABA-8BC0-ABB21411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87ACE-3122-47BE-A8B3-567F7CD5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2CE3F-37B4-45E8-9DB2-5AC99E74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63B88-6F56-42C9-8E10-9A5C4174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BB484-EAAF-4EDA-A61C-9C343621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AA2-4DB2-48BC-8559-3E529C5F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F1F25-989D-4C23-AA3E-B3BFE018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3B384A-596B-4770-A585-F806B6E8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690C00-09B0-41F0-A9B4-90DAFD06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F381E8-BAF7-416F-AE31-3023B5B1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A3097C-2580-4B2A-B18F-857C07E5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D42BCD-E4C3-49E8-AC16-F3E75648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74E9A5-11E6-4004-90CA-3C1DDB42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249AFB-1FA3-4B38-A568-FCE4389B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03D318-7758-4A27-89C8-9D747B60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34C970-F37C-4479-80CE-CE7A8B91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0CB2A-694B-4399-8BE7-2D4C74F4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9D3E09-FF3E-40B2-880B-326BD836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CC0768-6D28-4CDB-8DDF-0A304A8A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BE39F1-003A-4275-B986-3475AE6A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3599E-5C24-401F-8965-E1EFEEEC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09895-2C09-493E-BD32-443FC909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C5CAD-596D-44AC-A3B6-7E7797BC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F018E-AD21-4568-BF4F-9A6EDDE4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A899A-9234-46F3-B7F4-B35E8C23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51938-E6C2-428E-B6D4-EAE3187F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1EBD9-17C0-49F9-B49A-BB99553B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5DE91-D447-4BB4-B6B1-D217A1D1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3A5A7-4138-49CB-B9B7-28CEE74E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4F677-B032-4A51-8D42-9189E3D9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384ED-E234-41FF-BCAB-D5AF0AFE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C8921-A63A-44B0-9F0C-84619DE7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99A49-923C-4C77-8975-A970D52A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A3B98-EC48-48E0-AB64-E46EAD1B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1615A-F365-4A14-A950-5D6F1A8A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84913-F7CF-40F5-9837-25D14F07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DF034-2EA3-41F4-A0F5-CA2857D1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F0293-5737-44E4-BEA4-E5E24A8D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96B-C87C-45F4-90FE-11005A58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E5EFC-1A74-46F4-B546-3EBF8FC4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2F5F1-A69E-423F-B88B-EB9C5B77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03456-7169-4A7C-B4D2-21F29177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D8D4C-98EB-4A53-84FE-0A32EA83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3FA25-C395-4008-9D01-F4354297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7395-C483-47A9-8D0F-5F63AD1E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1296F-F191-4BFE-9541-6C7E0C00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0D865-2A6F-4168-A31D-28DFBDB4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10E63-C8ED-46BA-8A03-E98F8D7F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0F546-0298-4792-AE1E-8255BB0B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44AE-7410-4DDE-B15E-A5708D22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6D754-CB4D-4A1A-9FE4-6BCBD59A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D401A-816F-4EF6-8C82-CC0CA043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9ACD4-6FF4-4B93-AAD5-54D30252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8865-C381-4A1B-A245-526E7045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4D281-2C2A-4A26-A3F1-3E0D8CB7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91B65-0E1E-4FC4-8060-8FDBACAC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2DD18-5D8B-4505-BC5D-1B696724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0C8F4-D4B0-40EC-B813-3F5C16D4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F113C-0A12-4474-8FD5-B56B9C7F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CFB53-F610-4CC2-A522-246A1ACB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719-45AF-43DB-ADC9-43F871D5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E2A12-D0FA-4C01-AD0E-2E9AADA9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10D23-136D-4A34-8E53-BE18F8D2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8C9AC-F4D9-434C-AD2A-4AFD30E6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EF457-71E8-4A4C-9CFE-A39C9894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BC4AF-FEBE-4391-BCAF-DD70A261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5AA96-95D4-45A2-A4AA-30A0B0C0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8D9DC-350C-4BC6-BB98-4CAF152D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86C8F-EFAC-43E4-A268-63B0817C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212B4-3E5A-4ACA-9A62-AC0D4512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B1ADC-476B-427B-896E-396C0F8C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235-B436-488F-88A3-FD60D4C7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6E760-E14B-4096-B17E-AB18FFC5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373F2-B0FC-4578-A247-6C4F4E43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B19E9-0D92-4FE7-979C-F62ADF02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50676-1E9A-43B6-BB91-FA31CE2A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51C14-F435-4F31-BE91-E77F0D8F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23327-D589-431F-908E-4D116C80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4F4A4-2513-4A78-90B4-712C5510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29AA3-6D9E-4E1A-96F1-37F09C34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829B6-A578-45DE-A744-FB0727EE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0D987-E55D-4B67-ACEB-CE23326E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146-FD81-4B78-9CCF-7A6918B9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39926-A22C-45B2-9AF2-AAFC00A7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71963-A7C2-4AF3-84EC-AD9B91A0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BAFAA-759D-4143-9FC8-9257B963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D161D-A0B2-46DF-8ACC-2C91CE43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4AFAD-DFE2-4277-9F7E-20E38541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C27BB-EC2B-4F5F-9E76-A07A6632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8F128-8095-4344-A507-CEF9772A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3F6A9-04DD-43E8-A531-7FDA8D00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9B35E-33F8-43ED-99C7-5D413E09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20F43-BB05-4CF5-BF47-9E9D5CA0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319-4319-473E-8F7A-BC842830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2F722-E4D4-49AC-A85D-CE6061E6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562A9-6001-4C3D-8F4D-DDC3320D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5EB36-CE7E-46A9-B57A-58668EF4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C6467-C3EA-40EC-8B69-2C823DD1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076F4-68D4-4180-AD56-7994522D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A4F9B-4029-49AC-9AC4-15B4573F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4C9E7-0F77-4F97-A4FB-2D6167C1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710EB-B294-4331-B24A-E234CAB8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1F182-8BEB-4BE1-97A9-1992607E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31973-A6A6-4468-9421-0934E63E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04C-E4DB-403A-9374-F9703F8E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55649-9750-46CB-AAC7-8FD8EE3B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591CF-A4F9-4257-B411-83991C42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712A2-C822-4601-85C8-3D859407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CE1B3-ACE6-42CD-B593-B7B1210F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8C3EA-4052-4FE8-B086-0B55E189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4A9677-41D5-4450-8AB7-DA595B88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5E1B19-A067-45FF-A772-63C81AC8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A4D800-6977-4168-BCFF-F1600C11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7D7A98-9DDC-4D48-94E6-9B0362E9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859898-424F-49E4-BCEA-A85B5870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AE4-554A-4FBE-BD16-E90AECD5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9054BD-7C1A-45F3-B993-05BBBCA3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702461-251A-41DB-A160-553103B2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3F38E5-9A9D-4DE5-9D13-2DB96AA0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3F8D1A-EBB8-4439-A4A4-CCC899C6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0E8448-BCA8-4017-9B48-18430B66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AE54FF-45C2-4C7E-AF80-75EB7D6E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70B074-462F-4095-A3D9-E86E4727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473B2-2153-480F-8459-8BFF6138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483C8-E491-42CC-B5BF-2B58119A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FE964-BAC1-4A06-B4E5-98B446B2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74AD-D65D-4061-BEA2-C022F7CB12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3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FBA9-D9F3-4B8A-8BF4-FBDB7463AA9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5EB1-A36C-41DA-B76E-FE38ECDB8D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22CF-E460-463A-9549-79127F23D5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E079-E211-4F27-A956-672C8A7FB8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5E32-FA64-4C6F-AA56-285029702F6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A5A9-ECD6-451E-80B1-734386D26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3600-602D-48DA-B62F-91B0DAB096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722A-8F50-433D-91E9-5905D4688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A8AE-F712-427D-8C5B-A3EDCF22F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6534-C3AC-4E82-A8AE-77F02CC511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9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F752-840C-4DC5-8B77-AF7006B63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ikiznanie.ru/ru-wz/index.php/&#1047;&#1084;&#1077;&#1103;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leftpic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НУТРЕННИЕ ВОДЫ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ЮЖНОЙ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МЕРИКИ</a:t>
            </a:r>
            <a:br>
              <a:rPr sz="6000"/>
            </a:b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5562720" y="2894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Прямоугольник 4"/>
          <p:cNvSpPr/>
          <p:nvPr/>
        </p:nvSpPr>
        <p:spPr>
          <a:xfrm>
            <a:off x="468360" y="5661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c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36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Водопад Анхель</a:t>
            </a:r>
            <a:br>
              <a:rPr sz="40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5292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Самый высокий водопад на планете расположен в юго-восточной части Венесуэлы, в горном массиве Ауян-Тепуи, и носит имя своего первооткрывателя Хуана Анхеля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Picture 4" descr="АНХЕЛЬ"/>
          <p:cNvPicPr/>
          <p:nvPr/>
        </p:nvPicPr>
        <p:blipFill>
          <a:blip r:embed="rId1"/>
          <a:stretch/>
        </p:blipFill>
        <p:spPr>
          <a:xfrm>
            <a:off x="5364000" y="189000"/>
            <a:ext cx="3456000" cy="57150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5"/>
          <p:cNvSpPr/>
          <p:nvPr/>
        </p:nvSpPr>
        <p:spPr>
          <a:xfrm>
            <a:off x="6470280" y="5951520"/>
            <a:ext cx="17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1054 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1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3889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ffff"/>
                </a:solidFill>
                <a:latin typeface="Arial"/>
              </a:rPr>
              <a:t>Парана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1940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ccff"/>
                </a:solidFill>
                <a:latin typeface="Arial"/>
              </a:rPr>
              <a:t>Характеризуется ярко выраженной сезонностью режима. Много порогов и водопадо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7" descr="парана"/>
          <p:cNvPicPr/>
          <p:nvPr/>
        </p:nvPicPr>
        <p:blipFill>
          <a:blip r:embed="rId2"/>
          <a:stretch/>
        </p:blipFill>
        <p:spPr>
          <a:xfrm>
            <a:off x="0" y="1700280"/>
            <a:ext cx="4788000" cy="4572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9"/>
          <p:cNvSpPr/>
          <p:nvPr/>
        </p:nvSpPr>
        <p:spPr>
          <a:xfrm>
            <a:off x="4802040" y="40644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ahoma"/>
              </a:rPr>
              <a:t>4380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Comic Sans MS"/>
              </a:rPr>
              <a:t>Водопад Игуас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2" name="Picture 4" descr="exig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941c"/>
                </a:solidFill>
                <a:latin typeface="Arial"/>
              </a:rPr>
              <a:t>Игуасу-великие воды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4" name="Picture 5" descr="459036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1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Озеро Титика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76720" y="1700280"/>
            <a:ext cx="406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"/>
              </a:rPr>
              <a:t>на языке индейцев-инков- “свинцовая скала”.</a:t>
            </a:r>
            <a:r>
              <a:rPr b="0" lang="ru-RU" sz="5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5" descr="Плавучий остров Урос"/>
          <p:cNvPicPr/>
          <p:nvPr/>
        </p:nvPicPr>
        <p:blipFill>
          <a:blip r:embed="rId1"/>
          <a:stretch/>
        </p:blipFill>
        <p:spPr>
          <a:xfrm>
            <a:off x="0" y="2421000"/>
            <a:ext cx="49323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амая полноводная река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 в мире – Амазон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3883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Пиран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Анако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Виктория-Регия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merican Class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Самый высокий водопад в мире - Анхель.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merican Class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Самое большое из высокогорных озер - Титика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43280" y="0"/>
            <a:ext cx="6300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К  р  у  п  н  е  й  ш  и  е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ре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363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А м а з о н к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Мараньо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Укаял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Мадей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Риу-Негр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Орино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П а р а н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Парагва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Сан-Франсиск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Бассейны океанов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468000" y="6858000"/>
            <a:ext cx="69840" cy="77760"/>
          </a:xfrm>
          <a:prstGeom prst="rect">
            <a:avLst/>
          </a:prstGeom>
          <a:noFill/>
          <a:ln w="0">
            <a:noFill/>
          </a:ln>
        </p:spPr>
        <p:txBody>
          <a:bodyPr tIns="32040" bIns="3204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0" name="Picture 4" descr="Image87"/>
          <p:cNvPicPr/>
          <p:nvPr/>
        </p:nvPicPr>
        <p:blipFill>
          <a:blip r:embed="rId1"/>
          <a:stretch/>
        </p:blipFill>
        <p:spPr>
          <a:xfrm>
            <a:off x="1835280" y="692280"/>
            <a:ext cx="5473440" cy="6165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5"/>
          <p:cNvSpPr/>
          <p:nvPr/>
        </p:nvSpPr>
        <p:spPr>
          <a:xfrm rot="16200000">
            <a:off x="-557280" y="30132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Тих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7"/>
          <p:cNvSpPr/>
          <p:nvPr/>
        </p:nvSpPr>
        <p:spPr>
          <a:xfrm rot="5400000">
            <a:off x="6072480" y="3150360"/>
            <a:ext cx="45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Атлантиче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91796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10" descr=""/>
          <p:cNvPicPr/>
          <p:nvPr/>
        </p:nvPicPr>
        <p:blipFill>
          <a:blip r:embed="rId1"/>
          <a:stretch/>
        </p:blipFill>
        <p:spPr>
          <a:xfrm>
            <a:off x="4427640" y="4076640"/>
            <a:ext cx="47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Бассейн Амазонки"/>
          <p:cNvPicPr/>
          <p:nvPr/>
        </p:nvPicPr>
        <p:blipFill>
          <a:blip r:embed="rId2"/>
          <a:stretch/>
        </p:blipFill>
        <p:spPr>
          <a:xfrm>
            <a:off x="250920" y="1413000"/>
            <a:ext cx="3960720" cy="4897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"/>
          <p:cNvPicPr/>
          <p:nvPr/>
        </p:nvPicPr>
        <p:blipFill>
          <a:blip r:embed="rId3"/>
          <a:stretch/>
        </p:blipFill>
        <p:spPr>
          <a:xfrm>
            <a:off x="4427640" y="1125360"/>
            <a:ext cx="4716360" cy="28069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0" y="10476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Tahoma"/>
              </a:rPr>
              <a:t>Амазон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4716360" y="333360"/>
            <a:ext cx="33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-6400к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250920" y="623736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ahoma"/>
              </a:rPr>
              <a:t>7180тыс.кв.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Обитатели Амазон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23" name="Picture 8" descr="анаконда"/>
          <p:cNvPicPr/>
          <p:nvPr/>
        </p:nvPicPr>
        <p:blipFill>
          <a:blip r:embed="rId1"/>
          <a:stretch/>
        </p:blipFill>
        <p:spPr>
          <a:xfrm>
            <a:off x="900000" y="1844640"/>
            <a:ext cx="3527640" cy="42483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9"/>
          <p:cNvSpPr/>
          <p:nvPr/>
        </p:nvSpPr>
        <p:spPr>
          <a:xfrm>
            <a:off x="1166760" y="59500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анако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4676760" y="1989000"/>
            <a:ext cx="447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иктория-Рег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6" name="Picture 14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970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 Black"/>
              </a:rPr>
              <a:t>пирань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427280" y="1196640"/>
            <a:ext cx="471636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пасны тигры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это ясно.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Пиранья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более опасна.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на без ры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и без воя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Съедает в речке всё живое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7" descr="ПИРАНЬЯ"/>
          <p:cNvPicPr/>
          <p:nvPr/>
        </p:nvPicPr>
        <p:blipFill>
          <a:blip r:embed="rId1"/>
          <a:stretch/>
        </p:blipFill>
        <p:spPr>
          <a:xfrm>
            <a:off x="0" y="1989000"/>
            <a:ext cx="43560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Arial"/>
              </a:rPr>
              <a:t>Ориноко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0072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В переводе с языка индейцев - Кольчатая </a:t>
            </a:r>
            <a:r>
              <a:rPr b="0" lang="ru-RU" sz="4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мея</a:t>
            </a: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2"/>
          <a:stretch/>
        </p:blipFill>
        <p:spPr>
          <a:xfrm>
            <a:off x="0" y="1413000"/>
            <a:ext cx="450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30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3:15:11Z</dcterms:created>
  <dc:creator>ioo</dc:creator>
  <dc:description/>
  <dc:language>en-US</dc:language>
  <cp:lastModifiedBy>гелюся</cp:lastModifiedBy>
  <dcterms:modified xsi:type="dcterms:W3CDTF">2013-02-07T19:28:31Z</dcterms:modified>
  <cp:revision>41</cp:revision>
  <dc:subject/>
  <dc:title>ВНУТРЕННИЕ ВОДЫ ЮЖНОЙ АМЕРИКИ</dc:title>
</cp:coreProperties>
</file>