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201-A761-4439-9CC4-B3071C15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947-72CD-42AB-8979-55A17262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C2A7D-59BF-4F5F-867F-00309814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B50CB-E707-4094-A9F5-8FC5F22F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89D54-89D8-4932-A326-DBF3294D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49460-C667-47C1-BF75-34F1EF58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6A775-C865-4A9F-8B50-6227543D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25EEE-2AAE-42DD-9360-2464FEEA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9B947-DEE0-4072-9FC5-326FAEF1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2663B-A14D-41EA-8F0F-AC4CEFC0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054A5-42E0-4CC6-8E49-DB47112C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F0F-78A7-42F5-862A-BD0B66BA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E41-76A9-4E9B-B7EB-804C45CF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45736-4851-4C39-9535-E6812EBE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78CEB-747A-4F58-B02E-07EA4D37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618B9-21A6-44A4-8A18-F1EAE8FA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FFB8A-E2A1-4E5C-95C9-D97F1505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796C1-F5EA-4237-B98D-EF7B6235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34D1E-9512-4B73-955C-ED22BC69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C7953-A71A-47A4-A4AB-435E232B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59F-1275-41BE-88BF-8286B199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FC5DB-5E54-40F7-B73B-DF3019D7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17DDB-E65A-49DD-9206-1F1C704D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A1435-EA47-410D-B65D-0E9B6233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393F1-7961-46D0-B09F-F3D26C67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D7B88-BB68-42FB-A082-1CF738D0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FB5C-F7E5-4327-B545-CF1A1227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7513-6E56-4F61-81C9-8A62787F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7C3AB-61E6-475F-B778-13950772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448B-8983-4183-8815-FA623EDB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4EA9-7E4B-4023-AEF2-41062153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E56-55F2-495E-993F-0A2BDF80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AC6C-D535-435D-A6B5-09AEFD88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6A42-2011-4B9B-A6F2-BFA0C73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8400-540A-4482-9826-37FE30CE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5DC9-12C7-40E1-A314-36416D4A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A81B-2F15-4DD9-A9C9-4FF84761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9AAE-8198-4544-9255-0F524F26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663DE-E783-469C-9471-EE48AFD4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C8AF4-75E4-4E3E-A624-BA30EFEA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811B-C918-4D3D-8D10-99560FFF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1CBF-F747-433B-86B1-41539026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92C-5ABD-43E7-8FB8-2C3A9858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504F4-AA63-4334-9B8C-D61CFA8B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0B2E0-D6EF-49D1-8F81-3CCF0D30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33D53-C9B1-4281-9E65-A6DD807E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D53D-6C43-4BB6-BEC9-3A42F41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C1CD-00EC-447A-B5A3-B6A9D92C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8E657-AC37-4909-876A-F27836F2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6A9A6-1EC9-47D0-A4E5-DDFEE3B0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EBA91-6830-4C93-955E-5E4AA1AC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ED2A7-B1E0-4AD0-A572-C13C3785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34EDE-D5D8-4357-A235-01E09DE1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53E-5625-4A06-9C0E-366DC0E6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164A1-1CCD-4184-99A4-E520368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5A0EA-F093-4BBB-8A05-04E10823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E2A9D-AA5A-404C-B8A4-356BC108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D786D-1702-457A-B9E1-FD1EE43B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1CB17-7341-4B84-BF6C-9B5D5498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37489-1BD7-4884-9C1F-6878D38B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9EF6-19F9-425D-8AE3-D3161BE9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351A3-43CE-4B80-910C-353F2AFF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D446D-FE11-4E12-9AC6-EE6E213E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51A1B-6EB7-44ED-A5F0-B8504532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E9D-A4CC-404A-AD41-E1FB2AB1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C6BA-6500-4B90-A27E-B7386505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76547-A594-469F-9582-55E9F710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0F329-D579-4E6F-A2C8-FA8E73BF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B254-302F-494B-9719-E83541F9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8C4E1-840A-4FB6-892F-AADAA40B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2756D-1CD9-4DE5-A500-620077D8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28BC3-1685-4F06-BA2F-6FEF54F5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F4D8C-C28D-415B-B272-F05CF6C1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6A523-6F1E-456F-A8ED-85D812D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37AA7-279C-4FEB-92B4-22C21F7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BA5-C659-41A9-9CEA-6924B0A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187A6-6504-4069-AD0A-98BF8F1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9B90-9F77-47F1-8545-857ED493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9D5C3-F8F9-4877-B68A-8CE3A48C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755B4-41EB-4DE5-BD3F-178AC8C8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BBC8-97F1-40BE-993F-06D130C7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B0121-B8E7-4157-ABA5-E1B54361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5502D-D09F-4077-A70E-03CB7612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8C89C-D35B-49D0-8E7F-83F2937F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545FE-004A-40D5-8441-22E6C092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3772-B638-4C32-893B-356845E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333-6AE3-4130-8D65-2CC573F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14F2-EFB4-47C9-8EED-9764F823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4966C-EBB0-4F8D-AC9D-878C8F41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FF29D-9B74-472C-90C6-B95C6DE1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A432-0D5D-4B5E-BEFC-87993F98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D0335-5C6D-4FE7-A52B-8E51E7E2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892F1-0D17-4733-B551-9E980AB0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465B4-37A4-4FDC-8563-FA2CFE70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A160A-04B3-4353-A2C2-84DD2A89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8ED2C-2E1D-41A8-8AEF-11C64424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F9FF3-DBAF-4FF1-BB62-AC4C128E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A43-7816-4BD1-B1BF-5947A5A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F6049-1B78-4B28-A658-7FB655A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F49B6-401E-445F-839A-B5DA9FB5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6D825-8048-42EC-8ED1-ED0C1429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5052F-39FE-47F1-B64A-33988736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B4F80-3FAC-42B1-A690-07248B99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94AD9-A1B2-49AF-A7AC-B2225A60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37C54-AB58-43ED-A123-594AF3E3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EB4A8-64EA-4A76-9DDC-AC0BB6E9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2B2C1-B353-429F-AEDC-76CA6C01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4F20D-A643-46B7-8CE1-757D75C2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2A96-68F9-40A0-AC3B-7844A17A47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4DDF-EC54-484F-8C9F-F972DBD6DEE2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545C-4EE6-4086-BFB9-A1E5D805481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782A-3B42-4BEF-A6F0-78FDF111C3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AC16-8223-40D4-8050-84B45B8F34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746D-55D6-4A9F-9DE1-509D88B20600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1EE7-1A54-4A79-99E3-BF15F99EAA15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3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1DB8-70E4-4637-B0CD-3E79176272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539C-0046-406F-BF3D-6C94818C919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00720" y="-3891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140000" y="5445000"/>
            <a:ext cx="5003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Заседание редакци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оллегии газ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5000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два лучи солнца освет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лею,  всё оживилось 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трепет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J0202104"/>
          <p:cNvPicPr/>
          <p:nvPr/>
        </p:nvPicPr>
        <p:blipFill>
          <a:blip r:embed="rId1"/>
          <a:stretch/>
        </p:blipFill>
        <p:spPr>
          <a:xfrm>
            <a:off x="826920" y="2349360"/>
            <a:ext cx="7129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892720" y="-543816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453000"/>
            <a:ext cx="324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97" name="Picture 4" descr="J0149088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J0289528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4862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J0182824"/>
          <p:cNvPicPr/>
          <p:nvPr/>
        </p:nvPicPr>
        <p:blipFill>
          <a:blip r:embed="rId3"/>
          <a:stretch/>
        </p:blipFill>
        <p:spPr>
          <a:xfrm>
            <a:off x="0" y="0"/>
            <a:ext cx="3132000" cy="3789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J0289879"/>
          <p:cNvPicPr/>
          <p:nvPr/>
        </p:nvPicPr>
        <p:blipFill>
          <a:blip r:embed="rId4"/>
          <a:stretch/>
        </p:blipFill>
        <p:spPr>
          <a:xfrm>
            <a:off x="3132000" y="0"/>
            <a:ext cx="2880000" cy="3789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J0202066"/>
          <p:cNvPicPr/>
          <p:nvPr/>
        </p:nvPicPr>
        <p:blipFill>
          <a:blip r:embed="rId5"/>
          <a:stretch/>
        </p:blipFill>
        <p:spPr>
          <a:xfrm>
            <a:off x="3348000" y="3789360"/>
            <a:ext cx="2664000" cy="3068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J0182822"/>
          <p:cNvPicPr/>
          <p:nvPr/>
        </p:nvPicPr>
        <p:blipFill>
          <a:blip r:embed="rId6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074160" y="-51764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172000" y="6668640"/>
            <a:ext cx="9716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05" name="Picture 6" descr="J0216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J0216004"/>
          <p:cNvPicPr/>
          <p:nvPr/>
        </p:nvPicPr>
        <p:blipFill>
          <a:blip r:embed="rId1"/>
          <a:stretch/>
        </p:blipFill>
        <p:spPr>
          <a:xfrm>
            <a:off x="0" y="4508640"/>
            <a:ext cx="4859280" cy="23493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842320" y="-5445360"/>
            <a:ext cx="122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9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лово «газета» пришло к нам из итальянского языка, где оно имело значение «мелкая монета». Появившиеся в 1563 году в итальянском городе Венеция, газеты были рукописные и продавались только для прочтения. За прочтение платили мелкую монету, потом газету возвращали продав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J0178998"/>
          <p:cNvPicPr/>
          <p:nvPr/>
        </p:nvPicPr>
        <p:blipFill>
          <a:blip r:embed="rId2"/>
          <a:stretch/>
        </p:blipFill>
        <p:spPr>
          <a:xfrm>
            <a:off x="485928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J0216008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илипп играет в хокк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ассажиры вышли на перр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ла собрала коллекцию ма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476360" y="105264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илипп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ассажиры пер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ла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лле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4" descr="J0178633"/>
          <p:cNvPicPr/>
          <p:nvPr/>
        </p:nvPicPr>
        <p:blipFill>
          <a:blip r:embed="rId1"/>
          <a:stretch/>
        </p:blipFill>
        <p:spPr>
          <a:xfrm>
            <a:off x="2340000" y="4111560"/>
            <a:ext cx="4160880" cy="274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18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ятельности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85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385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Admin</cp:lastModifiedBy>
  <dcterms:modified xsi:type="dcterms:W3CDTF">2011-10-24T18:25:34Z</dcterms:modified>
  <cp:revision>18</cp:revision>
  <dc:subject/>
  <dc:title>Слайд 1</dc:title>
</cp:coreProperties>
</file>