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1.wmf" ContentType="image/x-wmf"/>
  <Override PartName="/ppt/media/image13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D68-5BC8-441D-AD1E-A29D00E7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59DF-A30E-498D-B66C-D080BA49C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39A0A4-143E-4038-9F4B-3379A261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30217-3979-4A93-AD8E-C6B79041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695F6-C346-4543-BB53-31620856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4572A-6CBD-4D30-9D9D-A1998CCB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13D41-3720-4632-8C29-2E10B3B5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B82A6-9F02-4A96-ADB1-72BC4732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C2D369-94ED-4964-A466-FCB25588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9175F-7F24-41F5-BB3B-B4FE821B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9A087-C132-480B-959B-23EAFFE7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D563-8209-4D61-8D61-45737564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4DE9-F00C-482E-B7B0-32A69721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95132-7E2C-4750-9134-A8E094B5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7F7BD-0D96-4716-9AEA-8F57614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24974-3E6B-4C24-9026-33DC8500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3CA7D-0B90-46D9-9699-6C813F74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EF408-929E-4273-91F1-522ABF24F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289E1-99AA-46DD-A140-8CE848D0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2EC56-75FF-4AFB-9BFB-C922DE4C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DE64-C78B-4772-9DE5-345F8DAE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92BE2-D1D9-4BA0-B10F-67DC4A0F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71661-978F-4830-A6F5-1EF8A8D4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460A4-73C1-497E-A5C5-A1BEEDD60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F766C-9F00-4F90-AB51-ACDC04FE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990B4-E7D4-4B6E-B440-D0171E04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B7D86-C686-4EEE-94F9-0845B29CE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55649-9965-4389-9819-828DE13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3A09-FAF9-4905-8699-EDCBB003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94BDD-089F-40C9-A39A-C57E2B7BF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A815D-AFA2-4596-A830-7E886575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26D1-EA6E-43C5-A417-48E19478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9B237-F737-4512-B483-39B006CD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D1D2-6D9C-424E-9922-B77A19AB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70E8C-CDD4-4BAA-BDC2-99B43497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89DE6-11AF-41C8-B12C-463B62C7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EB7EC-AEA4-4D8F-BEE0-BCAD0C72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5EB9C-6282-45A0-86AF-56ED822C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B538B-50D1-45E2-AA2D-64731C00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BC87E-CEED-4499-9719-AC323129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9483-8998-4763-9CC8-B4F2A6B6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89AE3-D57A-4E4A-974F-B61641F7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B8F3-49A5-4B93-9590-9C7308DD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E35E0-424F-4ADF-B243-6C610E18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EBAE0-A6F0-4204-9DC0-E3A82072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0BAA-28E6-4F0C-ABC3-B7110847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BA010-819D-41CC-B23A-0BF95B63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A7EC-9E42-4FB3-9D58-B824C1C2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7BF62-FBF2-4E0D-A991-20165084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BCE7D-023A-4D03-A9E3-46E5C27A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60C02-A974-416D-815D-A1617444F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3811-30A2-4464-9638-A77AB582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5E9DA-AF0E-4E65-BA70-699BC521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30E-22C9-44F8-8C4F-718E100F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AEA0F-DA86-4996-9860-60756A04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D70C0-E9F3-44B3-9355-6F460A1D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EB57E-9117-4FD8-9EE0-7300493F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9D3AB-6935-44C7-A19A-286904CC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98567-3883-4ED9-99ED-718664FE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FB327-A588-46C2-9B98-28A3615E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DCA03-23B0-4C58-9410-13338466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B2747-7CC6-4F15-AD87-0BC63613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A4FB5-BEB9-4E6F-A14E-329DD7491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D3A45B-621F-45AF-8D78-AB7366F3F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F2E2-8620-44EC-9CE4-5223D645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2E320-383E-495B-84E8-4E455FC0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459D0-2C3B-45B9-A221-78C07FB3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8FD8B-4EF0-48B3-9EA9-72834A10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9E0D-4D1D-4402-A600-3B5A433D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4D504-ECC5-47AD-9547-D40F5038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9CE00-D83E-4701-B716-D5E0A6EF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20B8F-AB0B-4FA2-A734-E0F4565F9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597BD-8DF8-49DD-9ABD-44AEFD99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C1E85-45B8-4F9A-8935-5900380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A87D2-ACD9-4884-8A9A-F1BF9B6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49A9-ECA3-429D-81C9-10B9002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8A11-6D24-4344-922F-13E6225F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3E7B8-D9DB-476A-9778-101F8BDF4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6811B-6094-4D40-B0DA-9BD65687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E3F5C-09FB-4B01-98F7-5DDCAFE0D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0692D-FE53-46D5-9939-86990CAC9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6518D-B060-44CD-9B15-B5AA24AA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168EF-150D-4E6F-AC84-EB591756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735B3-87CA-407E-AA79-CE6B30E1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F86F6-0AF8-4C40-9C82-51C5CA22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755C1-540B-48B2-B9E9-F85D31F2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575E-3613-453D-9189-114C6193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28D0B-77E8-4395-8FA9-6F98F1E0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B0820-96FC-458C-9044-B67E6DFE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F1BCE-CB19-44AC-A807-3BDF045D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47833-B04A-41A3-A271-54553A18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69B1F-44C5-4D3C-B43F-EEB342D6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6F7C7-A46D-4A92-8E26-17253BC0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33A1E-326A-4C75-A272-CC8C042C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7CB41-2D03-4BDB-8C94-ED1125F3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C4BA2-6387-4EF7-B30F-5DA4148E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6A877-9E83-4732-BE0D-1264C6D7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AE40-0632-4270-97C9-8EA5DA1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B105F-3127-4313-A4DD-2F998361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7574-AB78-4D77-85BB-43FC140F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62A18-08D9-43A5-B169-80A309B6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9DE29-131B-4016-909D-4811B31D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81A8FE-C9B7-4DD4-BBBD-0B2FEE15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F4B66-9F5F-4647-8398-FAE4DB54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71807-B94E-4BA0-A08A-F8711315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338C2-0A83-4077-838C-1E7086D25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3B031E-43AD-4C8B-BECC-5DB9FC30B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7DF5C8-72B2-48ED-9BC1-CE1131E6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AEDA-B226-4876-B38C-C2F043844E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0AFA9-9A7F-4ED3-87CA-FAE26E0D5241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5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F440-7AD7-4559-A55F-C598F0786C50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C1E6-3EA5-4FC7-94AF-7647E12813B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1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21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2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24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6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7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16B09-6778-422B-94A8-490D90E61F6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18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D572-065A-4B60-B119-26C91B7E35E3}" type="slidenum">
              <a:rPr b="0" lang="ru-RU" sz="1000" spc="-1" strike="noStrike">
                <a:solidFill>
                  <a:srgbClr val="ffffff"/>
                </a:solidFill>
                <a:latin typeface="Tahoma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38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52BF-FD76-4327-B7B9-A5B8C58FC233}" type="slidenum">
              <a:rPr b="0" lang="ru-RU" sz="12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3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F627-D0FD-4578-9BF3-FD90B4E409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8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8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0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51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4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78DE-E628-4C94-B0E0-F9E9DD669513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00720" y="-38916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140000" y="5445000"/>
            <a:ext cx="500364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Заседание редакцион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коллегии газе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WordArt 4"/>
          <p:cNvSpPr txBox="1"/>
          <p:nvPr/>
        </p:nvSpPr>
        <p:spPr>
          <a:xfrm>
            <a:off x="1332000" y="0"/>
            <a:ext cx="6697440" cy="43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двоенные согласные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9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50000">
              <a:srgbClr val="def6f1"/>
            </a:gs>
            <a:gs pos="100000">
              <a:srgbClr val="8dc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Едва лучи солнца освети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лею,  всё оживилось и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трепета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4" descr="J0202104"/>
          <p:cNvPicPr/>
          <p:nvPr/>
        </p:nvPicPr>
        <p:blipFill>
          <a:blip r:embed="rId1"/>
          <a:stretch/>
        </p:blipFill>
        <p:spPr>
          <a:xfrm>
            <a:off x="826920" y="2349360"/>
            <a:ext cx="712980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8892720" y="-5438160"/>
            <a:ext cx="2509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0" y="6453000"/>
            <a:ext cx="324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597" name="Picture 4" descr="J0149088"/>
          <p:cNvPicPr/>
          <p:nvPr/>
        </p:nvPicPr>
        <p:blipFill>
          <a:blip r:embed="rId1"/>
          <a:stretch/>
        </p:blipFill>
        <p:spPr>
          <a:xfrm>
            <a:off x="0" y="3789360"/>
            <a:ext cx="3419640" cy="306864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J0289528"/>
          <p:cNvPicPr/>
          <p:nvPr/>
        </p:nvPicPr>
        <p:blipFill>
          <a:blip r:embed="rId2"/>
          <a:stretch/>
        </p:blipFill>
        <p:spPr>
          <a:xfrm>
            <a:off x="5940360" y="0"/>
            <a:ext cx="3203640" cy="34862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J0182824"/>
          <p:cNvPicPr/>
          <p:nvPr/>
        </p:nvPicPr>
        <p:blipFill>
          <a:blip r:embed="rId3"/>
          <a:stretch/>
        </p:blipFill>
        <p:spPr>
          <a:xfrm>
            <a:off x="0" y="0"/>
            <a:ext cx="3132000" cy="378936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J0289879"/>
          <p:cNvPicPr/>
          <p:nvPr/>
        </p:nvPicPr>
        <p:blipFill>
          <a:blip r:embed="rId4"/>
          <a:stretch/>
        </p:blipFill>
        <p:spPr>
          <a:xfrm>
            <a:off x="3132000" y="0"/>
            <a:ext cx="2880000" cy="378936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8" descr="J0202066"/>
          <p:cNvPicPr/>
          <p:nvPr/>
        </p:nvPicPr>
        <p:blipFill>
          <a:blip r:embed="rId5"/>
          <a:stretch/>
        </p:blipFill>
        <p:spPr>
          <a:xfrm>
            <a:off x="3348000" y="3789360"/>
            <a:ext cx="2664000" cy="30686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9" descr="J0182822"/>
          <p:cNvPicPr/>
          <p:nvPr/>
        </p:nvPicPr>
        <p:blipFill>
          <a:blip r:embed="rId6"/>
          <a:stretch/>
        </p:blipFill>
        <p:spPr>
          <a:xfrm>
            <a:off x="6012000" y="3429000"/>
            <a:ext cx="3132000" cy="342900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074160" y="-51764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172000" y="6668640"/>
            <a:ext cx="97164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605" name="Picture 6" descr="J02160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c6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324000" y="981000"/>
            <a:ext cx="8280360" cy="141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137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писание слов с удвоенной согласной буквой надо запомн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4" descr="J0078733"/>
          <p:cNvPicPr/>
          <p:nvPr/>
        </p:nvPicPr>
        <p:blipFill>
          <a:blip r:embed="rId1"/>
          <a:stretch/>
        </p:blipFill>
        <p:spPr>
          <a:xfrm>
            <a:off x="539640" y="2637000"/>
            <a:ext cx="1395360" cy="3927240"/>
          </a:xfrm>
          <a:prstGeom prst="rect">
            <a:avLst/>
          </a:prstGeom>
          <a:ln w="0">
            <a:noFill/>
          </a:ln>
        </p:spPr>
      </p:pic>
    </p:spTree>
  </p:cSld>
  <p:transition advTm="10000"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77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" dur="770" fill="hold"/>
                                        <p:tgtEl>
                                          <p:spTgt spid="6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5" descr="J0216004"/>
          <p:cNvPicPr/>
          <p:nvPr/>
        </p:nvPicPr>
        <p:blipFill>
          <a:blip r:embed="rId1"/>
          <a:stretch/>
        </p:blipFill>
        <p:spPr>
          <a:xfrm>
            <a:off x="0" y="4508640"/>
            <a:ext cx="4859280" cy="23493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842320" y="-5445360"/>
            <a:ext cx="1224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932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Слово «газета» пришло к нам из итальянского языка, где оно имело значение «мелкая монета». Появившиеся в 1563 году в итальянском городе Венеция, газеты были рукописные и продавались только для прочтения. За прочтение платили мелкую монету, потом газету возвращали продавц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2" name="Picture 4" descr="J0178998"/>
          <p:cNvPicPr/>
          <p:nvPr/>
        </p:nvPicPr>
        <p:blipFill>
          <a:blip r:embed="rId2"/>
          <a:stretch/>
        </p:blipFill>
        <p:spPr>
          <a:xfrm>
            <a:off x="4859280" y="335772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J0216008"/>
          <p:cNvPicPr/>
          <p:nvPr/>
        </p:nvPicPr>
        <p:blipFill>
          <a:blip r:embed="rId3"/>
          <a:stretch/>
        </p:blipFill>
        <p:spPr>
          <a:xfrm>
            <a:off x="6084720" y="0"/>
            <a:ext cx="3059280" cy="3429000"/>
          </a:xfrm>
          <a:prstGeom prst="rect">
            <a:avLst/>
          </a:prstGeom>
          <a:ln w="0">
            <a:noFill/>
          </a:ln>
        </p:spPr>
      </p:pic>
    </p:spTree>
  </p:cSld>
  <p:transition advTm="12000">
    <p:random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илипп играет в хокк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Пассажиры вышли на перро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Алла собрала коллекцию маро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c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/>
          </p:nvPr>
        </p:nvSpPr>
        <p:spPr>
          <a:xfrm>
            <a:off x="1476360" y="1052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Филипп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хокк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пассажиры перр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лла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коллек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5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5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4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9" dur="5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686440" y="6021000"/>
            <a:ext cx="20628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7" name="Picture 4" descr="J0178633"/>
          <p:cNvPicPr/>
          <p:nvPr/>
        </p:nvPicPr>
        <p:blipFill>
          <a:blip r:embed="rId1"/>
          <a:stretch/>
        </p:blipFill>
        <p:spPr>
          <a:xfrm>
            <a:off x="2340000" y="4111560"/>
            <a:ext cx="4160880" cy="2746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618" name="WordArt 6"/>
          <p:cNvSpPr txBox="1"/>
          <p:nvPr/>
        </p:nvSpPr>
        <p:spPr>
          <a:xfrm>
            <a:off x="1042920" y="0"/>
            <a:ext cx="6481800" cy="378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274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елаю успеха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самостоятельной 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деятельности!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advTm="5000"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385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7" dur="385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9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1" dur="38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8T08:32:51Z</dcterms:created>
  <dc:creator>155</dc:creator>
  <dc:description/>
  <dc:language>en-US</dc:language>
  <cp:lastModifiedBy>Admin</cp:lastModifiedBy>
  <dcterms:modified xsi:type="dcterms:W3CDTF">2011-10-24T18:25:34Z</dcterms:modified>
  <cp:revision>18</cp:revision>
  <dc:subject/>
  <dc:title>Слайд 1</dc:title>
</cp:coreProperties>
</file>