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648-6D0E-43E2-8592-04FBCA5C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A3E-A10D-40F2-947C-925A1278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490-C883-482D-9177-07F67E6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FBE-8C0A-4E23-936A-BB2B917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78D1-47DB-461E-97D8-D6E89027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160-2436-4570-A19E-470BFFE7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5C22-3EAA-43CF-8C5E-0EAC7B3F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C54-7774-46CF-84C0-BD995281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325-5D1E-47DF-9536-F740840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FF30-BE36-44C7-9B5C-ECEA311D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E733-A1BF-4521-A3D4-49A3A54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DE8-0ADE-42BE-805C-FA55177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AF2-6923-4EFE-833A-C888763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ECEE-914D-4E30-AEED-13B931CD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B029-76ED-40C1-96F1-ED8F20A2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655-6533-4B82-9F7B-E31ED11B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F75-1BA8-4FEC-A3FF-DAF00253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64DE-5909-4D2B-B89C-FF8FB7BC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FC4B-69D2-492E-B3A1-C05CB23A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002D-A594-4B64-94D4-B851E2E7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109D-E6D3-4E2D-A31F-B64D012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6E19-00FE-4CDA-8B2D-BF995A76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1BF-3A51-4000-902D-23B20B9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3565-BADF-4010-9E41-4B8B4B5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812B-870F-4CD3-8C8C-7826CED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863B-AAAF-4A9C-9DAF-157FC1E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3D06-66EA-44E7-93FB-04D23EF8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A77D-77D4-4C74-ACCA-8DBDED4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4FFA-8844-4EAD-A98A-41A829CB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2C63-0544-4E12-83A3-651096D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FFEE-859A-474D-89A7-2D926FBE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7600-3DDA-4919-8BD9-2A1334A8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6F0FC-DEA0-48B2-8D20-DFBE9FA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0EB-DB37-47D6-9359-94C7545F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83D7B-0B19-4636-B993-DF0EEA9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966C-6910-45A7-BB36-89EE169C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6F11-AF91-41D6-819A-26276B11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D651-FD2C-4751-A4F0-4C1BC04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04D1-234A-4B2D-86A7-B33C07A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1263-76EB-47EC-9C92-5CB53578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9FD5-EBAB-48C7-B478-6DB2A6B4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AEAD-7411-41E4-A2CF-D4D96FEF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F185-BB6F-4432-BCC8-620F0505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26BC-71F7-46CB-98D5-EDA318FE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D2D-6337-470D-B33F-AA28924B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E965-1625-4059-B912-730C93F9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6200-914F-40B4-959B-DF1C1CB5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A1B09-EC0C-41EE-A69F-FEE93E71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1DC4-0A5E-480E-94F7-20BC6464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A826-865F-4F7C-9BF1-18769A28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0E6A-EEA4-4BB9-92F4-6C513F9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725E-A303-412D-9929-3BE5AFB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1E82-66A7-4B60-8AFC-C6625868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EAC4-8C27-4F22-B3AD-9380CA1D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877F-DAEA-4370-9F5A-6AA2C6A3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D89-24B1-4B21-83C5-5F7203A8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A34A-503E-40AA-AD9D-0991E5A9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92FA-6103-4316-A3FF-2A6F703A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3424-671E-40F7-B61E-E28DA02F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C7D8-7321-4A63-A0E8-E82DBAD1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0443-E605-4CD4-A26F-AD6F8213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84F1A-5C00-4A48-8798-6C4D5B8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D12CB-AC6B-41B6-9B99-8EEF15F0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8A70-E2DF-43F2-9D61-1A146248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6505F-3149-42AB-8568-BDE6CEE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105E-365E-4042-AA5C-B033D4C1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366-EE50-48C9-94CF-C84185F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B382-8020-41F6-B41E-14A5B38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D0FD2-6B4D-48D2-A787-AB0E0060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1B0D-2766-4529-B88A-5FC557A1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8EBDB-37B2-4503-B743-861C3C43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4C4E-C60C-47D3-A33F-72B1315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50D20-1A21-4FC4-93CE-DD1DB4FF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7D60-B582-42C3-9AC6-64B3927B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7D70-4C03-4C23-B97C-478C65D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0F080-573E-423A-A891-04A1371B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1143E-47D8-4966-B216-4DE1390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11B-5D83-47C7-8C8F-A99D425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C170-94A2-44D3-B93E-DD6F042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1DA0-6021-4986-BF81-D26E46F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51D30-911C-45FF-A2F7-998D5CC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D5BE-2C3E-4CF3-8866-11F06987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ADD84-42B2-4B52-A867-DB9FB04A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8FF-C9F1-4895-9B71-1BCAD6D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A3E0-9BB5-4EB6-85C5-79A0526579E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CA4-DFF7-4011-9331-785DBA1C1F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D15-0FA8-4E02-BE31-BC6E7339B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604-88EE-4E92-BA46-17D375BD746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1C6-EE99-480E-AA73-5675E686F2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CDE0-A2C6-4C65-832C-538CB0B511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1368-432B-4CFF-91D1-D09C610593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19928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УССКИЙ  ЯЗЫК 2 КЛАСС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Тема урока :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«Однокоренные слова.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рень слова.»</a:t>
            </a:r>
            <a:br>
              <a:rPr sz="72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 rot="10800000">
            <a:off x="183528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ави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Чтобы найти в слове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орен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   нужно сравнить несколько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родственных сл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по смысл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выделить в них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общую часть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>
            <a:off x="826920" y="1916280"/>
            <a:ext cx="72741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d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19928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00"/>
                </a:solidFill>
                <a:latin typeface="Arial"/>
              </a:rPr>
              <a:t>ос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34920" y="2565360"/>
            <a:ext cx="525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к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ый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6932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читься находить однокоренные слова, выделять корен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077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синка, подосиновик, осиновый, осинн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7174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4000" y="5373360"/>
            <a:ext cx="5580000" cy="148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324160" cy="11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 rot="20246400">
            <a:off x="971280" y="270828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ожит как осиновый лис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 rot="2368200">
            <a:off x="4500720" y="3213000"/>
            <a:ext cx="2171520" cy="91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4"/>
          <a:stretch/>
        </p:blipFill>
        <p:spPr>
          <a:xfrm rot="2397000">
            <a:off x="2627280" y="3715920"/>
            <a:ext cx="1104840" cy="2324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5"/>
          <a:stretch/>
        </p:blipFill>
        <p:spPr>
          <a:xfrm rot="20541600">
            <a:off x="6588000" y="335736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9"/>
          <p:cNvSpPr txBox="1"/>
          <p:nvPr/>
        </p:nvSpPr>
        <p:spPr>
          <a:xfrm>
            <a:off x="1763640" y="5229360"/>
            <a:ext cx="55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силь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26800" y="479160"/>
            <a:ext cx="741348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осинка, подосиновик, осиновый, осинник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35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4" descr="image869"/>
          <p:cNvPicPr/>
          <p:nvPr/>
        </p:nvPicPr>
        <p:blipFill>
          <a:blip r:embed="rId1"/>
          <a:stretch/>
        </p:blipFill>
        <p:spPr>
          <a:xfrm>
            <a:off x="3851280" y="3213000"/>
            <a:ext cx="136836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mage869"/>
          <p:cNvPicPr/>
          <p:nvPr/>
        </p:nvPicPr>
        <p:blipFill>
          <a:blip r:embed="rId2"/>
          <a:stretch/>
        </p:blipFill>
        <p:spPr>
          <a:xfrm>
            <a:off x="6516720" y="3429000"/>
            <a:ext cx="14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869"/>
          <p:cNvPicPr/>
          <p:nvPr/>
        </p:nvPicPr>
        <p:blipFill>
          <a:blip r:embed="rId3"/>
          <a:stretch/>
        </p:blipFill>
        <p:spPr>
          <a:xfrm>
            <a:off x="1258920" y="3789360"/>
            <a:ext cx="144144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а, по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ик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ый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ник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image869"/>
          <p:cNvPicPr/>
          <p:nvPr/>
        </p:nvPicPr>
        <p:blipFill>
          <a:blip r:embed="rId1"/>
          <a:stretch/>
        </p:blipFill>
        <p:spPr>
          <a:xfrm>
            <a:off x="5292720" y="3860640"/>
            <a:ext cx="136692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47:16Z</dcterms:created>
  <dc:creator>shsv</dc:creator>
  <dc:description/>
  <dc:language>en-US</dc:language>
  <cp:lastModifiedBy>1</cp:lastModifiedBy>
  <dcterms:modified xsi:type="dcterms:W3CDTF">2013-02-10T11:18:05Z</dcterms:modified>
  <cp:revision>19</cp:revision>
  <dc:subject/>
  <dc:title>Однокоренные слова. Корень слова.</dc:title>
</cp:coreProperties>
</file>