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756-6835-47A7-A8BD-44A3EC20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ECB-C3DF-4B23-ACA6-6391CE13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045-559B-4A16-9C46-C6CA1698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0B6-A5E6-412F-A7E0-32D7B8A3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9CB9-B5EA-4FBD-9772-709B4931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1C0A-17C5-415C-B3CF-9F1EF2E5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7CC7-C857-4D0E-B2C3-75BDCDE7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87C6-8BF6-492F-B390-AF6F11B0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057D-D8DF-4079-BFDA-8863903C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94E1-94BC-48E1-A23E-42A464B1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1489-28B6-4E8B-94D4-1948745E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84E-7121-4610-BEE3-CEC9B49E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6A8D-C3C2-46A1-8451-A863645D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6FB4-D8C9-49B2-8B20-F4B66983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68D9-B405-47D5-A855-C251C0FF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3340-D414-43D5-BB69-2F670ABD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B429-D3CE-46FA-8CEE-C58D926A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7365-5363-41A2-85B9-9A23568B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60ADE-8FE2-4584-B598-D990BEF4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0C13-614C-4B5A-A81C-FCAECE76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C15D-4D8F-43D4-8460-CB636718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3E0D-C274-462B-ACE9-4182A70B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E91-8024-47E4-961C-8728637C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2DFE-03B6-4795-9289-107CC046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2B6E-4496-46E7-9E94-031324A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BDB6E-9B20-413F-A70B-E50A2415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36FA-160A-45EE-9AA1-D94E7211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91E6-728F-4A4C-8700-532FE1FE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E393-856B-416D-888D-302BDA4D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D413-6DC8-4402-8ED4-057B0AE0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78EDE-A696-4E88-A60C-852D69D4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D99A8-602F-48BA-9A9F-746C6232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7184-A129-48DF-B87B-E29A298B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0B1-CFDB-471E-A005-DDC5A35C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E0F7F-7213-4D38-A452-EB45B6D1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FC51-57CC-4780-B042-514915B9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A20C2-F43B-4903-B6D3-3F4C6637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BA066-C72C-490F-95CA-6B8CCD83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26598-058E-4A6A-AE3F-67EB8EE7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F18B-AA5B-4370-9A06-1286E3C7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3730-48DA-4805-A18A-F7A9251B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5353D-174D-4DF1-A9C8-FFB8F1C8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B0A41-FC3E-4BAF-8636-4E1DFA1A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E7068-50A5-4DA5-AE91-B76605BD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739-76D9-41AC-87E1-B9247DA6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4DE62-5B7D-4357-BD20-D3255EAD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725E7-1436-4B15-AD1D-B684878E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CD527-4EB8-4D81-AE18-461C04B2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A05C4-BFF5-4525-B65F-D235A957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D8D0-91E7-4D71-8805-0A1082B7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D9C21-0F51-485E-937B-C5602F1A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DFDA6-9B82-497E-9CA7-770DF272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8251-B461-4FE2-9E24-6346946B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4E593-B768-4F77-97FE-034769A0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AF6E-9930-401E-897A-D1150E42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37C-881F-46AF-A2B6-D635DF4B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B2C57-D5D7-4A96-ACE8-E6115788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C8907-ED87-456C-BC25-8C72BD7E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2B19B-E5C5-4620-B915-EA5B8A9D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075BD-D22A-4638-9678-2A0A664E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A2E64-CED6-413C-B5B8-669BD6D0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3E226-FED7-4CDA-B2C3-32BE702A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D11E8-0649-4DBC-9D87-A212231D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76D15-68F7-4843-B6AD-190EB7FC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5BE2-552A-4F79-A9D8-AB13CFED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2836C-8BF9-42E9-8220-08D48DE1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172-D798-4C49-BD16-DB8B8244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BEC3E-25D6-4A66-A9D7-D897AE5E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E0C25-ECAB-43BC-A30B-5D7530DD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3A2E9-E658-4863-8A1A-72AE06D2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4A4B3-3DAF-41D9-B91F-50FBE6CD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BF4FD-FCF8-4826-9348-79E894D0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3B454-E1A8-48B1-B657-6EF8AC3F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6B4A2-DCC6-4EE1-B08D-D0E3BD77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D10D3-2447-47F1-A7FC-F09731C6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CB5EB-6A0D-44D8-B25C-65C6CE95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F51A8-A6BD-4303-9BE7-3CEDF9FD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0F4-7859-4A41-AC51-91D1060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2EB3B-F5BC-48AE-80D9-5B1DA10D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84201-EDF1-4642-97D9-6C30533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F05F2-F535-4F4D-8A81-E52EA5C7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A565E-9C92-4D2D-A4C6-EC79A011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5E8B6-D556-4CA6-B94B-E32252AC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DF2-BEB2-45E6-9FD0-808255C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11D2-26DF-4BCF-BBF9-BFE749BEA22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0BEA-E9D4-46FE-ABEE-1087D415C5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B5B2-62CC-41C2-BC03-321E4B5FB4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D34E-21FB-438A-9C61-67DE0F730DC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067B-BC50-4E89-9C31-C2231B949DA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145A-FC8A-4512-B289-5C8B4AF4B6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9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5A6E-463E-4F4D-9F5E-562E1215B30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3e0c2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19928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РУССКИЙ  ЯЗЫК 2 КЛАСС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Тема урока : 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«Однокоренные слова.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Корень слова.»</a:t>
            </a:r>
            <a:br>
              <a:rPr sz="72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 rot="10800000">
            <a:off x="1835280" y="6237360"/>
            <a:ext cx="460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Правил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838080" y="1989000"/>
            <a:ext cx="76932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Чтобы найти в слове 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корень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,   нужно сравнить несколько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родственных слов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по смыслу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выделить в них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общую часть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4"/>
          <p:cNvSpPr txBox="1"/>
          <p:nvPr/>
        </p:nvSpPr>
        <p:spPr>
          <a:xfrm>
            <a:off x="826920" y="1916280"/>
            <a:ext cx="72741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d0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3e0c2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719928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00"/>
                </a:solidFill>
                <a:latin typeface="Arial"/>
              </a:rPr>
              <a:t>оса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34920" y="2565360"/>
            <a:ext cx="5257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6600" spc="-1" strike="noStrike">
                <a:solidFill>
                  <a:srgbClr val="006600"/>
                </a:solidFill>
                <a:latin typeface="Verdana"/>
              </a:rPr>
              <a:t>осинк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00"/>
                </a:solidFill>
                <a:latin typeface="Verdana"/>
              </a:rPr>
              <a:t>осиный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7693200" cy="30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Учиться находить однокоренные слова, выделять корень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077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Осин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синка, подосиновик, осиновый, осинн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7174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64000" y="5373360"/>
            <a:ext cx="5580000" cy="148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досинов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324160" cy="1105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 rot="20246400">
            <a:off x="971280" y="2708280"/>
            <a:ext cx="2324160" cy="1104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рожит как осиновый лист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 rot="2368200">
            <a:off x="4500720" y="3213000"/>
            <a:ext cx="2171520" cy="912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4"/>
          <a:stretch/>
        </p:blipFill>
        <p:spPr>
          <a:xfrm rot="2397000">
            <a:off x="2627280" y="3715920"/>
            <a:ext cx="1104840" cy="2324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5"/>
          <a:stretch/>
        </p:blipFill>
        <p:spPr>
          <a:xfrm rot="20541600">
            <a:off x="6588000" y="3357360"/>
            <a:ext cx="2324160" cy="1104840"/>
          </a:xfrm>
          <a:prstGeom prst="rect">
            <a:avLst/>
          </a:prstGeom>
          <a:ln w="0">
            <a:noFill/>
          </a:ln>
        </p:spPr>
      </p:pic>
      <p:sp>
        <p:nvSpPr>
          <p:cNvPr id="361" name="WordArt 9"/>
          <p:cNvSpPr txBox="1"/>
          <p:nvPr/>
        </p:nvSpPr>
        <p:spPr>
          <a:xfrm>
            <a:off x="1763640" y="5229360"/>
            <a:ext cx="554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ень силь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126800" y="479160"/>
            <a:ext cx="741348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ин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осинка, подосиновик, осиновый, осинник.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3588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4" name="Picture 4" descr="image869"/>
          <p:cNvPicPr/>
          <p:nvPr/>
        </p:nvPicPr>
        <p:blipFill>
          <a:blip r:embed="rId1"/>
          <a:stretch/>
        </p:blipFill>
        <p:spPr>
          <a:xfrm>
            <a:off x="3851280" y="3213000"/>
            <a:ext cx="136836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image869"/>
          <p:cNvPicPr/>
          <p:nvPr/>
        </p:nvPicPr>
        <p:blipFill>
          <a:blip r:embed="rId2"/>
          <a:stretch/>
        </p:blipFill>
        <p:spPr>
          <a:xfrm>
            <a:off x="6516720" y="3429000"/>
            <a:ext cx="1440000" cy="2736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image869"/>
          <p:cNvPicPr/>
          <p:nvPr/>
        </p:nvPicPr>
        <p:blipFill>
          <a:blip r:embed="rId3"/>
          <a:stretch/>
        </p:blipFill>
        <p:spPr>
          <a:xfrm>
            <a:off x="1258920" y="3789360"/>
            <a:ext cx="144144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ка, под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вик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вый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ник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8" name="Picture 4" descr="image869"/>
          <p:cNvPicPr/>
          <p:nvPr/>
        </p:nvPicPr>
        <p:blipFill>
          <a:blip r:embed="rId1"/>
          <a:stretch/>
        </p:blipFill>
        <p:spPr>
          <a:xfrm>
            <a:off x="5292720" y="3860640"/>
            <a:ext cx="136692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8:47:16Z</dcterms:created>
  <dc:creator>shsv</dc:creator>
  <dc:description/>
  <dc:language>en-US</dc:language>
  <cp:lastModifiedBy>1</cp:lastModifiedBy>
  <dcterms:modified xsi:type="dcterms:W3CDTF">2013-02-10T11:18:05Z</dcterms:modified>
  <cp:revision>19</cp:revision>
  <dc:subject/>
  <dc:title>Однокоренные слова. Корень слова.</dc:title>
</cp:coreProperties>
</file>