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1F4-578B-49E9-BE65-530F6A65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67F-5AF3-4E6F-8202-263C285D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079-B781-4AB7-8E09-85F87262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2FD-8A62-47ED-ADF7-5181ECAD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ED64-C9BE-4DBE-9A2B-1239C75F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D0FD-6D6F-46CB-8DCF-E6454111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0CE9-4078-4E3A-85AB-D194A383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8F35-837E-45CC-BC7E-E3483C99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DC85-0B72-4A71-AF88-819ACD39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FF06-EBB0-422F-8C5F-25E1275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600B-350D-4751-BF70-FCE626C5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C73-90F6-419A-81B5-E46DF301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5768-0403-4395-A673-FA4C84BD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F4CE-233C-4848-9195-FA459F1C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283D-A4FE-4FBB-A3FC-53397B2E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EB88-0BE8-4658-9E83-19AEE101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CBC2-5AE8-42E1-85C0-01B4EA92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ABA4-2FDF-4B4E-9699-DFCF5A22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7B90-50C3-4F4B-96CC-2501A9F0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898E-1CF8-4483-9E22-57B72DF1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FEC3-FD2F-4318-AA37-25DFEFB5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5858-8740-4622-9806-0DF5ACD7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897-0E7A-47A8-88D2-9704EAF6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A8FB-535F-4C68-A300-3EA19BAB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B826-8A48-4B75-B28E-F4D88923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A237-D231-4CEA-A92F-072BD0B3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20F9-56CE-4046-B7B5-E0BBA595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DA2A-1788-4860-A546-3D538859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5ABD-8038-4C67-B476-6916BBB4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B88C-E3B7-47C5-A5D5-88297A00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CB859-C11D-40DA-A17C-C069F0CE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42BD-24FF-4057-8C47-F8F0F711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D9A5-F0E1-4C3F-AE45-C8420C07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F41-5E1B-4ABA-AE0D-0A25FBE3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1221-552E-43D3-889D-175A40C1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CDB2B-FF88-4A9B-A802-8078CF2D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651B0-8CDC-4300-8325-4F55E2C0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F0D77-6FA4-4C0D-B6AA-C2566C68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8F28E-F8AB-4D52-A6AF-6F90EAD5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3BD1F-6636-4FB7-AAC9-1C8CFDE1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3662-DA07-4DB0-A335-34682B65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A55D6-B22A-42BC-B660-A79DE58C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A163-C688-49E2-8286-772DBEA6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7763B-BC01-49AF-8E5D-A1AF3BA2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3CB-3457-4F15-9666-0687A419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4DFE9-652C-435D-BC22-2AB23ABB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0493-1B5D-4A35-A0F0-B7EBDD9A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531D-5824-42ED-9015-37074613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5F20-B1DE-4310-BC39-202FF3B7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91D20-BE25-40CB-8982-0DE8F661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9AB10-70F8-4646-83A3-2BD97D87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4EF6-6DAA-4580-848A-C776C2B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AC7F8-3F4D-4B2C-8866-9A29A3A9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18B7-8175-4398-958E-B4C30773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722E-3E33-4D44-9E6F-9A6F1581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6C1-266A-452C-9355-ACA1DF2E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C4B74-A430-487E-B1F1-0C483892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53F7-C878-464B-BA91-D436D84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67B0D-7A1D-4364-B67A-4F776A4C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48016-227B-41A6-BFD8-29535943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421D4-BAB6-47EF-9085-3BEC431A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137BB-904B-44D1-8C72-30623DF7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2299-440F-49B3-8433-FFD923FC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476A-6656-4537-A673-A118FD89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A7DDC-AF5B-479F-A44F-A46F0C51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46CD1-E4BC-4851-9056-2C6B7C96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D01-7701-4FA5-A00B-9AABE390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7286D-573C-4B21-917B-17CF9D27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2D550-DCF3-4420-8ECF-32B6268B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8CCF4-9F2E-4ED1-8273-B48C23D9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0698B-A87B-4091-A27A-3594A653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239B2-F2CD-4C4E-B2CA-7912130C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D03C-1A2E-4589-98D0-8524615E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34CEC-A9B7-4C7F-9D6B-5F8B87FA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B19DF-EC3B-48E5-8058-5572622A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7E979-65DA-4E59-AE6F-EF7FD1C8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1A45-D2BE-42EF-B849-C9A0526C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769-9B31-4029-BC99-5987B007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E97FB-6CFC-4027-BDE1-219B593A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4E88-08DB-47EC-B69B-6002CA99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4A64A-55B5-4137-888F-FEA4740B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BE3B-5B0A-4683-BC83-27289CE9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6BE7-D160-431A-834E-7E00AAB1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6AA-1237-44B7-A680-E0E7FF28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1D37-11B0-4170-83A0-5BCF88DFA6C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EDB4-7DD8-48AC-BED3-699B614328D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A1E5-FF72-422A-B1B0-22ABC9696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3278-5643-44A7-9DA4-1292FA6FDA9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DB37-8B4C-4CB1-913D-9580935D00F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6948-AC9A-4E03-B5E3-B26CE9090C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0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8308-6DFB-4226-B37B-953FC2FFB1A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199280" cy="590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РУССКИЙ  ЯЗЫК 2 КЛАСС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Тема урока : 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«Однокоренные слова.</a:t>
            </a:r>
            <a:br>
              <a:rPr sz="4000"/>
            </a:b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Корень слова.»</a:t>
            </a:r>
            <a:br>
              <a:rPr sz="72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 rot="10800000">
            <a:off x="1835280" y="623736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Правил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32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Чтобы найти в слове 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корень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,   нужно сравнить несколько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родственных слов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по смыслу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выделить в них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общую часть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4"/>
          <p:cNvSpPr txBox="1"/>
          <p:nvPr/>
        </p:nvSpPr>
        <p:spPr>
          <a:xfrm>
            <a:off x="826920" y="1916280"/>
            <a:ext cx="72741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d0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3e0c2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719928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6600"/>
                </a:solidFill>
                <a:latin typeface="Arial"/>
              </a:rPr>
              <a:t>оса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34920" y="2565360"/>
            <a:ext cx="525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к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6600"/>
                </a:solidFill>
                <a:latin typeface="Verdana"/>
              </a:rPr>
              <a:t>осиный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ча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7693200" cy="30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читься находить однокоренные слова, выделять корень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077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синка, подосиновик, осиновый, осинни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7174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64000" y="5373360"/>
            <a:ext cx="5580000" cy="148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досинов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324160" cy="1105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 rot="20246400">
            <a:off x="971280" y="270828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рожит как осиновый лист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 rot="2368200">
            <a:off x="4500720" y="3213000"/>
            <a:ext cx="2171520" cy="912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"/>
          <p:cNvPicPr/>
          <p:nvPr/>
        </p:nvPicPr>
        <p:blipFill>
          <a:blip r:embed="rId4"/>
          <a:stretch/>
        </p:blipFill>
        <p:spPr>
          <a:xfrm rot="2397000">
            <a:off x="2627280" y="3715920"/>
            <a:ext cx="1104840" cy="2324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5"/>
          <a:stretch/>
        </p:blipFill>
        <p:spPr>
          <a:xfrm rot="20541600">
            <a:off x="6588000" y="3357360"/>
            <a:ext cx="2324160" cy="1104840"/>
          </a:xfrm>
          <a:prstGeom prst="rect">
            <a:avLst/>
          </a:prstGeom>
          <a:ln w="0">
            <a:noFill/>
          </a:ln>
        </p:spPr>
      </p:pic>
      <p:sp>
        <p:nvSpPr>
          <p:cNvPr id="361" name="WordArt 9"/>
          <p:cNvSpPr txBox="1"/>
          <p:nvPr/>
        </p:nvSpPr>
        <p:spPr>
          <a:xfrm>
            <a:off x="1763640" y="5229360"/>
            <a:ext cx="554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силь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126800" y="479160"/>
            <a:ext cx="7413480" cy="20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–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осинка, подосиновик, осиновый, осинник.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8435880" cy="30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4" name="Picture 4" descr="image869"/>
          <p:cNvPicPr/>
          <p:nvPr/>
        </p:nvPicPr>
        <p:blipFill>
          <a:blip r:embed="rId1"/>
          <a:stretch/>
        </p:blipFill>
        <p:spPr>
          <a:xfrm>
            <a:off x="3851280" y="3213000"/>
            <a:ext cx="136836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image869"/>
          <p:cNvPicPr/>
          <p:nvPr/>
        </p:nvPicPr>
        <p:blipFill>
          <a:blip r:embed="rId2"/>
          <a:stretch/>
        </p:blipFill>
        <p:spPr>
          <a:xfrm>
            <a:off x="6516720" y="3429000"/>
            <a:ext cx="1440000" cy="2736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image869"/>
          <p:cNvPicPr/>
          <p:nvPr/>
        </p:nvPicPr>
        <p:blipFill>
          <a:blip r:embed="rId3"/>
          <a:stretch/>
        </p:blipFill>
        <p:spPr>
          <a:xfrm>
            <a:off x="1258920" y="3789360"/>
            <a:ext cx="144144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ка, под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ик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овый,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ин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ник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8" name="Picture 4" descr="image869"/>
          <p:cNvPicPr/>
          <p:nvPr/>
        </p:nvPicPr>
        <p:blipFill>
          <a:blip r:embed="rId1"/>
          <a:stretch/>
        </p:blipFill>
        <p:spPr>
          <a:xfrm>
            <a:off x="5292720" y="3860640"/>
            <a:ext cx="1366920" cy="26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8:47:16Z</dcterms:created>
  <dc:creator>shsv</dc:creator>
  <dc:description/>
  <dc:language>en-US</dc:language>
  <cp:lastModifiedBy>1</cp:lastModifiedBy>
  <dcterms:modified xsi:type="dcterms:W3CDTF">2013-02-10T11:18:05Z</dcterms:modified>
  <cp:revision>19</cp:revision>
  <dc:subject/>
  <dc:title>Однокоренные слова. Корень слова.</dc:title>
</cp:coreProperties>
</file>