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727-7E4A-4F73-8079-A9A299A2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B06-FDA3-4EA7-80E3-475A493E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3F3-DB4E-490C-99A0-E9ED56CF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16B-C43C-4871-8A6E-6CA83A61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1A02-FAC0-4E42-98A1-B178D1E3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CD30-99C0-46D3-A5FA-5ED90290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165E-9B65-4D9E-9F5C-32A8F0DB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641D-4296-4528-9026-2ADBC7CE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F143-9D27-44D8-9B13-838A744E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643A-F91F-40DF-B805-E9030C84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86A6-A45D-4BA3-A50B-E027DBDB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D32-F0CF-49A4-99FB-5C37FE5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EB31-DB60-4B3C-B771-C3794903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7B0A-1725-4459-862E-A3A042F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8D48-C261-4E56-879D-4E4E833C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7039-2425-4547-A153-143CFE6F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02F3-96D0-40C8-B117-9ADA314F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0985-6254-436F-AA9A-ECEA3628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0FA1-07C4-45D5-AA50-4A85AF93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E940-D5DA-4464-ABDE-05C41BFF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805E-61B5-4106-81D4-5C88D709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1D22-3964-4C4A-884D-994DBAD7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B8A-083B-486A-BAAB-B7BDF1D2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B17B-3E90-41E8-BFDD-A9923509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1F01-A731-4BEB-974A-9B7F8AF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DD06-B272-4E1E-87FA-D22BD3D4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FC64-B13E-4540-AF14-26F6199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7789-3DD7-4EAD-9CEE-CE49374B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28D0F-29EF-43A0-8B2C-F4DF2425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8E93-7D4B-4F39-9D28-0C75DC5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457D-13DA-4E98-9270-7DA5338E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AE590-05DF-45E2-B400-DB35AC5C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B505-50BD-48EC-A94D-988EC7BD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BE4-6398-4472-883E-0655F242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FDAAE-1A5D-480A-A89E-CE11486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7FC1D-FB58-4BDB-A81B-4D65060F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529B-35D8-4544-8CC0-4DAF1F06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08000-505B-4C5E-B095-1F558BB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9BA09-4AF9-4473-A67A-4C8769B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D1777-0A7C-48DB-91C6-2572EEA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D2FE-9E65-4CE1-A89B-2BEA853E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5487-8AEF-48E4-A4E3-3D1ECC93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430B-5806-4A41-A1F9-444A027A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62C70-B61E-4FA8-8257-9E0590CD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222-939C-4D5E-92B0-23024705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BC180-F7AC-454E-892E-0545E6DA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A17D6-C955-4219-A264-DC8D214E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5588E-5239-43F5-976D-5C61CC8B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7875-33B1-49F4-AA31-F53620E6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EEA5-EFB9-49E3-AB9C-454F2DED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0DD79-A50A-4906-829B-CBBEC64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DC08-675C-4222-98CD-F0DD76D7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21EEA-2BA0-48E0-8DA9-9A27E3C3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445B-ECA4-4515-96D0-FA53EF6B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921B-CD62-44A8-8842-23812786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D43-759D-43CC-86CE-52B52067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1B616-18C9-4144-8A2F-90D8063D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26DFF-9222-4BDF-81F7-4A9F6701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B7185-8D42-41AC-B0E4-DD770DA6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CD20-79C9-4E26-BFCE-E9DD08E7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7ACBE-0B40-4676-8D23-A76E2412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6C611-E3A2-472B-A997-A16FB61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70CCA-AABF-4AEE-9D45-0B32336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992AB-D1F1-4A95-9585-59C82C3B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15FCF-C5CD-48F2-B9B2-B586459F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AD1E5-807B-4B2A-8539-2B6666DD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287-4BA4-425E-B703-80BBCF1D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8EFA0-3264-4B56-A997-EDC16194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6B0DE-14F3-4FD6-99FB-BABC1A7A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EB605-F47A-4D76-860D-D9D4E038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205EB-64D8-4FCD-B8CD-28DC09BF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2E104-47C6-43BB-B447-E242492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9E2CD-9A45-4313-B0C7-A387856E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2E017-B34E-4CD2-8964-24628623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00AF2-C6B4-4279-B133-8E5A2984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1F459-A315-49F9-9FEB-06DB34ED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D87DE-E260-4881-8400-1768059E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FDE-2D9A-4F86-8C14-A0BA9981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221A-362F-4E0D-87EB-3298E5ED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54966-4038-4678-BABA-52ABDF8A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17979-62E7-4A1C-ADDE-F4CE6535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9486-1CD5-4436-B26B-A0873C5C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0AE3E-284E-464A-9FFD-C8501BB8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144-CA59-4D76-B12E-137BD0B8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6E62-CB5B-4633-AF0A-3DF41A31DE6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67B8-B002-4457-B415-BC7A5E2C95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C8F-7BBE-446D-A1AA-F5D778E254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C1EC-D724-444C-A69C-87902A92B69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9088-5F52-461F-8725-F303B8E1379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1781-1EB4-4BAD-987B-6383ED0454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A979-F52C-47D1-A00C-EFCEF85E621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19928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РУССКИЙ  ЯЗЫК 2 КЛАСС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Тема урока : 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«Однокоренные слова.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Корень слова.»</a:t>
            </a:r>
            <a:br>
              <a:rPr sz="72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 rot="10800000">
            <a:off x="1835280" y="623736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авил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32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Чтобы найти в слове 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корень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   нужно сравнить несколько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родственных сло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по смыслу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выделить в них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общую часть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>
            <a:off x="826920" y="1916280"/>
            <a:ext cx="72741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d0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719928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00"/>
                </a:solidFill>
                <a:latin typeface="Arial"/>
              </a:rPr>
              <a:t>оса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34920" y="2565360"/>
            <a:ext cx="525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к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ый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7693200" cy="30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читься находить однокоренные слова, выделять корен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077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синка, подосиновик, осиновый, осинн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7174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64000" y="5373360"/>
            <a:ext cx="5580000" cy="148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досинов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324160" cy="1105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 rot="20246400">
            <a:off x="971280" y="270828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рожит как осиновый лист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 rot="2368200">
            <a:off x="4500720" y="3213000"/>
            <a:ext cx="2171520" cy="912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4"/>
          <a:stretch/>
        </p:blipFill>
        <p:spPr>
          <a:xfrm rot="2397000">
            <a:off x="2627280" y="3715920"/>
            <a:ext cx="1104840" cy="2324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5"/>
          <a:stretch/>
        </p:blipFill>
        <p:spPr>
          <a:xfrm rot="20541600">
            <a:off x="6588000" y="335736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61" name="WordArt 9"/>
          <p:cNvSpPr txBox="1"/>
          <p:nvPr/>
        </p:nvSpPr>
        <p:spPr>
          <a:xfrm>
            <a:off x="1763640" y="5229360"/>
            <a:ext cx="554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силь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126800" y="479160"/>
            <a:ext cx="741348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осинка, подосиновик, осиновый, осинник.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3588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4" name="Picture 4" descr="image869"/>
          <p:cNvPicPr/>
          <p:nvPr/>
        </p:nvPicPr>
        <p:blipFill>
          <a:blip r:embed="rId1"/>
          <a:stretch/>
        </p:blipFill>
        <p:spPr>
          <a:xfrm>
            <a:off x="3851280" y="3213000"/>
            <a:ext cx="136836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image869"/>
          <p:cNvPicPr/>
          <p:nvPr/>
        </p:nvPicPr>
        <p:blipFill>
          <a:blip r:embed="rId2"/>
          <a:stretch/>
        </p:blipFill>
        <p:spPr>
          <a:xfrm>
            <a:off x="6516720" y="3429000"/>
            <a:ext cx="1440000" cy="2736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image869"/>
          <p:cNvPicPr/>
          <p:nvPr/>
        </p:nvPicPr>
        <p:blipFill>
          <a:blip r:embed="rId3"/>
          <a:stretch/>
        </p:blipFill>
        <p:spPr>
          <a:xfrm>
            <a:off x="1258920" y="3789360"/>
            <a:ext cx="144144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ка, под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ик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ый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ник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8" name="Picture 4" descr="image869"/>
          <p:cNvPicPr/>
          <p:nvPr/>
        </p:nvPicPr>
        <p:blipFill>
          <a:blip r:embed="rId1"/>
          <a:stretch/>
        </p:blipFill>
        <p:spPr>
          <a:xfrm>
            <a:off x="5292720" y="3860640"/>
            <a:ext cx="136692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47:16Z</dcterms:created>
  <dc:creator>shsv</dc:creator>
  <dc:description/>
  <dc:language>en-US</dc:language>
  <cp:lastModifiedBy>1</cp:lastModifiedBy>
  <dcterms:modified xsi:type="dcterms:W3CDTF">2013-02-10T11:18:05Z</dcterms:modified>
  <cp:revision>19</cp:revision>
  <dc:subject/>
  <dc:title>Однокоренные слова. Корень слова.</dc:title>
</cp:coreProperties>
</file>