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4CB-F521-4D4B-BB18-441FEB68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96C-80EE-435B-AFEC-28E9CCF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DD2-F842-4810-B868-E9259ADC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442-F404-41FB-BC25-E93E6C3F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6760-573F-40DA-9F9B-CAD6989A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4E28-134F-4CF6-8AF7-0F69AA71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BBB4-7672-4837-9755-789F698D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A2D1-079D-443D-92B0-7E3615DE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78A8-328C-40A1-95B4-01C57ACE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2883-B4C5-44CE-8B7B-7D8F51E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943D-97CC-47D4-B72C-6C378F4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3E0-DD01-4800-B14E-6E077433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0F3D-E98C-4EC8-AA15-C9926BA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7DDA-F120-453D-9214-37EC40EE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6EDB-67DF-4C9F-BAF5-0F7D5244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C1D6-2D19-460D-BA92-56639F9E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68D0-FA60-4C01-86B8-379F9307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0D0DD-E40C-4014-9E6E-F31993B2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2DA8-FB96-4C26-A9C9-E08294E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E981-20F3-4C2F-8D69-DD9E1FFE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396A-ABEC-4603-90F2-4BEA5399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35FF-41E8-4FE0-B2C7-FA77B4BC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F56-A04B-4349-8D50-478A6062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E6E8-C99F-4690-88B1-C856F8DC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B561-8CE4-47A4-A376-453CC58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0214-9C3A-4E9D-9F20-5B87E45C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C5354-C8E5-419C-A48A-AA457C1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5B67-0F4D-4207-AEFB-3309122E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3EFE-5FB6-4ECB-9102-6EEF0B5C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F8B3-7153-4FB3-B5C4-049B9E57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48E8-1A6A-47D1-A47A-FA3149C9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983C-4790-4DD2-8B04-E75117A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0333E-EF40-472B-9D4C-7D8EDD7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153-9CB1-4A7A-A739-70B62D8A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AC7F-4F95-4A2F-AA09-D6D6BD45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0351-D106-4E22-9416-0FCDBD33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2385-98DA-4641-AECA-BEB5242E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F90B-9530-45EA-A4FF-6B18539B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20600-468C-479D-B3E2-593DBFC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6A068-49AF-41DB-B00E-ABE511D4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6BCC-94A4-4A23-B18A-5FF9EDF6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1708-6969-466B-AF0F-634697B7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641D8-4157-4DE8-82A9-2C479BB3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7925-A3D5-467C-8433-9D7E03F8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A79-A19F-4DA2-8E9E-64A42053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A08F5-59F7-46F6-9079-21866B35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54957-A615-4415-BD6E-F8DC297D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2C67F-C4C8-472F-A352-33316453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BB342-53A2-42D0-A96D-C3ED6762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82BAC-79AA-45B0-89FB-96DD025B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B6DC-2CCF-4220-A4CC-F9D8FCC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15EC4-AE11-4F6F-92AF-5E048C01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5628-FC2F-4C0C-A3C1-00741C7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9BA2-3E2A-4A43-B2FF-06C7B0BC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BCF74-6420-4312-AB58-AFF5225D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FAF-B314-4E7C-A833-910EF3C6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A7F2-A8BA-4E8D-9E0A-6D007A61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829FD-50F8-41D3-B929-67C990F4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E5D20-A373-449A-992B-C8B88733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41A1-93F9-4FE3-A629-9FAAB686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1AB6-521A-4F53-A7DC-487BEF18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083C-CF7E-4CD2-819F-D5A9601B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E715A-AE56-485F-8FB7-595C4BA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0203-C514-4358-B135-8F40ACCC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6357-AF97-4B14-9637-A81544D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318C8-DE7E-43DC-B696-FCB881B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116-9349-43F6-ACF2-0401BC2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DAC5A-A112-47D3-A695-0900F09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7076E-3F64-4A52-8188-00C78AA5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E754D-77B7-4465-9635-AE927DB7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73E26-C59C-4AEE-9375-99576BA0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EB218-A6CB-42F0-81BD-05E797C5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44F0-1F2B-42FF-AB89-1A990ECB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03F67-DEC9-49D1-968D-6F33789D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86494-C193-4BCA-B1E3-02923171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A29EF-824E-4297-BE8C-58D8EADD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99E6A-2C0B-4A19-AB03-7D89B693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80D-4FF6-4631-A7C7-B8BAB9ED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23CE8-25D5-41E9-9FE5-AE040A01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BCE50-42EA-4430-A782-26A4B301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31FD8-E44E-492A-A9AD-4A23A837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3227A-45F9-475A-A941-BBB03692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9D523-C416-4188-84ED-BF4152E3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8C4-2056-4AC9-8B42-5B71E8C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0078-0060-4340-B5A9-C76A5791CA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F7C2-A892-4744-A915-11E12D8DD8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CCB3-C104-4E18-B126-426CB51CCE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8982-43EF-4696-883F-54F79678685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F9C1-285A-4EA6-83E2-94F208AECDE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34E1-4FE4-4576-9F1F-2710D865BA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641E-31E0-4C4E-B139-CA9733E074A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19928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РУССКИЙ  ЯЗЫК 2 КЛАСС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Тема урока : 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«Однокоренные слова.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Корень слова.»</a:t>
            </a:r>
            <a:br>
              <a:rPr sz="72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 rot="10800000">
            <a:off x="1835280" y="623736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авил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32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Чтобы найти в слове 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корень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   нужно сравнить несколько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родственных сло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по смыслу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выделить в них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общую часть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>
            <a:off x="826920" y="1916280"/>
            <a:ext cx="72741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d0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719928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00"/>
                </a:solidFill>
                <a:latin typeface="Arial"/>
              </a:rPr>
              <a:t>оса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34920" y="2565360"/>
            <a:ext cx="525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к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ый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7693200" cy="30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читься находить однокоренные слова, выделять корен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077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синка, подосиновик, осиновый, осинн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7174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64000" y="5373360"/>
            <a:ext cx="5580000" cy="148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досинов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324160" cy="1105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 rot="20246400">
            <a:off x="971280" y="270828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рожит как осиновый лист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 rot="2368200">
            <a:off x="4500720" y="3213000"/>
            <a:ext cx="2171520" cy="912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4"/>
          <a:stretch/>
        </p:blipFill>
        <p:spPr>
          <a:xfrm rot="2397000">
            <a:off x="2627280" y="3715920"/>
            <a:ext cx="1104840" cy="2324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5"/>
          <a:stretch/>
        </p:blipFill>
        <p:spPr>
          <a:xfrm rot="20541600">
            <a:off x="6588000" y="335736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61" name="WordArt 9"/>
          <p:cNvSpPr txBox="1"/>
          <p:nvPr/>
        </p:nvSpPr>
        <p:spPr>
          <a:xfrm>
            <a:off x="1763640" y="5229360"/>
            <a:ext cx="554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силь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126800" y="479160"/>
            <a:ext cx="741348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осинка, подосиновик, осиновый, осинник.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3588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4" name="Picture 4" descr="image869"/>
          <p:cNvPicPr/>
          <p:nvPr/>
        </p:nvPicPr>
        <p:blipFill>
          <a:blip r:embed="rId1"/>
          <a:stretch/>
        </p:blipFill>
        <p:spPr>
          <a:xfrm>
            <a:off x="3851280" y="3213000"/>
            <a:ext cx="136836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image869"/>
          <p:cNvPicPr/>
          <p:nvPr/>
        </p:nvPicPr>
        <p:blipFill>
          <a:blip r:embed="rId2"/>
          <a:stretch/>
        </p:blipFill>
        <p:spPr>
          <a:xfrm>
            <a:off x="6516720" y="3429000"/>
            <a:ext cx="1440000" cy="2736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image869"/>
          <p:cNvPicPr/>
          <p:nvPr/>
        </p:nvPicPr>
        <p:blipFill>
          <a:blip r:embed="rId3"/>
          <a:stretch/>
        </p:blipFill>
        <p:spPr>
          <a:xfrm>
            <a:off x="1258920" y="3789360"/>
            <a:ext cx="144144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ка, под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ик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ый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ник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8" name="Picture 4" descr="image869"/>
          <p:cNvPicPr/>
          <p:nvPr/>
        </p:nvPicPr>
        <p:blipFill>
          <a:blip r:embed="rId1"/>
          <a:stretch/>
        </p:blipFill>
        <p:spPr>
          <a:xfrm>
            <a:off x="5292720" y="3860640"/>
            <a:ext cx="136692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47:16Z</dcterms:created>
  <dc:creator>shsv</dc:creator>
  <dc:description/>
  <dc:language>en-US</dc:language>
  <cp:lastModifiedBy>1</cp:lastModifiedBy>
  <dcterms:modified xsi:type="dcterms:W3CDTF">2013-02-10T11:18:05Z</dcterms:modified>
  <cp:revision>19</cp:revision>
  <dc:subject/>
  <dc:title>Однокоренные слова. Корень слова.</dc:title>
</cp:coreProperties>
</file>